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51.xml" ContentType="application/vnd.openxmlformats-officedocument.theme+xml"/>
  <Override PartName="/ppt/theme/theme108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88.xml" ContentType="application/vnd.openxmlformats-officedocument.theme+xml"/>
  <Override PartName="/ppt/theme/theme87.xml" ContentType="application/vnd.openxmlformats-officedocument.theme+xml"/>
  <Override PartName="/ppt/theme/theme106.xml" ContentType="application/vnd.openxmlformats-officedocument.theme+xml"/>
  <Override PartName="/ppt/theme/theme86.xml" ContentType="application/vnd.openxmlformats-officedocument.theme+xml"/>
  <Override PartName="/ppt/theme/theme105.xml" ContentType="application/vnd.openxmlformats-officedocument.theme+xml"/>
  <Override PartName="/ppt/theme/theme85.xml" ContentType="application/vnd.openxmlformats-officedocument.theme+xml"/>
  <Override PartName="/ppt/theme/theme10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0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2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99.xml" ContentType="application/vnd.openxmlformats-officedocument.theme+xml"/>
  <Override PartName="/ppt/theme/theme110.xml" ContentType="application/vnd.openxmlformats-officedocument.theme+xml"/>
  <Override PartName="/ppt/theme/theme65.xml" ContentType="application/vnd.openxmlformats-officedocument.theme+xml"/>
  <Override PartName="/ppt/theme/theme96.xml" ContentType="application/vnd.openxmlformats-officedocument.theme+xml"/>
  <Override PartName="/ppt/theme/theme79.xml" ContentType="application/vnd.openxmlformats-officedocument.theme+xml"/>
  <Override PartName="/ppt/theme/theme89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68.xml" ContentType="application/vnd.openxmlformats-officedocument.theme+xml"/>
  <Override PartName="/ppt/theme/theme67.xml" ContentType="application/vnd.openxmlformats-officedocument.theme+xml"/>
  <Override PartName="/ppt/theme/theme66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</p:sldMasterIdLst>
  <p:notesMasterIdLst>
    <p:notesMasterId r:id="rId111"/>
  </p:notesMasterIdLst>
  <p:sldIdLst>
    <p:sldId id="256" r:id="rId112"/>
    <p:sldId id="257" r:id="rId113"/>
    <p:sldId id="258" r:id="rId114"/>
    <p:sldId id="259" r:id="rId115"/>
    <p:sldId id="260" r:id="rId116"/>
    <p:sldId id="261" r:id="rId117"/>
    <p:sldId id="262" r:id="rId118"/>
    <p:sldId id="263" r:id="rId119"/>
    <p:sldId id="264" r:id="rId120"/>
    <p:sldId id="265" r:id="rId121"/>
    <p:sldId id="266" r:id="rId122"/>
    <p:sldId id="267" r:id="rId123"/>
    <p:sldId id="268" r:id="rId124"/>
    <p:sldId id="269" r:id="rId125"/>
    <p:sldId id="270" r:id="rId126"/>
    <p:sldId id="271" r:id="rId127"/>
    <p:sldId id="272" r:id="rId128"/>
    <p:sldId id="273" r:id="rId129"/>
    <p:sldId id="274" r:id="rId130"/>
    <p:sldId id="275" r:id="rId131"/>
    <p:sldId id="276" r:id="rId132"/>
    <p:sldId id="277" r:id="rId133"/>
    <p:sldId id="278" r:id="rId134"/>
    <p:sldId id="279" r:id="rId135"/>
    <p:sldId id="280" r:id="rId136"/>
    <p:sldId id="281" r:id="rId137"/>
    <p:sldId id="282" r:id="rId138"/>
    <p:sldId id="283" r:id="rId139"/>
    <p:sldId id="284" r:id="rId140"/>
    <p:sldId id="285" r:id="rId141"/>
    <p:sldId id="286" r:id="rId142"/>
    <p:sldId id="287" r:id="rId143"/>
    <p:sldId id="288" r:id="rId144"/>
    <p:sldId id="289" r:id="rId145"/>
    <p:sldId id="290" r:id="rId146"/>
    <p:sldId id="291" r:id="rId147"/>
    <p:sldId id="292" r:id="rId148"/>
    <p:sldId id="293" r:id="rId149"/>
    <p:sldId id="294" r:id="rId150"/>
    <p:sldId id="295" r:id="rId151"/>
    <p:sldId id="296" r:id="rId152"/>
    <p:sldId id="297" r:id="rId153"/>
    <p:sldId id="298" r:id="rId154"/>
    <p:sldId id="299" r:id="rId1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notesMaster" Target="notesMasters/notesMaster1.xml"/><Relationship Id="rId112" Type="http://schemas.openxmlformats.org/officeDocument/2006/relationships/slide" Target="slides/slide1.xml"/><Relationship Id="rId113" Type="http://schemas.openxmlformats.org/officeDocument/2006/relationships/slide" Target="slides/slide2.xml"/><Relationship Id="rId114" Type="http://schemas.openxmlformats.org/officeDocument/2006/relationships/slide" Target="slides/slide3.xml"/><Relationship Id="rId115" Type="http://schemas.openxmlformats.org/officeDocument/2006/relationships/slide" Target="slides/slide4.xml"/><Relationship Id="rId116" Type="http://schemas.openxmlformats.org/officeDocument/2006/relationships/slide" Target="slides/slide5.xml"/><Relationship Id="rId117" Type="http://schemas.openxmlformats.org/officeDocument/2006/relationships/slide" Target="slides/slide6.xml"/><Relationship Id="rId118" Type="http://schemas.openxmlformats.org/officeDocument/2006/relationships/slide" Target="slides/slide7.xml"/><Relationship Id="rId119" Type="http://schemas.openxmlformats.org/officeDocument/2006/relationships/slide" Target="slides/slide8.xml"/><Relationship Id="rId120" Type="http://schemas.openxmlformats.org/officeDocument/2006/relationships/slide" Target="slides/slide9.xml"/><Relationship Id="rId121" Type="http://schemas.openxmlformats.org/officeDocument/2006/relationships/slide" Target="slides/slide10.xml"/><Relationship Id="rId122" Type="http://schemas.openxmlformats.org/officeDocument/2006/relationships/slide" Target="slides/slide11.xml"/><Relationship Id="rId123" Type="http://schemas.openxmlformats.org/officeDocument/2006/relationships/slide" Target="slides/slide12.xml"/><Relationship Id="rId124" Type="http://schemas.openxmlformats.org/officeDocument/2006/relationships/slide" Target="slides/slide13.xml"/><Relationship Id="rId125" Type="http://schemas.openxmlformats.org/officeDocument/2006/relationships/slide" Target="slides/slide14.xml"/><Relationship Id="rId126" Type="http://schemas.openxmlformats.org/officeDocument/2006/relationships/slide" Target="slides/slide15.xml"/><Relationship Id="rId127" Type="http://schemas.openxmlformats.org/officeDocument/2006/relationships/slide" Target="slides/slide16.xml"/><Relationship Id="rId128" Type="http://schemas.openxmlformats.org/officeDocument/2006/relationships/slide" Target="slides/slide17.xml"/><Relationship Id="rId129" Type="http://schemas.openxmlformats.org/officeDocument/2006/relationships/slide" Target="slides/slide18.xml"/><Relationship Id="rId130" Type="http://schemas.openxmlformats.org/officeDocument/2006/relationships/slide" Target="slides/slide19.xml"/><Relationship Id="rId131" Type="http://schemas.openxmlformats.org/officeDocument/2006/relationships/slide" Target="slides/slide20.xml"/><Relationship Id="rId132" Type="http://schemas.openxmlformats.org/officeDocument/2006/relationships/slide" Target="slides/slide21.xml"/><Relationship Id="rId133" Type="http://schemas.openxmlformats.org/officeDocument/2006/relationships/slide" Target="slides/slide22.xml"/><Relationship Id="rId134" Type="http://schemas.openxmlformats.org/officeDocument/2006/relationships/slide" Target="slides/slide23.xml"/><Relationship Id="rId135" Type="http://schemas.openxmlformats.org/officeDocument/2006/relationships/slide" Target="slides/slide24.xml"/><Relationship Id="rId136" Type="http://schemas.openxmlformats.org/officeDocument/2006/relationships/slide" Target="slides/slide25.xml"/><Relationship Id="rId137" Type="http://schemas.openxmlformats.org/officeDocument/2006/relationships/slide" Target="slides/slide26.xml"/><Relationship Id="rId138" Type="http://schemas.openxmlformats.org/officeDocument/2006/relationships/slide" Target="slides/slide27.xml"/><Relationship Id="rId139" Type="http://schemas.openxmlformats.org/officeDocument/2006/relationships/slide" Target="slides/slide28.xml"/><Relationship Id="rId140" Type="http://schemas.openxmlformats.org/officeDocument/2006/relationships/slide" Target="slides/slide29.xml"/><Relationship Id="rId141" Type="http://schemas.openxmlformats.org/officeDocument/2006/relationships/slide" Target="slides/slide30.xml"/><Relationship Id="rId142" Type="http://schemas.openxmlformats.org/officeDocument/2006/relationships/slide" Target="slides/slide31.xml"/><Relationship Id="rId143" Type="http://schemas.openxmlformats.org/officeDocument/2006/relationships/slide" Target="slides/slide32.xml"/><Relationship Id="rId144" Type="http://schemas.openxmlformats.org/officeDocument/2006/relationships/slide" Target="slides/slide33.xml"/><Relationship Id="rId145" Type="http://schemas.openxmlformats.org/officeDocument/2006/relationships/slide" Target="slides/slide34.xml"/><Relationship Id="rId146" Type="http://schemas.openxmlformats.org/officeDocument/2006/relationships/slide" Target="slides/slide35.xml"/><Relationship Id="rId147" Type="http://schemas.openxmlformats.org/officeDocument/2006/relationships/slide" Target="slides/slide36.xml"/><Relationship Id="rId148" Type="http://schemas.openxmlformats.org/officeDocument/2006/relationships/slide" Target="slides/slide37.xml"/><Relationship Id="rId149" Type="http://schemas.openxmlformats.org/officeDocument/2006/relationships/slide" Target="slides/slide38.xml"/><Relationship Id="rId150" Type="http://schemas.openxmlformats.org/officeDocument/2006/relationships/slide" Target="slides/slide39.xml"/><Relationship Id="rId151" Type="http://schemas.openxmlformats.org/officeDocument/2006/relationships/slide" Target="slides/slide40.xml"/><Relationship Id="rId152" Type="http://schemas.openxmlformats.org/officeDocument/2006/relationships/slide" Target="slides/slide41.xml"/><Relationship Id="rId153" Type="http://schemas.openxmlformats.org/officeDocument/2006/relationships/slide" Target="slides/slide42.xml"/><Relationship Id="rId154" Type="http://schemas.openxmlformats.org/officeDocument/2006/relationships/slide" Target="slides/slide43.xml"/><Relationship Id="rId155" Type="http://schemas.openxmlformats.org/officeDocument/2006/relationships/slide" Target="slides/slide44.xml"/><Relationship Id="rId1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PlaceHolder 2"/>
          <p:cNvSpPr>
            <a:spLocks noGrp="1"/>
          </p:cNvSpPr>
          <p:nvPr>
            <p:ph type="dt" idx="2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3ED2-88E7-4E53-9637-6835D889DBB6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5" name="PlaceHolder 5"/>
          <p:cNvSpPr>
            <a:spLocks noGrp="1"/>
          </p:cNvSpPr>
          <p:nvPr>
            <p:ph type="ftr" idx="2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PlaceHolder 6"/>
          <p:cNvSpPr>
            <a:spLocks noGrp="1"/>
          </p:cNvSpPr>
          <p:nvPr>
            <p:ph type="sldNum" idx="2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2CB4-1F0B-466A-AD80-7791384ED3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5CBB5A3-A682-49D8-84BB-CEA5735E4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D514-E756-4110-9C0C-3062C4B713F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CBDD-FC7D-4FAA-B0F8-37BE5ECBF3E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E1B3-1D13-4D26-996A-3F2A466DB80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DF45-BBB7-4B3F-BA0C-77678BF6797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6D0C-DC1C-422A-B77B-FB8883BAFBD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EF9A-BED0-4B9C-803F-862CF3D7902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C35D-40FB-4AD8-969B-5610C3AE98A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7CCB-A923-45CB-8014-BC326CFC2C4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4B25-0077-4A01-95C5-7D741A99F36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CAC121D-2C9B-4B9B-8E5E-CCEFB8C72C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68E51-34C2-4B11-B0E9-C77F62C67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4BB6C-A4EE-4B29-ADE2-6A829FA5559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6BEB2-B3D2-4031-98E8-440E673FE24B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EA48AFC-6DA8-4E90-9A9D-5ACDB22B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3691C13-61A5-46DF-AF9F-9EC6BD27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5BBC8E6-4698-434E-8918-4AEBD97A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EA14906-27E7-4510-B854-70E93D8B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86E3AA7-2E13-4264-97CA-9241CF76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78F95F6-1834-46BD-94A8-222BC0A2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01F70BD-A676-46DF-82C3-DA4D4082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ACA2BCF-85E8-4A06-B3B1-17B16B04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5CCA443-E840-4CB5-9FA1-9E8EBEB9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98AF4CEC-EC46-4D8F-88A2-A214E30FCBD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E1B62-12B3-40E0-B9A8-2113BD71BFF5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0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95EF48B1-88F4-4834-937B-B57235516583}" type="slidenum">
              <a:t>&lt;#&gt;</a:t>
            </a:fld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E76CCD24-BAD5-4F8F-ADE2-A0D6D3AA9DDE}" type="slidenum">
              <a:t>&lt;#&gt;</a:t>
            </a:fld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F043C2A6-E599-4A50-ACCA-5F0C2AEB07DB}" type="slidenum">
              <a:t>&lt;#&gt;</a:t>
            </a:fld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D1E530FD-2CA9-44CF-B3CF-8B946182D282}" type="slidenum">
              <a:t>&lt;#&gt;</a:t>
            </a:fld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55281088-D316-4E1C-9C5C-5EE27D71EBBB}" type="slidenum">
              <a:t>&lt;#&gt;</a:t>
            </a:fld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DA3C2392-4C88-4AE6-A077-6B1BFD28C22A}" type="slidenum">
              <a:t>&lt;#&gt;</a:t>
            </a:fld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0E0B2805-D660-4807-B602-CD985CF65EC9}" type="slidenum">
              <a:t>&lt;#&gt;</a:t>
            </a:fld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1B5BAA34-85CF-45CA-8FE3-003EC5420282}" type="slidenum">
              <a:t>&lt;#&gt;</a:t>
            </a:fld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7A4DC3B7-4CBD-4BD2-9B6D-938C71FFCCD4}" type="slidenum">
              <a:t>&lt;#&gt;</a:t>
            </a:fld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95C2D679-769B-4507-9E8B-B27E677A3D7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A1C7F-1588-432F-A873-825B6070226F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C200827A-8B34-40AC-BB1A-02ABE85B964B}" type="slidenum">
              <a:t>&lt;#&gt;</a:t>
            </a:fld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B1A7109-7A38-4939-8867-EC35071BD563}" type="slidenum">
              <a:t>&lt;#&gt;</a:t>
            </a:fld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448AAF3-78DB-4290-BBF5-3AD0E973D490}" type="slidenum">
              <a:t>&lt;#&gt;</a:t>
            </a:fld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15EEFF6-F305-45E7-BED9-9C497A76B0E9}" type="slidenum">
              <a:t>&lt;#&gt;</a:t>
            </a:fld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671220D-F115-455F-9367-89EAAE4186F9}" type="slidenum">
              <a:t>&lt;#&gt;</a:t>
            </a:fld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5F70870-ED61-454E-BDE5-30E1939EC2B7}" type="slidenum">
              <a:t>&lt;#&gt;</a:t>
            </a:fld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A0AC01A-E94C-46AE-B5F0-E6A02F031EFB}" type="slidenum">
              <a:t>&lt;#&gt;</a:t>
            </a:fld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D09E962-18EC-4F09-AEEB-BDEA5F2F7E86}" type="slidenum">
              <a:t>&lt;#&gt;</a:t>
            </a:fld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91DC9D3-E887-4C35-90B6-A444FD7B6C94}" type="slidenum">
              <a:t>&lt;#&gt;</a:t>
            </a:fld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8DCB9D8-0640-46E4-A050-7EDF32DFC8D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3FB7F-9AEF-404C-92D2-9B25EB562B30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1ED6308-A28D-493A-A7B9-5798C0009B8B}" type="slidenum">
              <a:t>&lt;#&gt;</a:t>
            </a:fld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3B7E629-6981-496E-BF95-3C190E6B6A58}" type="slidenum">
              <a:t>&lt;#&gt;</a:t>
            </a:fld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228D829-25B1-4934-82E9-306C75EC9832}" type="slidenum">
              <a:t>&lt;#&gt;</a:t>
            </a:fld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E86317B-CFF1-4A81-9BD5-2C127A76C2E3}" type="slidenum">
              <a:t>&lt;#&gt;</a:t>
            </a:fld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3372531-E9CD-420C-B420-3AD5D5015923}" type="slidenum">
              <a:t>&lt;#&gt;</a:t>
            </a:fld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77EF959-D31A-49FA-8C4F-0E9AA4DCF447}" type="slidenum">
              <a:t>&lt;#&gt;</a:t>
            </a:fld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60A8EB9-F493-48A5-BD6D-5A7A6BF40843}" type="slidenum">
              <a:t>&lt;#&gt;</a:t>
            </a:fld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BF96D29-5508-41C9-88C7-BB933828A1AA}" type="slidenum">
              <a:t>&lt;#&gt;</a:t>
            </a:fld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D0B74C8-DD7E-4B27-942A-62E59FA9118E}" type="slidenum">
              <a:t>&lt;#&gt;</a:t>
            </a:fld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BA8888D-5638-48E7-A1C9-26AA8EDF58B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12677-8D37-4D7A-BEF9-3C6DE398F7A6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A4C7077-1273-4019-A1A5-EB1E2DA429C0}" type="slidenum">
              <a:t>&lt;#&gt;</a:t>
            </a:fld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B21C03C-62A1-4927-B933-E3953936174A}" type="slidenum">
              <a:t>&lt;#&gt;</a:t>
            </a:fld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E0D7BD2-8E24-48A8-9B49-D9B017401DAF}" type="slidenum">
              <a:t>&lt;#&gt;</a:t>
            </a:fld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9D61D58-9E83-4C1F-94DF-04DA8DEFCF9D}" type="slidenum">
              <a:t>&lt;#&gt;</a:t>
            </a:fld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4DAB3F1-CFEA-405C-B1D0-0F2B41454EA5}" type="slidenum">
              <a:t>&lt;#&gt;</a:t>
            </a:fld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C6E1EF86-2EB6-4150-9073-17FB6361573D}" type="slidenum">
              <a:t>&lt;#&gt;</a:t>
            </a:fld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F25D4870-46AB-4F59-8206-012E89CE3BE9}" type="slidenum">
              <a:t>&lt;#&gt;</a:t>
            </a:fld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93D55826-4B48-4587-A690-6AA2EB79B44E}" type="slidenum">
              <a:t>&lt;#&gt;</a:t>
            </a:fld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1C5CE7FF-0F7F-4BE0-9E94-C5D4A1330FD3}" type="slidenum">
              <a:t>&lt;#&gt;</a:t>
            </a:fld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B4DE5F25-91C3-44C0-B594-CCF0AA95930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26A44-1A82-4FED-9346-920E65272D9B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0F0CA349-CBF7-4754-ACB4-679ABE6B80E6}" type="slidenum">
              <a:t>&lt;#&gt;</a:t>
            </a:fld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2A7078B0-029D-47F6-B05B-8999EE479288}" type="slidenum">
              <a:t>&lt;#&gt;</a:t>
            </a:fld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0B7C39AB-F3AC-461C-B2F0-A5CEDFE0EE41}" type="slidenum">
              <a:t>&lt;#&gt;</a:t>
            </a:fld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770537E7-A215-4DE0-BE17-8EC743494F8D}" type="slidenum">
              <a:t>&lt;#&gt;</a:t>
            </a:fld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8F30EF7C-4CE4-4B81-BD3B-0D78F1F0C5C9}" type="slidenum">
              <a:t>&lt;#&gt;</a:t>
            </a:fld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B7B1D040-0AC6-4A81-8642-0A1ED2D86E82}" type="slidenum">
              <a:t>&lt;#&gt;</a:t>
            </a:fld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89CCE555-4F15-40BA-A7DD-A063E212E538}" type="slidenum">
              <a:t>&lt;#&gt;</a:t>
            </a:fld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E52BC00-49B6-4FB6-8C62-B5D058349874}" type="slidenum">
              <a:t>&lt;#&gt;</a:t>
            </a:fld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C4F96E9-CEEF-4363-8550-1795059361FF}" type="slidenum">
              <a:t>&lt;#&gt;</a:t>
            </a:fld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F340CB4-6A67-4F50-AFE9-3899900CA1D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32ABC-13E1-48D0-A083-92CCF42F4F3D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34D62F0-E530-4787-A059-72011602DC32}" type="slidenum">
              <a:t>&lt;#&gt;</a:t>
            </a:fld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11CFA27-14D7-480B-9E92-AFCB71B9D692}" type="slidenum">
              <a:t>&lt;#&gt;</a:t>
            </a:fld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9FFD8E2-9443-4D37-854B-67920E2BC98A}" type="slidenum">
              <a:t>&lt;#&gt;</a:t>
            </a:fld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753F871-7B12-4926-B87E-51F0F171F4AD}" type="slidenum">
              <a:t>&lt;#&gt;</a:t>
            </a:fld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4178AD5-CBE8-4B10-B942-A15FBF712272}" type="slidenum">
              <a:t>&lt;#&gt;</a:t>
            </a:fld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3475A9F-6C63-4994-9863-2C959F351031}" type="slidenum">
              <a:t>&lt;#&gt;</a:t>
            </a:fld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BBBDC70-71E6-4875-AD53-271076E628ED}" type="slidenum">
              <a:t>&lt;#&gt;</a:t>
            </a:fld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21C91E5-01E2-4A17-86D7-23A3AB95E361}" type="slidenum">
              <a:t>&lt;#&gt;</a:t>
            </a:fld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0CB3CE6-397D-4123-A1D6-1EA5E9B9E4C8}" type="slidenum">
              <a:t>&lt;#&gt;</a:t>
            </a:fld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9732EA5-F2C9-4665-86A7-907E4B7AAC5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DF47A-8906-4A09-B05E-401482948E02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2DB366D-9C6D-4476-ADF2-D7DDB1440177}" type="slidenum">
              <a:t>&lt;#&gt;</a:t>
            </a:fld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8292EE4-27DC-453E-B5A5-D5F307A1936A}" type="slidenum">
              <a:t>&lt;#&gt;</a:t>
            </a:fld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2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FBD2FE2-94D6-43BD-9619-6AFB7C5B383E}" type="slidenum">
              <a:t>&lt;#&gt;</a:t>
            </a:fld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6D862BD-C16D-4EE0-9D3F-DAE423815E01}" type="slidenum">
              <a:t>&lt;#&gt;</a:t>
            </a:fld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1D303AB-EC7C-417E-BC64-55534C4A3E7D}" type="slidenum">
              <a:t>&lt;#&gt;</a:t>
            </a:fld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9431283-AEF6-4393-A0E8-DDAF9DB7954C}" type="slidenum">
              <a:t>&lt;#&gt;</a:t>
            </a:fld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0AD538F-BCB4-4B90-AEFA-B86F5868B505}" type="slidenum">
              <a:t>&lt;#&gt;</a:t>
            </a:fld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D1CC307-C988-4575-AB6A-47D42A4A4700}" type="slidenum">
              <a:t>&lt;#&gt;</a:t>
            </a:fld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CBE04EE-6289-436F-B0E2-F9975AA7F9F2}" type="slidenum">
              <a:t>&lt;#&gt;</a:t>
            </a:fld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91648AE-BDB9-4AF0-A683-7B96EB17A84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F661A-EB29-4CFB-BC31-F60DEE7543B0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933A96D-51DF-48E6-BF72-D65D61F64A9F}" type="slidenum">
              <a:t>&lt;#&gt;</a:t>
            </a:fld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4B7EEC11-EFA6-45F8-B568-2FAAD82812F5}" type="slidenum">
              <a:t>&lt;#&gt;</a:t>
            </a:fld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6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D3140BA3-2159-462B-9174-79CF96885EAC}" type="slidenum">
              <a:t>&lt;#&gt;</a:t>
            </a:fld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6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4D97962E-75D9-4832-BBF8-4AE1A6F2E885}" type="slidenum">
              <a:t>&lt;#&gt;</a:t>
            </a:fld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AE55E14F-03D7-4413-8475-D11A71B839B8}" type="slidenum">
              <a:t>&lt;#&gt;</a:t>
            </a:fld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99F3A833-4617-41BC-A331-8189E96FD06A}" type="slidenum">
              <a:t>&lt;#&gt;</a:t>
            </a:fld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E3016AF1-A344-4563-8B7C-304B8D77073D}" type="slidenum">
              <a:t>&lt;#&gt;</a:t>
            </a:fld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5EB2FF83-C651-48BE-BC0D-908E61AD69E9}" type="slidenum">
              <a:t>&lt;#&gt;</a:t>
            </a:fld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16D6B098-C7B8-49EE-A595-860F185E49D5}" type="slidenum">
              <a:t>&lt;#&gt;</a:t>
            </a:fld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4B4F55DE-6A5A-4B76-9F2A-35A9E454F42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F96436-F8D6-4BF1-90B9-0EF0AC38C1AA}" type="slidenum">
              <a:t>&lt;#&gt;</a:t>
            </a:fld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020B1B63-BDAF-499E-A6DA-3619875F3094}" type="slidenum">
              <a:t>&lt;#&gt;</a:t>
            </a:fld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42BD6492-4254-414C-BB60-ADDF84B4C348}" type="slidenum">
              <a:t>&lt;#&gt;</a:t>
            </a:fld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91042D3A-DD55-4DF3-8A45-9A4CE8200855}" type="slidenum">
              <a:t>&lt;#&gt;</a:t>
            </a:fld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686586E-A58F-445B-8484-3E6097A85E8B}" type="slidenum">
              <a:t>&lt;#&gt;</a:t>
            </a:fld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E96C7AB-8BE1-41A8-9906-33BB39E92EE5}" type="slidenum">
              <a:t>&lt;#&gt;</a:t>
            </a:fld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B75ABDF-C157-4327-B29B-B2427F32E25B}" type="slidenum">
              <a:t>&lt;#&gt;</a:t>
            </a:fld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83D92CD-2B48-49F9-87E5-0295DB295FF8}" type="slidenum">
              <a:t>&lt;#&gt;</a:t>
            </a:fld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7F3239B-EE82-4B07-BE84-C27669DBBF06}" type="slidenum">
              <a:t>&lt;#&gt;</a:t>
            </a:fld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56BC143-D819-46E7-BBFF-5F82D8C81D55}" type="slidenum">
              <a:t>&lt;#&gt;</a:t>
            </a:fld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1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B78655D-7456-4C5A-BB09-52012ADFD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1C2C1-48E9-4615-8938-79F87DBDD9E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19F87D-0E3F-43A5-A52B-984117EF1818}" type="slidenum">
              <a:t>&lt;#&gt;</a:t>
            </a:fld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3D3040A-904E-455A-863B-4EEE3670E7A7}" type="slidenum">
              <a:t>&lt;#&gt;</a:t>
            </a:fld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B43270D-473A-4C4E-AE85-62E39ADBD149}" type="slidenum">
              <a:t>&lt;#&gt;</a:t>
            </a:fld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FE8AAD8-93DD-4902-9E95-2D81DFD4D1E4}" type="slidenum">
              <a:t>&lt;#&gt;</a:t>
            </a:fld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E156B10-3B6F-4BFB-9420-A72FBE2B9DA6}" type="slidenum">
              <a:t>&lt;#&gt;</a:t>
            </a:fld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8A173DF-3C77-4B35-80F9-D78697C98D90}" type="slidenum">
              <a:t>&lt;#&gt;</a:t>
            </a:fld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E8E5D0B-B010-4877-8312-151F9CBCF41A}" type="slidenum">
              <a:t>&lt;#&gt;</a:t>
            </a:fld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34244AD-4D7F-4F3C-B46B-7EAB832C5FDA}" type="slidenum">
              <a:t>&lt;#&gt;</a:t>
            </a:fld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9D57845-6A70-45D8-B7ED-C9ADACCFC23B}" type="slidenum">
              <a:t>&lt;#&gt;</a:t>
            </a:fld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68AC98C-51F9-48AD-8C3D-6FC3403D1C74}" type="slidenum">
              <a:t>&lt;#&gt;</a:t>
            </a:fld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AE92A47-B2A0-4462-994A-3FE196B638E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58EC09-815F-406B-982C-E932FFDB4CD9}" type="slidenum">
              <a:t>&lt;#&gt;</a:t>
            </a:fld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848A528-83E6-4CE0-BD77-C15CA1B168F1}" type="slidenum">
              <a:t>&lt;#&gt;</a:t>
            </a:fld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49D93EC-2B5D-4CCC-A9BD-2AC6E7649562}" type="slidenum">
              <a:t>&lt;#&gt;</a:t>
            </a:fld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D3FB0A6-3269-4460-A305-E415D0EC4118}" type="slidenum">
              <a:t>&lt;#&gt;</a:t>
            </a:fld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3FF1DD5-2690-4388-A2C7-EB366BA01423}" type="slidenum">
              <a:t>&lt;#&gt;</a:t>
            </a:fld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EA7241A-D97E-482B-90F1-D7FD1DF4DEEE}" type="slidenum">
              <a:t>&lt;#&gt;</a:t>
            </a:fld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75EEF3A-C92C-4B84-93E7-8F20A2822CD4}" type="slidenum">
              <a:t>&lt;#&gt;</a:t>
            </a:fld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313988E-E8E4-4C1B-BB55-FA7C78539FF6}" type="slidenum">
              <a:t>&lt;#&gt;</a:t>
            </a:fld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E13F3C00-7757-4E66-AC16-D479C45C9DCF}" type="slidenum">
              <a:t>&lt;#&gt;</a:t>
            </a:fld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293DF715-81C4-42B6-A005-0BC66E4178A5}" type="slidenum">
              <a:t>&lt;#&gt;</a:t>
            </a:fld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7B4B9B95-752B-422D-AABA-E24EF918E70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467E88-8A5B-4C54-9405-C5DADF6C70D0}" type="slidenum">
              <a:t>&lt;#&gt;</a:t>
            </a:fld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D8151B9B-8D7E-4A15-9F85-E007391869AA}" type="slidenum">
              <a:t>&lt;#&gt;</a:t>
            </a:fld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0E45E75C-7C8D-4F6B-998B-23599DBCC02D}" type="slidenum">
              <a:t>&lt;#&gt;</a:t>
            </a:fld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024BC023-9AF1-4656-8AAB-A600B9A6F510}" type="slidenum">
              <a:t>&lt;#&gt;</a:t>
            </a:fld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09D9B567-0B66-40EE-B3E5-CF90C71D7360}" type="slidenum">
              <a:t>&lt;#&gt;</a:t>
            </a:fld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1D304222-103D-419E-BFA8-C60DE63878FD}" type="slidenum">
              <a:t>&lt;#&gt;</a:t>
            </a:fld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6B689E12-99C9-417B-A28A-CD2AB09562E6}" type="slidenum">
              <a:t>&lt;#&gt;</a:t>
            </a:fld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68DF8015-3DC5-4CFD-889B-9B461BE8BC6D}" type="slidenum">
              <a:t>&lt;#&gt;</a:t>
            </a:fld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1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42336502-142D-4262-83E0-68EB33759E16}" type="slidenum">
              <a:t>&lt;#&gt;</a:t>
            </a:fld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DC53FFD3-FE46-4DAF-B87B-7ED2EFD4D39D}" type="slidenum">
              <a:t>&lt;#&gt;</a:t>
            </a:fld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4E47A2EC-E107-4C2E-A00C-3D8E60BD1BB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1511D4-F15F-4B33-9E18-317CD4E056D0}" type="slidenum">
              <a:t>&lt;#&gt;</a:t>
            </a:fld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8E317139-4A29-49A9-B224-93D9C5856333}" type="slidenum">
              <a:t>&lt;#&gt;</a:t>
            </a:fld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406888AC-54C1-45F5-A801-647BC6E52478}" type="slidenum">
              <a:t>&lt;#&gt;</a:t>
            </a:fld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F4E69E5C-5228-44C3-9335-A523E44EB4DB}" type="slidenum">
              <a:t>&lt;#&gt;</a:t>
            </a:fld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F8B07D9E-7536-4A81-A5BF-20015351506E}" type="slidenum">
              <a:t>&lt;#&gt;</a:t>
            </a:fld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DF29E71D-AC86-4082-9EFC-A3ABCF3F7461}" type="slidenum">
              <a:t>&lt;#&gt;</a:t>
            </a:fld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74E701D5-740D-4E89-9212-807E28B2D6C4}" type="slidenum">
              <a:t>&lt;#&gt;</a:t>
            </a:fld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608C11E6-4EB4-412E-BB6D-EBC9A46769F2}" type="slidenum">
              <a:t>&lt;#&gt;</a:t>
            </a:fld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B58A2719-170B-401E-A876-F4B4E5144723}" type="slidenum">
              <a:t>&lt;#&gt;</a:t>
            </a:fld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5946C5F7-D296-4D92-9A54-F354107AC1B0}" type="slidenum">
              <a:t>&lt;#&gt;</a:t>
            </a:fld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C98B64FE-C962-406C-8834-A98509A4DBF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E1C250-D0CE-48EE-B95D-91791E6B72DF}" type="slidenum">
              <a:t>&lt;#&gt;</a:t>
            </a:fld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8C014042-5F56-48F1-8E0F-8C20FE1A7D33}" type="slidenum">
              <a:t>&lt;#&gt;</a:t>
            </a:fld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11DC911C-27F6-4FCE-A685-8D8D28DA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D321E9A8-54F6-4039-B4A7-2A74D71B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EB92316F-8845-41D2-9DD8-48C17E13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4702EA63-0980-4CEF-AF74-1E395F30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9A7B5916-8F44-4F2C-84EE-2708867F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3D257A02-5ED8-4DC9-A959-4CE07F7B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9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159D504A-571B-4975-A289-99620016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D3D911F3-0F74-4248-8A23-0807B25A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9F0ED10A-47F3-43BA-9431-E73B0CF7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836BFE-00A3-4CA0-BA88-66B63ADBA59A}" type="slidenum">
              <a:t>&lt;#&gt;</a:t>
            </a:fld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CC471822-5879-4B83-B57F-FDB3CA3A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A577401E-24AC-43DC-A2B2-530FDDE1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9D331718-2DB0-44BD-B010-E9F963A7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1B18026-BFC0-4931-8435-603F44EE21BF}" type="slidenum">
              <a:t>&lt;#&gt;</a:t>
            </a:fld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C5EF362-FC9D-4FBF-8E87-BCCF95438113}" type="slidenum">
              <a:t>&lt;#&gt;</a:t>
            </a:fld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5B143E8-43BB-496F-8B3B-45A066D710B6}" type="slidenum">
              <a:t>&lt;#&gt;</a:t>
            </a:fld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FA3F2FC-4220-4EF0-AE02-E201BE03A5AF}" type="slidenum">
              <a:t>&lt;#&gt;</a:t>
            </a:fld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35BDAD6-B136-4CAB-90DB-E65A8CD690A1}" type="slidenum">
              <a:t>&lt;#&gt;</a:t>
            </a:fld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07C0568-E17B-4709-8B7F-DFB74DAAAA97}" type="slidenum">
              <a:t>&lt;#&gt;</a:t>
            </a:fld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D231845-5F57-4C76-9B36-459C7C6FCEB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F53BC9-6E60-48AF-8BBC-A3F2A1CD0500}" type="slidenum">
              <a:t>&lt;#&gt;</a:t>
            </a:fld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C5C71DA-E094-4E66-8C78-1A510705158F}" type="slidenum">
              <a:t>&lt;#&gt;</a:t>
            </a:fld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74B54E3-7E3B-4E60-A5C1-ACF5F608EEAF}" type="slidenum">
              <a:t>&lt;#&gt;</a:t>
            </a:fld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FDFD2BE-B2A0-4882-9735-1AE310C85712}" type="slidenum">
              <a:t>&lt;#&gt;</a:t>
            </a:fld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1C8A698-B2FC-44E5-AF4F-445251696FE0}" type="slidenum">
              <a:t>&lt;#&gt;</a:t>
            </a:fld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4FE0D7F-1857-41AA-BFCA-D5B9A305E2EB}" type="slidenum">
              <a:t>&lt;#&gt;</a:t>
            </a:fld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B5A154AE-DE8E-444F-9AA6-A471C7B3747C}" type="slidenum">
              <a:t>&lt;#&gt;</a:t>
            </a:fld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51985845-A6D8-483A-9191-896EFD41E304}" type="slidenum">
              <a:t>&lt;#&gt;</a:t>
            </a:fld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1F1373E3-9D9B-4929-B240-979AA786FB36}" type="slidenum">
              <a:t>&lt;#&gt;</a:t>
            </a:fld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752DF79C-DAE2-4D17-A1D3-C9BC0E7ADC8D}" type="slidenum">
              <a:t>&lt;#&gt;</a:t>
            </a:fld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1DA971A5-8716-440A-8993-EA0673A2694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AF80E9-29CB-466A-9FBC-EB40E2751DA8}" type="slidenum">
              <a:t>&lt;#&gt;</a:t>
            </a:fld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A5C7590A-879B-4746-9D4B-E55163EDA4F7}" type="slidenum">
              <a:t>&lt;#&gt;</a:t>
            </a:fld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A0FDF9EA-DA5B-4563-9BE6-BF9881AE20CF}" type="slidenum">
              <a:t>&lt;#&gt;</a:t>
            </a:fld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681C9A3B-F77A-4C6B-9A53-C79672065563}" type="slidenum">
              <a:t>&lt;#&gt;</a:t>
            </a:fld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6A0D8308-B2E0-462C-87BB-0BC4B3A080A9}" type="slidenum">
              <a:t>&lt;#&gt;</a:t>
            </a:fld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DF9A7041-703E-4061-BD90-35DA6D96C9F8}" type="slidenum">
              <a:t>&lt;#&gt;</a:t>
            </a:fld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AA693C92-5813-43E3-BCAA-6D394B561DCF}" type="slidenum">
              <a:t>&lt;#&gt;</a:t>
            </a:fld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2EE8E82B-7770-4583-B6E3-34D71C439579}" type="slidenum">
              <a:t>&lt;#&gt;</a:t>
            </a:fld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2EF14AFF-4A25-4B58-A77D-AA67FED78D36}" type="slidenum">
              <a:t>&lt;#&gt;</a:t>
            </a:fld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1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0040F7D6-BA47-4B6D-B93B-F62FD4CB6FDD}" type="slidenum">
              <a:t>&lt;#&gt;</a:t>
            </a:fld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F776C3F5-39D2-4890-B514-46537DEEED3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8D9087-CD58-4DFC-969A-A6861D7E288B}" type="slidenum">
              <a:t>&lt;#&gt;</a:t>
            </a:fld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F7FD3C60-AE37-45A2-843A-D5CA3C5C85D3}" type="slidenum">
              <a:t>&lt;#&gt;</a:t>
            </a:fld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F9EE5812-F554-46BE-AE1A-A13B4E53CDB4}" type="slidenum">
              <a:t>&lt;#&gt;</a:t>
            </a:fld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1CEBDA76-B6BC-4362-8EB0-1308B7F6759E}" type="slidenum">
              <a:t>&lt;#&gt;</a:t>
            </a:fld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1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46E2AD94-43FB-4A3B-8822-F1271463CBC3}" type="slidenum">
              <a:t>&lt;#&gt;</a:t>
            </a:fld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FCF884A2-8970-43B8-9A52-1655A0FC8113}" type="slidenum">
              <a:t>&lt;#&gt;</a:t>
            </a:fld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A4E4011E-B5F2-4AB7-B896-0EA9C1A2BBBF}" type="slidenum">
              <a:t>&lt;#&gt;</a:t>
            </a:fld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91CB5F02-BF2F-46DF-B1EF-31BC3A1B53AD}" type="slidenum">
              <a:t>&lt;#&gt;</a:t>
            </a:fld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7ABACE35-6326-41E6-8500-C95C596779DE}" type="slidenum">
              <a:t>&lt;#&gt;</a:t>
            </a:fld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B6C73736-49C9-4644-8468-0A8FD694EEAB}" type="slidenum">
              <a:t>&lt;#&gt;</a:t>
            </a:fld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59C7409-52FA-495F-8677-1F3408F0877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693332-CC7D-4059-BC83-FAAEE5E7C156}" type="slidenum">
              <a:t>&lt;#&gt;</a:t>
            </a:fld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FD536B1-0B6E-4306-BB63-5B6F602A9307}" type="slidenum">
              <a:t>&lt;#&gt;</a:t>
            </a:fld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A66A397-E5AC-43A8-AB19-804519E3F575}" type="slidenum">
              <a:t>&lt;#&gt;</a:t>
            </a:fld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732A2AF-D1B7-4923-8104-1A3CC4EDFE44}" type="slidenum">
              <a:t>&lt;#&gt;</a:t>
            </a:fld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22BE1E4-40F8-45D5-907E-B41F4E1E751F}" type="slidenum">
              <a:t>&lt;#&gt;</a:t>
            </a:fld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48CBCED-8049-410F-9E58-B3C38F143E4F}" type="slidenum">
              <a:t>&lt;#&gt;</a:t>
            </a:fld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A27E08D-656B-4FA8-B21C-9FDCB8A0A6D3}" type="slidenum">
              <a:t>&lt;#&gt;</a:t>
            </a:fld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832AD4F-E601-4750-9127-89FAFDDFF890}" type="slidenum">
              <a:t>&lt;#&gt;</a:t>
            </a:fld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C81B0B0-88D3-4BDE-91D6-1875EF76E529}" type="slidenum">
              <a:t>&lt;#&gt;</a:t>
            </a:fld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1EBBD6F-2476-49CB-9F70-E7310E48E1CB}" type="slidenum">
              <a:t>&lt;#&gt;</a:t>
            </a:fld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B4210BB-37E0-4EBD-BE5F-85C9A1FEF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7820F-479E-4A3F-ADF0-E88D27E63E1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9536A6-90D7-4241-BC7C-7FA446680D5C}" type="slidenum">
              <a:t>&lt;#&gt;</a:t>
            </a:fld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9E68F4F-4013-424C-8D4C-97A060624D16}" type="slidenum">
              <a:t>&lt;#&gt;</a:t>
            </a:fld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E546598E-BD9D-42AD-9232-E07FB16B8C88}" type="slidenum">
              <a:t>&lt;#&gt;</a:t>
            </a:fld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9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BA1F1D32-AE67-4D54-AD89-0E210B7E94CA}" type="slidenum">
              <a:t>&lt;#&gt;</a:t>
            </a:fld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292E248B-0A76-4EED-A478-07FBAFA5A426}" type="slidenum">
              <a:t>&lt;#&gt;</a:t>
            </a:fld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67C00A93-21D8-48FC-9163-44E1231763B3}" type="slidenum">
              <a:t>&lt;#&gt;</a:t>
            </a:fld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7E544E32-41BF-4B36-80D5-8D05DC8861E2}" type="slidenum">
              <a:t>&lt;#&gt;</a:t>
            </a:fld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863F0D70-0C0E-4164-BF09-5BFE9EEE0CB6}" type="slidenum">
              <a:t>&lt;#&gt;</a:t>
            </a:fld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086E9761-4D38-4287-AC59-D5908725CA7F}" type="slidenum">
              <a:t>&lt;#&gt;</a:t>
            </a:fld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159BD457-82AA-45BA-802B-A661360FB6C3}" type="slidenum">
              <a:t>&lt;#&gt;</a:t>
            </a:fld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C386A6F8-9338-4AC8-B130-B707286F09D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04EFA-37F0-4118-82CD-E2BB82FC1678}" type="slidenum">
              <a:t>&lt;#&gt;</a:t>
            </a:fld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1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CBCC493C-D979-4119-8FF6-489E3DD30FB6}" type="slidenum">
              <a:t>&lt;#&gt;</a:t>
            </a:fld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5E4D249D-79F4-4898-AFF2-6FA1878C81B7}" type="slidenum">
              <a:t>&lt;#&gt;</a:t>
            </a:fld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B1E80957-0833-4D9D-94E2-4C0B9BB18997}" type="slidenum">
              <a:t>&lt;#&gt;</a:t>
            </a:fld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51ADFF38-E308-4978-AF36-54E30A513982}" type="slidenum">
              <a:t>&lt;#&gt;</a:t>
            </a:fld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3D7D6E45-CF1A-44D5-9E64-85F8770991B9}" type="slidenum">
              <a:t>&lt;#&gt;</a:t>
            </a:fld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91812930-F6FE-44C1-B8C0-F6D0191437F5}" type="slidenum">
              <a:t>&lt;#&gt;</a:t>
            </a:fld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8EE9F38-8891-4609-A34B-1656EC981C64}" type="slidenum">
              <a:t>&lt;#&gt;</a:t>
            </a:fld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BFC305B-E8FE-41E0-A89C-6200863D47B7}" type="slidenum">
              <a:t>&lt;#&gt;</a:t>
            </a:fld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02F3B50F-69DD-48C2-B755-2848765B2201}" type="slidenum">
              <a:t>&lt;#&gt;</a:t>
            </a:fld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57D486C-2EA3-464D-B0A9-D164D1B0D84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BDC7F-8345-48AB-A4DB-40CB6A39E74A}" type="slidenum">
              <a:t>&lt;#&gt;</a:t>
            </a:fld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14C7027E-E783-4739-A5D7-4FF628BCDD66}" type="slidenum">
              <a:t>&lt;#&gt;</a:t>
            </a:fld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956CF3B1-78D0-4495-91D6-AFBD15D9F242}" type="slidenum">
              <a:t>&lt;#&gt;</a:t>
            </a:fld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988EB3E1-95EC-4486-B235-850E64D6B57B}" type="slidenum">
              <a:t>&lt;#&gt;</a:t>
            </a:fld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31F5932-C9E4-4F2D-9F9D-3A4E41885CD7}" type="slidenum">
              <a:t>&lt;#&gt;</a:t>
            </a:fld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1A0E5E24-C4F7-4F72-A299-796219122BB0}" type="slidenum">
              <a:t>&lt;#&gt;</a:t>
            </a:fld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AAEA6E1-0375-4EDA-8122-D0A5127E90B2}" type="slidenum">
              <a:t>&lt;#&gt;</a:t>
            </a:fld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8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51D69FA-FA77-45CD-B86C-20D72CC44EC2}" type="slidenum">
              <a:t>&lt;#&gt;</a:t>
            </a:fld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8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4FF3027-CF2B-48B6-979E-52D4181EFB9D}" type="slidenum">
              <a:t>&lt;#&gt;</a:t>
            </a:fld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E158A4A-AF43-4933-9080-500F503B91A1}" type="slidenum">
              <a:t>&lt;#&gt;</a:t>
            </a:fld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8FA2725-19AD-490C-9A7A-A09D0F4FD6A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AE285-5C46-4728-A96C-B6E116EDC51D}" type="slidenum">
              <a:t>&lt;#&gt;</a:t>
            </a:fld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F965171-8615-4B90-95AB-5DD1D7A62E6B}" type="slidenum">
              <a:t>&lt;#&gt;</a:t>
            </a:fld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1BAE23A-D0AE-45E4-8F3E-8BA82EA7D811}" type="slidenum">
              <a:t>&lt;#&gt;</a:t>
            </a:fld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E950C1D-5A42-46FF-A42C-AA28ADA89367}" type="slidenum">
              <a:t>&lt;#&gt;</a:t>
            </a:fld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9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150B699-C6D6-4C21-92CC-D7B956B3EF49}" type="slidenum">
              <a:t>&lt;#&gt;</a:t>
            </a:fld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2D40A47-00C9-4342-857C-8C5558B7EA66}" type="slidenum">
              <a:t>&lt;#&gt;</a:t>
            </a:fld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DA70A11-FA20-4EFC-9900-AA7EBF0AFD09}" type="slidenum">
              <a:t>&lt;#&gt;</a:t>
            </a:fld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DFBB902-452B-4C31-8B98-EA2D9CF8386B}" type="slidenum">
              <a:t>&lt;#&gt;</a:t>
            </a:fld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E72B1ACF-BE6A-4041-A0D2-D03E719B9B27}" type="slidenum">
              <a:t>&lt;#&gt;</a:t>
            </a:fld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AB13B598-6C36-46BC-BD22-61B187A71FEF}" type="slidenum">
              <a:t>&lt;#&gt;</a:t>
            </a:fld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A1B9AD10-1866-4050-A7CA-C149ED9E337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F6E99-DB27-4AF2-BF2C-3474B17D2C44}" type="slidenum">
              <a:t>&lt;#&gt;</a:t>
            </a:fld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69DF9D59-F4CE-461B-889F-042DB83CA4B7}" type="slidenum">
              <a:t>&lt;#&gt;</a:t>
            </a:fld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8A7CB177-C020-44EA-94D0-7DEB0C9DB6C5}" type="slidenum">
              <a:t>&lt;#&gt;</a:t>
            </a:fld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F7513751-F9B0-4A91-A3AE-FC836E1067D8}" type="slidenum">
              <a:t>&lt;#&gt;</a:t>
            </a:fld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E48CFBFE-000D-4C5B-955A-EAED965B9261}" type="slidenum">
              <a:t>&lt;#&gt;</a:t>
            </a:fld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E198A447-F69E-4D6B-9472-7E712A162BB9}" type="slidenum">
              <a:t>&lt;#&gt;</a:t>
            </a:fld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0C09D4FC-337F-45C6-83ED-80231365E943}" type="slidenum">
              <a:t>&lt;#&gt;</a:t>
            </a:fld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F4F7BD93-C1C1-406A-9662-BB5B30012DD0}" type="slidenum">
              <a:t>&lt;#&gt;</a:t>
            </a:fld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53624A44-2080-42EF-A594-8B81CB6E0DD5}" type="slidenum">
              <a:t>&lt;#&gt;</a:t>
            </a:fld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D2E69C70-034B-4E40-A224-C06611EA19F6}" type="slidenum">
              <a:t>&lt;#&gt;</a:t>
            </a:fld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FBB7DC62-7B9E-4918-B9FD-2720D7F0EB2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15E38-078E-4A85-97D8-558187E41500}" type="slidenum">
              <a:t>&lt;#&gt;</a:t>
            </a:fld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25F26C79-AF70-4923-AC45-5E0D66B74FB7}" type="slidenum">
              <a:t>&lt;#&gt;</a:t>
            </a:fld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65376B28-13B4-48D9-AD9D-7DF82869FE4D}" type="slidenum">
              <a:t>&lt;#&gt;</a:t>
            </a:fld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BBB3B8ED-07AA-4C93-A3B9-0CF405DA9F2C}" type="slidenum">
              <a:t>&lt;#&gt;</a:t>
            </a:fld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CCD072A8-DBB8-42F9-AD20-C6AB03B9D8FF}" type="slidenum">
              <a:t>&lt;#&gt;</a:t>
            </a:fld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9B4855A0-2337-491F-87D6-7B3D70472C07}" type="slidenum">
              <a:t>&lt;#&gt;</a:t>
            </a:fld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02A68B0D-FF81-45B2-95CE-6823E1900635}" type="slidenum">
              <a:t>&lt;#&gt;</a:t>
            </a:fld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F3895F65-4558-4CBC-A196-7E87C9BC0174}" type="slidenum">
              <a:t>&lt;#&gt;</a:t>
            </a:fld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019976D4-F1DD-4570-9EA3-29154BA7A07A}" type="slidenum">
              <a:t>&lt;#&gt;</a:t>
            </a:fld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5B6FC812-2E11-4523-8699-54B723544CE6}" type="slidenum">
              <a:t>&lt;#&gt;</a:t>
            </a:fld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C6E63206-14B9-4913-A31C-9D015F62521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301F2-23EB-4856-B9FF-84DFABAA0BB5}" type="slidenum">
              <a:t>&lt;#&gt;</a:t>
            </a:fld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54CE59A2-2A50-4CB3-A661-9E57505C3797}" type="slidenum">
              <a:t>&lt;#&gt;</a:t>
            </a:fld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393CE89-2831-4EBF-ACCE-F1E1AAFBF76B}" type="slidenum">
              <a:t>&lt;#&gt;</a:t>
            </a:fld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44A9C2C-7963-4026-9625-1BE09D2028B0}" type="slidenum">
              <a:t>&lt;#&gt;</a:t>
            </a:fld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F6138CF-7146-4F1D-A7B1-27563674E0D2}" type="slidenum">
              <a:t>&lt;#&gt;</a:t>
            </a:fld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DCE40EB-B009-4BD5-8D31-0441F2B25926}" type="slidenum">
              <a:t>&lt;#&gt;</a:t>
            </a:fld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869593A-A925-4C6A-858F-8B28253211F7}" type="slidenum">
              <a:t>&lt;#&gt;</a:t>
            </a:fld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8C90C69-3E84-4B46-B192-E568E2C9FFF2}" type="slidenum">
              <a:t>&lt;#&gt;</a:t>
            </a:fld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47009F6-9C61-4184-80F2-50167C067F0B}" type="slidenum">
              <a:t>&lt;#&gt;</a:t>
            </a:fld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AF4D524-F1FA-438C-A866-EFDE9782029F}" type="slidenum">
              <a:t>&lt;#&gt;</a:t>
            </a:fld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E09482C-2BCE-40D8-99D2-D23AFDFBCB5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B0CBE-3D29-4E7B-B075-C039C684C152}" type="slidenum">
              <a:t>&lt;#&gt;</a:t>
            </a:fld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6B39C93-6EBA-47D1-A310-142BE4E014CE}" type="slidenum">
              <a:t>&lt;#&gt;</a:t>
            </a:fld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F7A8291-0114-49FC-B514-3772312FB43F}" type="slidenum">
              <a:t>&lt;#&gt;</a:t>
            </a:fld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2D4F670-1E7B-4408-8862-4857863369E4}" type="slidenum">
              <a:t>&lt;#&gt;</a:t>
            </a:fld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AFDB695B-1C97-49F0-A327-007621B16088}" type="slidenum">
              <a:t>&lt;#&gt;</a:t>
            </a:fld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40444CE0-57D3-4C25-91F8-0430C420F90C}" type="slidenum">
              <a:t>&lt;#&gt;</a:t>
            </a:fld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337149E4-59C4-483A-A288-938845663EA4}" type="slidenum">
              <a:t>&lt;#&gt;</a:t>
            </a:fld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9B65FAFC-1B67-4C67-AA3E-8488B4F04E54}" type="slidenum">
              <a:t>&lt;#&gt;</a:t>
            </a:fld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3FDDFDCA-3F9E-4D34-985F-A8B8436B83BC}" type="slidenum">
              <a:t>&lt;#&gt;</a:t>
            </a:fld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215A2270-1A05-4BE3-8430-1DE5F7AB30A4}" type="slidenum">
              <a:t>&lt;#&gt;</a:t>
            </a:fld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0AD21CBD-1D03-4F98-ACE6-32D396CA1F6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04B99-BFEE-4B61-85A8-5A6A9277A91F}" type="slidenum">
              <a:t>&lt;#&gt;</a:t>
            </a:fld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E43858B7-DDC8-49AE-903D-29C851445B3C}" type="slidenum">
              <a:t>&lt;#&gt;</a:t>
            </a:fld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9A2F65D7-150A-4BE4-8713-95B0EDCB4316}" type="slidenum">
              <a:t>&lt;#&gt;</a:t>
            </a:fld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114AB6E3-C85F-48EC-B9AD-9107BC2FFAAB}" type="slidenum">
              <a:t>&lt;#&gt;</a:t>
            </a:fld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049A802B-AA3D-4589-9877-4199F2BB3932}" type="slidenum">
              <a:t>&lt;#&gt;</a:t>
            </a:fld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C5D4366A-E7E6-4151-9ED9-FC5F325C7232}" type="slidenum">
              <a:t>&lt;#&gt;</a:t>
            </a:fld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F99580F-C3BE-4BF7-BA37-23EE6222144C}" type="slidenum">
              <a:t>&lt;#&gt;</a:t>
            </a:fld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F3CA987-342D-4820-A694-76099C3B9DB9}" type="slidenum">
              <a:t>&lt;#&gt;</a:t>
            </a:fld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5BF6BCA-F00C-499A-BC1F-6F60BAA2B623}" type="slidenum">
              <a:t>&lt;#&gt;</a:t>
            </a:fld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96AB42A-0DAF-4F15-95C9-24FF0CEBFBCC}" type="slidenum">
              <a:t>&lt;#&gt;</a:t>
            </a:fld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E71841C-EFCE-42B3-A0E5-7004A057A7C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A9099-C85F-4A95-83CE-B6790D3E66F7}" type="slidenum">
              <a:t>&lt;#&gt;</a:t>
            </a:fld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8EFB5EA-616E-43C1-9411-AB5A9C268B44}" type="slidenum">
              <a:t>&lt;#&gt;</a:t>
            </a:fld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C40A585-9906-446C-87D0-E3DC98937AF3}" type="slidenum">
              <a:t>&lt;#&gt;</a:t>
            </a:fld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AD7C597-8567-4D56-A9C9-ECE7C0D847BA}" type="slidenum">
              <a:t>&lt;#&gt;</a:t>
            </a:fld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5A399A2-62FD-4499-9C4E-8FC030ED87F9}" type="slidenum">
              <a:t>&lt;#&gt;</a:t>
            </a:fld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682925F-091D-408F-9B11-E2C131B337E8}" type="slidenum">
              <a:t>&lt;#&gt;</a:t>
            </a:fld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DB7E8B6-1A62-44CB-8F18-416AB929E9FD}" type="slidenum">
              <a:t>&lt;#&gt;</a:t>
            </a:fld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A36251D-5D1C-4661-B2DB-48E6F3B01846}" type="slidenum">
              <a:t>&lt;#&gt;</a:t>
            </a:fld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5137B483-6F18-4009-B3B1-8700C5DCCC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3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EF55210B-F63D-4A87-BB08-505D865B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A7D504DD-9BFC-4131-912D-8C6CFF5E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E12E6-64C6-42DF-AA06-A1B2D559F9E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5A406-4656-46FD-97CB-8B2A03616626}" type="slidenum">
              <a:t>&lt;#&gt;</a:t>
            </a:fld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338E864E-B6E6-4D79-97DA-E3AE0F91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F9104BDA-F3E1-4EE4-8131-DF821D45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6C739638-1CD8-41C5-A8CF-96078100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011DC358-C401-4317-99DE-39511B8A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3AAFAB9F-B4E9-42FC-9D3A-C66E5891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FF559F5F-8FF9-4EBC-9DC2-0EA6CBD4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AD50D37A-186E-429F-8E73-C9F0C55F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33220BF3-5EA4-4EFA-9D57-122F618A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05BD7DD7-316C-404C-9ADC-BAF0EDD687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9A20F-AC84-4907-8154-DFD71657226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39FA5-2F1E-488D-AFB4-0B8A17E4DBF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60C9D-EDAF-4A27-8868-AA1708F7DF7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0F7EB1-C824-4F6F-B648-C8D5AB72DF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C0EAD8-EDAA-443B-A021-68664959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60B7FE-C6C2-489F-8D0A-555A2067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541A8A-B609-44A2-A4D3-FB77F0DE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847723-3575-42EA-942B-2AD66468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3E58C-4267-41A7-96FE-3529A99EBDD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BCEB0F-B2B7-4228-AE4F-D8C2C90A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37736B-68E1-43AF-B2C5-0230557D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AEC6F5-E512-40DB-9F1F-5F6EDDB9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92EAB8-F6E7-4B55-B35F-778B7135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A97D6D-891C-4A2D-9FAC-399B7FEC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7E8375-D144-4A27-98D9-139ED941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FD06ED-749B-4735-A1FE-41D3FDDA7D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885081-9411-4D1C-81FC-7F525C5B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6B6152-4CAE-42DF-8C9F-AB1AC0C4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F1EE5B-B756-49B8-A930-2ECAFCC1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EFC75-D20F-40A0-A9CA-364638DB4CD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1884B5-B9F1-465D-8A91-2A0E3C0F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4E2FCC-3703-4981-B7D6-330260D2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35498D-D067-48A5-B62F-B5A2C01B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1F1CB0-DEBC-427C-8843-4487F08E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2D0D0D-8727-486B-B483-BD95B884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DD5020-C37B-4E33-95AD-E9AD56E4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16F7B5-75D0-4FE2-8366-2E25CF7C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0CCF32-D61A-4AF9-A151-9C85D22E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B8149B-5292-4102-BE1F-FE05C242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ACCCEE-D6AF-4413-8EE4-A4FE953D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3F2D5-5000-49DC-8E39-8E152C79391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3DE648-4045-461E-96C3-86837532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5EDCAA-FB28-44A7-863E-B7F08F13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3385C4-7D03-406D-9B1D-24A9AAA7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72884D-1C60-4DAC-874A-5D44143D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EBEC90-3BD6-4A08-BB7C-93992BC4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F5AAA9-CC5D-459D-BF81-58F2928C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6CE939-C853-442E-ABAA-40AE2401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DC9AC6-A41D-4182-A8EA-CCFD4E0E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E95B20-0AA4-435A-A268-56196162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90C5B9-A68B-4766-AE06-11B04321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EE57A-03CE-499A-A9BD-8C3DEC7647A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61FECC-958E-458D-96BF-80737533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9AC79E-D01E-4A5F-A6C7-F08FE3C2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A796F5-1232-401B-A8E4-81C48075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CD1F8B-A710-4D76-872C-9AD400EB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0E5EA8-6D90-44E7-B603-7EA6A23D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75C647-F209-4796-A152-ACE474D5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840984-7E20-43F7-B644-85820BF6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97B70A-35A8-4B5B-A3FC-98CE67B9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DCD99F-2716-4596-8BF1-CB3D4043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F37D29-C558-43F9-A783-1F5A61F8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F1F4E-CAE3-4577-9476-CC3FC7D0372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34450B-E261-495C-A803-F419F813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52F4FE-0E14-46EF-9231-3F882A1F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02C6C4-557E-47FF-93D1-BC08C14C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CED475-26BD-43D8-978E-2EE2AEC2310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0CCBD-9322-44B2-BC00-E4E8287A803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E616B-F858-41CD-87A8-EDE22216006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4DC8F9-F038-4FAA-80E9-1F95543A9B2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93B15-9B41-434E-8AAB-91C5897AB1A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EDCA1-DAA7-4577-802C-51BE72CFF47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4978C-51F1-48BF-ADAD-EB2FE72DCE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7849A-C340-4E78-89E1-388931A81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B90F6-42C4-4864-915B-63E0CCF2DE2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45D111-90C3-4AE7-A7A2-0B3A5035BA9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D08D0A-B070-4A29-BBAA-FCDAC23AD92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0B2BAC-B601-44D6-8F73-42D63BFBADB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152E8C-C8A1-419B-BDA6-C0F711F989D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E1381-C581-45DF-A19D-ABE81F59105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FB186-0ED3-47A5-8A0D-33E4901E5E8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5168C-EA56-44BC-8764-17D7A9BC3F5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93BA8-222E-43E7-AB10-0DC653ED67C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C1015-1EF2-4DA0-9C28-1252FD435DC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AD328-A689-4DCC-8DB4-019594FC08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70949-A671-4A3C-80CD-B3D297A3135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AB0C8-153B-4BE3-B05A-AC285B8C4EB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BE540-A7DE-4A8C-BF3F-C8823576969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45E55-CE81-4F3E-8ABD-C2E42EE157B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D11B4-0562-4737-8721-CD56F654FCC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1852C-414F-4FBD-9582-FA05225D3F0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3334F-7E4A-4014-A841-875C4BC21A3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66A50-2347-48E9-8856-5C92F874693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F534EB-C07B-41D8-87E5-70A093EC1DE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C934CA-3879-4D52-8A04-B568E8A6B31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FCE9DF-1D34-496A-9B8C-D955834A2E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A8A6B-7088-411A-9611-75F3F2CFF28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F0EC04-3084-4DEE-8CD6-A9AE9F5A208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6FDD05-9D20-4C5C-96B2-FBD674642F5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92A696-B98E-46C7-9B9A-E2D142179C0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3DFB2A-A24F-4FDF-9D02-064D99D06E5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6F5BF9-3A97-4425-BD57-B4882B207B3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779BED-D1F5-4B02-8A0A-63871441225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8E6756-2A86-4782-87AC-C2E03403604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DD6C14-9B4A-41DA-AFD3-6DBC72B8553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22ED5A-C270-4F4F-BE82-1064C475DB1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8FA2ABD-D25A-40F7-823E-516CB28160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487E3-0669-4A8C-8745-6F95C4DDAE9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66A5315-D31C-4B79-A02C-6C1946BEE73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3AF47F6-5930-43A2-AB1A-22BCEAC1AC7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425AE61-D7C1-45F8-BCF2-D3A33BBE581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55EDE56-EC92-450B-A666-413F9396435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6D6AF5A-4288-4E16-9718-9C9E9CCC8DC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CFA8038-CF76-4FF1-90E5-BAFE171B7B3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AE50D30-4885-4018-91D3-C6162C28CC7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2D3A6F-3F2C-4609-8F7F-5863C0DE975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B19D54E-6A3D-49F9-8F20-7FAC357CB53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451B4A1-099F-4F09-BAC0-E1C337F010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C555E-65A4-45A8-80A3-C27BEE2350F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DB6F909-8236-47D5-89CB-82F8DF6692C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8A6EF-5C5D-455D-B4B7-CF0128F57BF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3EB9C5-255A-4D90-9CA3-208ED7C5CE7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F971AB-68BD-466B-BF87-2F89AFA1D2B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5C85D1-CD50-4F57-801B-B9A057ED426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77820E-1EE0-4FD9-922C-A14E13B8640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2D739-6B0B-4FCA-BE7B-1FD8D8FCF78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3A4665-A0A3-4C22-AADE-AF5C0357948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6A2BAB-2011-4A46-ABB5-4863F1DBE48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57E92-C6D2-4FCE-9C58-B4F5AA70E8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8B48-4F52-4D7A-BD36-5787E82B805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B0625A-C98F-42D6-B388-6ED0CBDD0E8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A77D1-6ED9-4F60-9AC0-1BCEBA9ACA3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3BA5DB-FCDC-4E8D-B4FA-D2B91CE1BE8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017FB8A-D027-49F8-9CB0-3137CBBA9F6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751458-8A56-46F6-8185-6BB0FF5D1CF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7D23FD-3C23-4939-AD47-2215A7B59B6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0C4F0F-B33F-44EB-AC26-008E0E395C2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C8F9DE-1D4E-4714-A0AA-02582E4A1B7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2EC2F2-3553-4E9B-A110-7E3A5E861EA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81D590-8F37-45B8-A4DD-05EA9AEAE4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C38F-FEBE-4818-8D0A-BD84FB3E60C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72EF06-4A92-49FD-BCE2-C834203A5D6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43FC1B-0F83-434C-A0C5-9D39E0F6A98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A85108-C743-4E72-A199-8A3802CA2A7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F791A8-244F-4F40-9013-606E3D66F4E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1BCF62-4BA6-4A2D-A192-82178FDD895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79E3BD3-B04B-481F-BD77-BE4FB55EA8C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FDD4EA7-5AA1-4459-9BB5-258BD48B063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9739DC4-EC86-4413-BD52-5887956CB68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D66F3F1-CB4F-4B69-A30F-35E49F91306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A4038DD-9448-49E1-80D4-81BF52548D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CB0C-F710-4FC8-A782-F0DDF81A5FE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2F1EB12-0D7B-4419-ABF0-568A853B0D7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5F29AEC-6B1C-4699-B800-0D7041A735F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9C50DA1-8FA0-4885-BB49-08680D9DCD2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599A102-CCB4-46CB-89A2-A6B7A7E4FCF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63E1E22-8FE0-49F9-9BA6-F3EE42F6A41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D8B33E6-5E38-4E88-BF89-A965B7823EC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7BEC12-40CB-4F59-9D69-D03C2B4776A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9C38F0-C31E-4F23-97A5-9B7A5F3782C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95CB4-7995-4EA7-95CD-B3BB5EC96B7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13E63E-D53A-4F3E-A7A8-AB6FE1208E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1DBC-D8EA-4F4C-9920-7E878D9A83C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848BDE-BBD0-454C-89DD-6CA3FFDC017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F448AF-4AAE-43CD-84F0-D24F433132E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234B73-3474-404D-9E24-FC1708AE014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2FAD91-DC86-4CCC-8E94-0F3C311986C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C147E7-F5CC-4C33-A032-C3057011BD2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A7D985-2CEF-493F-8159-78A377C91BB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B9295D-406A-4F98-ABA4-D2F4567C2B3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E0F666-1FE9-417C-A1D9-C48566ED7C4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80A61C-A544-4198-ADAA-61A32C42A2A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7AF39B7-DD1D-4A01-9FA3-7558C7FEA2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7A96-4172-4D37-965E-A0D58489ED5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4BF9C70-E66B-4CF1-AD86-96570CBB6E7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7BC2431-4CB3-4B1B-A8FB-E699ACA6983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87D2D13-7A92-48D6-A5FC-2DF87594ADB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7C6DD45-9209-48CF-98FA-EB439434338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7F11CB-8858-4AE3-B18E-A9BA8D7A09D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4296919-A69B-47EB-BE5C-F621A24270C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A557C7-9CB7-46D2-86DF-6EB4833B568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CE0BB5B-7E4B-4AE3-A347-7A660209087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532E4A5-5707-4CB9-9C90-6B1E4767C68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D0E4D3-1F85-44BC-8B1A-4DBDDB7352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8F4D6-8C26-47A5-B847-447FF2D4C7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2382-6DD2-494D-887C-5466BFD54EA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826C779-159A-45E3-BC2E-2BB9F87CB86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B554025-F790-44DA-91EB-433CB88F102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A529F26-F2FA-4EAA-99D9-C3697071AC7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AAA227B-616E-4313-8F0B-DE3BAC57216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6E1F0D6-9214-4F2C-87FA-FC8FEC28652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712554A-BC56-435E-90C9-D01E61EA456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A8021ED-8F57-42DC-B9D1-040FBFCA843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29AA9FD-6706-4FF3-A199-97F4EF32288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3944D95-B7BB-4B05-A52F-606AC0E8649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978B47F-9AFA-4A7C-A069-B0D6356BBE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134F-290F-4F3B-ACFA-34E07DE293A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B89794E-C3CA-4F70-B5E8-95E5040147A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7FCE90F-8DEE-4161-BC48-ABA063158A1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C73BE9B-D1C0-4060-A586-BE0F974B197F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8B5061-131E-4A9E-9E51-854A4DC58114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BF88F5-8292-4035-89BC-30BE83F7EF00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91907B-D5D6-4591-858A-1F51B3506ABF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330045-6690-4588-A0E9-F96E4434D44A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87B501-2979-47BB-8BB2-717E07171DF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D81554-B3CA-4592-B819-B7122597FC15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55730F-75EC-41DB-8F58-D5BB4C40FD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C6C5-4B89-4A0A-BC71-BBAD280892C2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496274-F4B6-46C6-9C38-FE6571300296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92B45A-544B-4B68-B037-715974CF745F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D34330-D376-4E40-A08B-184CA94C877A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69A202-B91F-47E2-B540-CAC331716110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0C21E2-A9DE-4C85-AF04-F82DE01B069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AFF4CF-ED04-45F1-9871-4E884B3D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FC3796-4DA0-4FD0-A6DF-FBC4002E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2CACBB-30DA-4C92-8BBE-E4754E71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8008ED-64DD-4029-B1AA-9A50663E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BBF827-9E4D-4F7A-BA9E-EFE1DA60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FFA2-54B8-4EB9-BBE0-ED2B61F466F0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02FD23-B202-4577-8B5C-EDE2D09F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F776CF-8DEB-45F9-A872-7C86015D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2446AF-AA0C-4273-8F2C-2D218424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0E0DBF-042D-4CF7-8037-1826D805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ABC211-6C15-444F-9CCC-400FA913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D9D243-2598-4E45-BF39-E61FBB62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344F42-32AD-48C3-A3E9-FA71F161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135A875-4015-426C-A7C8-4F1ADD8C01D3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D1A87A2-6BA2-4D1B-9CC8-EDE66E2A20D7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183968D-CF26-4C5B-BAD6-9368804A69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2512-4791-4B62-B736-AB157E040D26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6A0B534-5160-4E70-B4FB-04F73B31BADD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913411A-EEDD-43EC-A9C0-B6E61920ECF9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99FAEC1-30D3-4D62-ACFC-60508113DC52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B6ABE60-7680-499F-A991-C6F86F969E46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A3A7DF2-D24C-478E-AF88-C798C4B81E24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6B52C28-2211-4DED-8A54-E1957FE45F44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5D6CF88-4AE3-4E85-924D-0402E72C68D0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DC78ED6-B356-40C4-92CA-F105ABB37760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867BFFA-A8F6-4A2C-AC3F-98AA7915A715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5217D10-795B-42E3-BEDD-F44134AFDB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EEDD-E71C-4342-935B-4E8A2C0CCC12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0F0972E-DDC8-4ECE-89FE-E2A683739FA6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E22DFF3-A413-44B8-ADB4-AE4655392455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DBC82E3-FF51-462A-B37A-0F1F7A8BF545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C44846C-8F66-4902-B412-6B01B18ED397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D29F020-0B2D-4E7B-A418-BE57C96CC2D9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C7456B2-9E12-418A-B7E4-35747141CFE6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E09EC35-FAEE-4B0F-9BB2-F821125707FA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4CE3C19-B47A-4C24-8C7C-5A0F6749DEA0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9F3651A-375B-4EA7-9377-1467A55E3922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FE20DDC-80DF-4B3B-B90B-A43E750693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2377-FDA2-4407-8EB6-909D33C2E304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1B3F1ED-CD71-457F-9614-6FC4FEA94614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98D2E1-B1AB-42F9-BE94-7AE623826190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873977-FB5B-4DFF-941E-EB3BD8270F34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DD9532-EB7D-4A97-9C0B-D7EDAC232F35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F217A8-C727-46C4-A822-867AEB8ACFF3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440F41-D422-4AB3-86E9-DD894B1BB06C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00128A-CAA7-48D9-946D-62032250D6FF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4A5E52-F250-41AF-A298-81D5727A6CA7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836903-5928-43AB-AD39-2EF736373846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5E8968-949D-444A-A9BA-E7085685A2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C67B4-466D-4144-9CB7-381F2F1F5C1F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4E4A91-4742-47B3-AD16-9D53D5BEAA03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CFFEAE-7A92-45BA-98AD-A772B96A5099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080B75-F8E9-423C-BA55-6D72A01D9C86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41890BB-4FEC-4E02-9A7F-9A3D39F3EA40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6FDE9E7-1EB8-4153-84E3-CCC561B35B8F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674CD49-DEA9-423D-B7FD-0C573DDFCD5A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5E5A156-997D-4BF7-9703-4A8C20E03051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6E1E94C-8453-43A5-90AC-DF34723C8391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98B2701-6AC6-45BB-8494-4319F0F841A5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AB9A614-273D-4175-AC24-EC2BD3486C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4D3F5-C33F-4A4A-8149-15F73B8551D7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16E976E-B004-4267-A598-A4AB216E90BD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0C8C31A-B441-471A-A946-B3BB7136BEF4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E330C64-97AB-4437-8E01-90CC59FE59BF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9B1DB9D-F6E5-4CE3-A74E-BD4A4A6C054F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2E35DA8-A9B0-41CA-BED8-A8615603606F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A161CE6-B141-497B-985B-663440C653CE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299CB32-C43B-4534-B3AA-FD909C7C3A25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65AC6AD-84D6-4608-90FF-6E74D627B0E3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5FBEDB3-9512-4AE4-84A3-440DC768A246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D700720-E22B-426A-AF4D-4455CBC5CD2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7B3B4-C11D-45F9-8564-72B49FA650E8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9172F77-74F6-4377-87B8-FA4DFC8B1C87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8AAE73C-8436-476D-A270-25F1CFE5EBF4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7741623-C006-42FF-9548-646D070E07D4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D3AF0F8-7DAB-4E50-B983-662F62376F9D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7D109F4-85AB-4974-A8DE-D8737569945D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91DE7B3-CF99-4D52-B6BE-4E9312B2197E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56A5882-76DF-4DA0-B8CF-D582651C2DDE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869649-9A95-416E-BBF1-D6279CD19903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CED07D-C486-4DF4-B88B-1D10F3D4B713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271E3D-CB80-49B1-B197-1BBE0292A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3CB23-EF7D-48AA-8141-F5FDE9E9F0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136F5-D50A-4904-9C90-3632C280960C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FBCCCB-6A1C-469B-8A3B-81443AD165FC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87642A-E084-4242-8EF4-9F0F471B2356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6E9956-5AA0-4B8F-9826-57330DA7799F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49253F-82D8-4404-9FA4-3346B41FF7DB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7F5558-3589-458F-9559-422152F859B4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698219-68F4-4FE7-9E30-0BBAA87AFACF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61FECE-AF83-4EFD-8789-028CDDF5614B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A9B501-678C-43CB-BFCF-1B1515EC3935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2B9538-93D5-41EE-9B27-6D134E8B55A4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152E6CE-1681-4E35-834F-A90F74CF59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6E6F8-07EA-4CEC-95BA-609DCD55A62A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6990B34-C726-4193-9B5F-F820BD6E9388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8B74122-95B5-4ED9-BDCF-473530E33AFD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31D6A73-AF2F-4B0B-8AC1-48773DC134E1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A1C86B0-6C07-4C6A-88E2-C9C4DBA99B30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3E5B0D2-27D0-4A4D-84C5-50E97FBCE7A6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EB53896-3DBD-4288-8B51-973924537B5E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EB549D6-6678-444F-B005-731AB9E1753F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B4AE114-4C6A-4CDD-994D-ECB31E21F616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9FFF1F9-BB29-4DBF-97F6-BDBD456A5B58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7CC5D36-B7FF-4139-BD98-8EC0A5EB5FD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906C56-8EE9-4E17-8D76-B077E98B8A68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E244F76-4977-458E-8FE7-5230290304C3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AF9FD13-B466-41DE-AE8C-AB7A8EA9DF22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FCB68E1-A91B-4F0A-9435-3E004A2EFF72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53ACA70-D63D-41A0-8FAD-C6DA2A9F02D6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72C88DB-06EA-43C0-BA96-2236B0F2A57E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1CFE194-8CE7-4EF4-BFA0-8156312979D9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AF919A5-E20C-4BDF-B222-55E7B6267256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FE013F8-CAF3-41F7-B795-C2D9D7406757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A83327E-2237-4A99-AB10-9378937828F3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C377638-A1B6-4336-AB4D-2F4C58BD69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4EE4F-A737-4641-8D94-89789463CFE7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2C8A801-68CF-4E9C-B912-BB374DE82454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9FF1104-38AA-48F8-B37E-9ACA7CB76EEA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93D5308-1A5D-45DD-B362-8BA5B788B2DE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506267-F435-45B9-A8F3-D4ED4E0732BE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FAE91F-9DD2-417B-90DA-C72D4641CBD9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A63120-99E8-4C54-9687-482272AC5E5B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3CCE5C-5FF5-4159-A93C-09DE8DCB3AE2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8BAE65-ADFA-43D8-80CD-960DCC95D0AB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4B2CFD-5B14-4A14-80E5-2156FC074277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D178D0-DCAF-4BEF-AB0A-9DB99D1363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09FE5-A883-42A9-992E-D59D6432AAA1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FBC47C-365F-49FD-86EE-8B03D78971AE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D530F6-C47E-4361-91D0-62437538786C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6B5FF3-349B-4957-BA9C-4E5FF5323577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057885-E095-4FDA-96A2-4A04BBEAE68E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EC0F28-3E94-4698-9A46-3FCC91F02E3C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0420EE4-CA3F-4FD6-BD3C-1D83D719928D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F7D139E-3E93-466E-B6E6-E96C274A6364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3B4D1EC-CD50-415C-B94F-B7F95736E0A7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10DACB3-2C2D-4168-8D73-C5E4153C1FB6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EBA4D72-36E0-4373-86FE-DB7D48629F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AF54F-C0C8-457B-8C86-2EC0C82804DF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2FDA810-EA79-4668-A7EC-FAD6A54C2211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E2B7840-7FED-4C29-83B5-C31F353E7CAA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3B0D63A-06F9-45D5-B057-663B3B884EF8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229F66D-9596-4877-9204-4A05BBDB83CC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2872490-56EE-4092-82A2-5C552F4B81E4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35079F6-FA72-4FA5-9E68-D642EC6F381F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3ADD99E-FE22-49C9-9D78-33B2909A3232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39BED34-E81D-43AD-904F-4B3F4BF2E6B1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AEB17C6-92C4-4B96-9112-AE45A05BEEBA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7FE9999-364B-4DC9-B77A-3A3CE559B5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1AC14-0BE4-4693-9111-B08291C76A82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DC61F09-32E9-445D-B735-75A6CA3E2482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CA391ED-A295-47F5-8545-A84F50115DF5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B870A3C-3401-4D38-97AE-FD9FB8D4695E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AA745E1-4519-481B-A3FB-944B5783025C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F66E17A-9868-42EF-9F62-B83FB5814750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0CAE721-8564-442F-97D3-FECB9398A63A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F070389-9FC0-4589-A523-F40DFDDCCB70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7C8ACA1-EEF2-4D31-9F74-F3EAD6090585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7197623-9F34-43DE-AF5A-CCA95462BB93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C154014-669D-4771-A606-DB7C91C4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72DC8-2B27-420F-9EDB-DD6BBA34C374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CE24882-3270-4DED-B72F-2D84BEC8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FAA34C8-B4F3-41F6-964C-3629F502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327D050-EC2E-4580-BC5E-FA09AD7D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73B974E-9B90-4FC1-961C-2DB6C320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734C906-87B5-4572-BA98-9ECA29B6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730E2F2-512D-47C3-B2E7-0C8EC063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F77CB7D-4A64-4071-8717-64B556B2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6A1B692-49D2-442E-BAE1-BFADE5D3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8F73D34-EF85-48FF-B34D-B09F8934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FB87CFB-D883-4352-A8C7-1408BC8C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6A8F1-591E-469C-BAB6-65CAF848679D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0F8974F-6753-4FDF-81EF-54981114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4375B9-1425-4618-8937-5ECC4C193796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7BBE67-B37F-4EFD-984C-D3AD4D031D85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EDB515-8830-4ACB-8887-8ADB15049EDB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802D7F-6B8E-40FB-839D-616F0D91F221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8268E7-5DF5-4225-8E0E-4FFD5A460C3A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3D678B-6522-477A-9CAF-66A30F87D592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3DB4D1-8276-4AF2-8456-B39C61034BE6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D3B039-58C8-4C64-9148-4546248B5E10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5015D5-1D7F-4812-92B5-B627B9E439C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46FF4C-5CA8-409C-9F67-4ACDA0635DC4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0DFE91-5185-41E2-B429-AE10E31BE3C9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8B2B75-13A4-49EA-A1FE-9BF329E1DDDE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3E6F65-EA7B-4D20-A5B5-95C0DC66F5F1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8D72CFB-9649-4A89-8D4D-695024231A62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DA93C69-C836-474E-ABB6-4B4AC970D1B6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29AFA44-9AB5-438D-8415-A141C7B8911B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D62A225-C5FF-487B-ACAF-CAABDA9DD390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0575EBE-290D-41A0-9EB3-1EF32DC09540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CC41419-2C9C-4FCA-9F54-8CC8580ED590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D049BDE-0FF8-44DF-ADDB-2C476DFE5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53654-B92A-43C3-A2F6-B37900D56CE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188EE-C103-44C8-8458-3791562C5C54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7C9D051-A473-49A5-A31E-0A88337A3CD4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59D03DD-84EA-4B05-991A-693BB2BE2B25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4A46550-E8CA-479B-9884-31935F49082B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3448752-7D54-4F95-A5EA-72F19CA0093B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D1BFEDE-9D5F-4843-B5B9-DA5414C57BF1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E1C4540-A897-4D55-846B-AD8F59207001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3037E0B-86B9-4D0E-8106-3BD4ADB4A239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2788ED1-CD8B-4573-B5DA-7DA73CBFCD34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FC0A8C7-7D92-4024-BA22-22EC5E27AB8F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7BB4DD1-2C71-4D29-8ED6-573C0D1F5D5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429F74-8F73-455F-8680-F956F999B841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D8FB516-F3CD-4487-B05C-F7D3CC5B7C9C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E08C68B-66F2-4430-B540-3C32870EE221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7EE476B-9086-46FA-BC33-01423100A05A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901191F-BC13-4CC5-B568-9E379FD94468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D6752F8-7041-4727-B430-6A9B6D4B7A6A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4DC2EA7-1452-493D-8A2F-778ADB0E0134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FF1FD50-5E6D-469C-A9DE-280BA25C9AAF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554FC4-1C0C-4768-8A52-AA5DAC64F9E9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884EEE-A589-4B34-B06C-7982A1E2F9CA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4B8402-C954-422F-A7C0-AB53538AEEF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0FD938-2210-4826-9FD1-B4D2F9320243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2A78FF-AE28-4B01-8F86-7259BE8BE5CA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C64163-75C0-494F-A47F-E4FF0C101242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843DC0-58F4-4CDC-9050-762901863BA2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450417-BA55-41FD-97ED-FCE5C99EDF51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75174D-25BB-4F60-A2BD-7AECCBCFCE63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51F2AB-4764-4DF1-9B71-3BD2FBEAE955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856276-47F8-467D-8A35-019289154284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BE68C3-3EF4-4D5D-A8F0-1BEE6BA995C1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ADF5EE-1342-4462-BF4A-720444315936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A739071-D669-4FF1-9029-E7E18B1DDEC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E82CFA-3FFE-4904-A47A-3B10E9D1A90E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DCC5969-341C-4E46-9CA4-A63745B94FA8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145FAA0-EE00-441C-BDB0-DE57AA74CF80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747D026-78E4-4096-9B6C-71CE870059AD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6EEC1BE-8EA1-42FF-8473-365881A064B7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76921A8-8FFD-49B9-9E9D-993C0B2595E4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C65CEB7-9FA0-42A9-BDE0-7964BE5ED6FC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508CBA2-DEA6-4CDB-8FA3-08628764F93A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7B6F574-B9A2-4033-9382-C5B8D02434AC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38D4145-C6B1-4249-B324-BCC1163CD8EB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F286510-68D2-4261-8B02-AA10CA4A5C3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3BCF6F-2001-4682-AEE2-F6A61A9677FD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A4A084B-8F45-4C9A-9C6B-78E058C48613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8CC6577-C059-400F-98D5-D8D9D84B0DCE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7A280E5-2353-4A9B-A152-4385734878EC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60430C9-F783-461C-B0D5-C37876EAEE1C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DB8700A-466D-4AF1-ADEF-3CF4B2C72CF2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027B0A1-610F-43AB-BC6F-D39033910021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E628E06-B8CB-456D-804C-E2867E57AEE2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ECB20D7-4D77-4AA2-910F-E05A9D866B37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E928763-2FB8-4ECD-842B-CC0D2E441D35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A3484B8-94EB-4B90-AD57-554A6DDECE4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4F45A7-02F8-4D84-9753-DBB46BD51099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FBB0BCC-82CE-44FE-9158-984F501DF888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939B91D-AEC5-481F-B32C-208CE2C2D037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C03D9F0-46BF-43A4-8B0A-A16ECFBBB6BC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50EAB7-A749-4694-9B7E-105F211F00E6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8AAE33-C294-4DE0-A4BA-869B67EA86F8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F31D38-BC2C-45AA-95BA-7A2AEF939D3C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D8DF0E-2651-4304-8DC5-513504656E95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7C072E-2BA9-40E3-99C3-2EE378D52B63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1EAD48-2558-40CD-96E2-7087C848D0DB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D311CA-C3BA-4756-B0AE-5F924885936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6A0BAD-1DCB-4BE9-A3A6-562199E122EE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642F55-4D22-4A4C-B856-62563FEE1494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D061975-5C25-43E7-AFCC-3F0712CDCDB4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D9DD5CB-2CE0-48A0-A63F-E25B411E3DA5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421355-2B4F-486F-A147-70EC50B1F2CC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888FA0-3131-450D-9D86-B60CC303F635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574EEC3-8A79-4679-8C37-A2189BAE4283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6159D1B-3389-47EC-952B-34F3315C771C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16716D4-F3AA-4FEA-97EB-8F3EEBCA2602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3A4788A-8F9F-49F2-9BE3-5AF60569ED08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4A87257-E0C5-4F92-98D9-9DD42E90146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A33487-1FA8-4E2E-A31E-3B00435C6DA5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8DCDF46-4373-409D-BCA7-71CF663A81F3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8651928-64AC-4217-AA2D-21ADC6C2ADAE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8F24556-084B-48B0-99D5-8F078FD41BA1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C3FFD3C-D856-430A-BB0D-A83F340ECF6C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DFE5498-F613-4A82-90D7-AAC0C9F8EBEC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7721E26-6E0C-403C-87C8-301040258808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48BD0BB-C3CF-4F26-B4AF-F6E8719ACD14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0344E2B-DAA3-4F5D-AC5B-E3C163BF16DC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6395C6F-0F66-4730-A68F-A6B7E279FDE7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E1E921F-F006-466D-A648-90FB78820F9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C45D8E-F829-44B7-8C26-36D2987E04E8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74297A2-E5A2-4642-926C-A7F2B472BCA3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82F206F-66D7-417B-87CB-18582ADBBF71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0395E3C-58F6-405C-8023-074997327ACC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7140996-DA0F-49C0-B622-2556810B4A94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C907C72-E353-468F-898C-EF69997B9433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847503D-DB55-4391-B4F4-BDCDA5035608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27C3BD2-A893-4D6D-9879-85EF9017229A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E69D3C2-17A3-4DC1-82D2-8C861E89571C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4906060-3115-4CD4-B052-0EDDCD014E02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5E2DEDD-A265-4BC9-BA52-9A5D7C6491B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C4AE71-F0ED-4AB7-811D-E4E7B4317A23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8F9BAE-DC3C-481E-8152-832A8A676680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118858-BDFF-47C4-B661-ADFAED632F50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9956A5-C51D-44B3-996E-8A87D286DFF0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136E3F-A5A0-4296-A817-A980A303527D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DEFB52-028B-49DB-A849-FFF292CFFBC9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7D7F56-4DBB-4C49-91A8-821B0CC06F22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24BC34-D2AF-472F-81C9-23DDB0854FCC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95EEACC-1B41-41E3-B50B-5383B70AD9F2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A27381-7FAD-4EEE-B695-711133C20AF7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023764-BA10-4BCE-BABA-5E559930D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7157F-DDE8-46D5-BC15-B49102F17C0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F50872-FF93-4F4B-ABC5-DA91D90747C4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88D742-8E24-45C7-BF56-4B0C9726A30D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2594AA-058A-4481-880E-8A0551BD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07864D-0009-472E-BBD6-7F204A41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F89077B-4C43-4F0E-9709-A0F54018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0132C6-4AC1-4FE8-ABB6-A630767C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7F0DB6C-7D36-4E75-B178-8CA085FF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A6AC4C-7389-4D28-A775-04E83D48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291034-EC6A-4246-B6BF-104E1795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D7F670-F582-4F0E-A058-175B53B4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B2C970-2C9C-44F5-9044-BD5870E0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42A13-8548-4E67-AA5D-35B02CFC5A1D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A17D0FE-F318-4B8D-AB38-F52FDE73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8DD59F3-D12E-4776-AE77-3B3A24B8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3248EE2-7E1C-48A6-A4A7-5A0EDB74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4D1D88A-9B06-4F0E-B773-7EF823B1EF8A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527CB3D-BF8B-4013-BA87-32F163E4498F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F82EF45-22B2-428F-92FF-9BA9DE29B003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3F588B0-EBEA-4C0A-9954-EF624F3B10BA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3247E45-4E0A-4343-BF17-3B1CA7EE7691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7F28380-CC2F-43CE-BB4C-85192AAA48D7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8C3ADE6-7251-425A-8BDC-356481CEBA5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10313-2880-4909-B8DB-A3D77D934C85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9CA49FB-55F3-493B-B53D-EA3873E0F522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5B88CF0-5804-48DA-A6BC-F5A8E01A2F43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89C0D9A-AA76-431E-BAAD-661E215CE3B4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ECF32D1-0546-4023-AE7F-C93BDBA470F6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5B2F249-9631-4597-A924-841366CA28A0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1C0B464-72F6-4B07-8DC5-3CE1166A1AAF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B0812A2-9BD1-4C8F-A4AB-33F349E761CD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614E594-A29F-4232-8F20-908ABB1C3D39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1D7CA3B-D1B6-436A-A2B9-A3319FAC2538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596E002-ACF9-4F23-8C51-43FDD900451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43D72-F45E-4809-8E27-53BD88C25F0F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F664C55-BE9C-4D56-BE80-B30CFEF4B4E4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70B4D23-7D7F-4CB5-BDC8-39AD1DC6C491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BB2F8D2-2509-4A01-824A-37E9B68BA7B0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A1F7327-0819-42DC-979A-3BE8B3B6AE37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23BAAA8-FDF4-46E9-B642-4AEBD2FAB8AB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61401A7-4F20-4471-B59B-4A567DB452BB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441367D-2F2E-44F5-B64B-36768B8173AB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948BFEC-E6D2-465B-8377-C2DB87C479AE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0180C6-AF68-47EE-B3C2-B2CF4E2D06A1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A72B5F7-8EBB-4CF9-A37D-BA52DB40891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639E2-A510-4151-BF8A-465692FCBAFA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40793C-15D8-4EDE-BAF6-FB8EDA9DF7A5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122E362-FF70-41DD-9A1C-B2759AB32636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D24E7B2-43C2-4954-AE2B-A26F0B31D55E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FB4A6FE-C1BB-4054-929B-534781535798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5E53CCD-52CE-4804-B0F6-53C84BA0836D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66D472A-B000-457E-8953-96CCDA8C5FCD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FB8901A-3D0F-4AB0-B55D-8A0D1D7F133C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01B29F-AA89-44AC-B146-6C832EE36C3A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61490EC-2475-4968-BFFC-46E52AFD82BC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B7DE231-746E-4E25-9A79-B56356D2AD5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D31AB-8732-450F-94B9-36DD74A2C9DD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407354A-5A23-4941-B399-67105A372325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A9C8E13-FF6D-4412-A3DC-EFD267656C70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36A224F-BE1A-40F9-B979-E27F669F1898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AE4056F-AB9A-44C2-9307-E38CC8494B1F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874B539-D9E8-45D9-AA9D-82B5501E6E27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DC03573-20FE-454C-85B6-F011A5D3878A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7576E6F-DCD3-4054-A7E9-A7CF4EFBC5FC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B3809EA-B193-41E9-9600-883509B783FC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22209E0-DBAA-4A51-8DCE-BB75BB496CCE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51EAD09-989A-4887-8FA1-ACE00EA6460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BC7BE-80F6-4940-B18E-089818FA6FA9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285C34D-3398-4BF0-9283-F122FDD7D0F9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0AAD0D1-380F-4AE5-9F1E-81655C060257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C48E035-3F32-4C90-A260-3DC5A0BD56C3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212F413-82FF-4D07-8D74-0472A487469C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32ABDF5C-60E9-4178-86FA-40CE7AFFE695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4D5CFE0-EAD2-4595-BCDA-A677E8C0D068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0925BE4-6897-4EF2-AFBB-B713EE16B586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AFFB22A-0B51-4617-AB6B-0F6924FCD866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37BACA9-13AD-4A95-917E-4647D2278478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EBC0D12-F304-4388-86DE-E8E8FEDF2D1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B85C8-590A-4952-892C-D469BCC6166B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26D0CB4-AC8E-4919-BA41-0506CA12AB26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E7EAC620-5622-4A86-B412-60000006D750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E23796B-5AB9-4273-BCBD-003A611D69B2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2AC60D4-C88C-41F9-8270-4B0FCCC8BFBA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599C185-1A1B-42F1-A183-80B72AA55892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5D1A3C6-AF08-407F-9F48-B7A633B721AA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F05E961-06AD-4543-84DB-D376B96C4A85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8D71AC1-E258-43D3-8C69-904CC9F5D6B2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3128C71-4EB0-47D0-9DB9-CD91BC3ABB12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E15DD35-E155-4526-A37E-082279A3B8A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A68FA-3E0E-4FA8-B7AF-BBCFD14D9132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A19DB9E-E6F2-435B-ACEE-56B49DDD8F05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63918F8-91E6-4ECD-A0BA-DA3FC37DE9FD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141506E-6939-4C94-9BB0-F112B2123E9E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5F98532-D18C-485B-BB38-9E20F75F49EE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414A605-D2DE-4960-9C52-43F3F4505361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4A184FB-3650-41CA-92CA-73D32C005A87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E23A155-3D28-4D6B-9AC3-8E1A4988B9E8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5F4761A-1115-4275-83E9-8129780410E2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DEBAB17-9B8D-4A4B-B1B8-47C5A8C2AA74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29542CB-254B-48BB-903B-F941E73ABEF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4B30F-488C-4C03-BECE-8B09C615AC30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FE906B1-F7F1-411E-A8E7-908FA6013546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58302B4-2AA2-46FA-B687-AD86B3AE71A5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B9B8CE9-4782-4062-9327-D4302CECFF20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B380E13-DB41-45B1-A36E-765667F32D30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5C68D3B-4B8E-4B4B-A208-95BFA873DB43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DF03CA6-8EE8-4487-A4C8-2309A5052C96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330952C-0C8C-42E0-86B8-9B728B234452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3F7C3CE-3836-4F2D-87E8-64D94F86AD17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C8DD0799-54EB-4CB6-9FBA-2E1A74801C99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25FB8CA3-838F-49BC-A63C-3DEC56536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8EEFD-6BD1-481B-A74D-7BD06C6F944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89357-F78E-4634-A928-BC1C1DD01852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1FE4614-788B-4A6F-8F85-85E99E0F23F2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21E8F8A1-B4E2-487D-BF5D-2702F39C1A2A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C655F4F-2378-4448-9DF1-DCF9187279D7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DFCA834-8CC6-4D4D-B991-9575ADF4F9AA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3614978-A41F-4913-B3E3-B82278E571EC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04A8FB6-9948-454A-9C1E-246091C1F88C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040CE400-A908-45CE-A461-B8FB8FCC2945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ADC62AEA-79E4-44E1-9B49-8D1104A50A8F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A9350EC-4043-45E5-9772-319DB5E8D766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1BF4C70-C1A9-458C-886A-F5448B9C1E3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B98F0-C59E-4AB6-9E43-EFD04843BA07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82011D7-0D80-4790-956F-29AE6F39DCFD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57332F5-0938-423E-B0A2-564E056C47AD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99B090E-AE99-43E1-81BC-46C77D2A1DDF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0DD2829-FB8B-4057-94B6-945CAC9E9646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C871F3E-7F62-4D00-8C3F-29AB641B4BBD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06AF02B-E14D-497A-B4B7-CF9D33B70139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F3BDF11-3BEF-45DC-A656-B441C528E7E2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82C3801-C350-4C95-AD8E-E8F3A7DDE476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B8A9459-8247-4C77-9A6E-885103F3AB85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FA2DE60-6A2B-4848-ADB5-F6CC05409B8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FBE7F-93C1-453C-B81B-4A1D85740E09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36CE314-A01A-47CF-877C-607F58FD9440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61A6FE9-928A-4B8B-A0C8-5CFE98E0E2A4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6A24A35-DDD5-4724-84D2-FA811BEBD7A4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C2A9765-00EF-4FE5-9992-ABFA675AF672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75FE38E-DE41-4A4F-B230-070DB4354ECE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C55ABD8-D108-4AD6-BFBA-FD456C6D230B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DC6D5EB-B2E3-4FD8-8929-4C3FD8D87F54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277FECE-0EDC-4E01-B387-5AF36636E862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3FA341B-EE23-4D3C-ABE1-3E00E4CAC869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CC9CD76-6E49-4D63-B630-81BDB944F12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2C151F-F5A0-4564-ADA6-19312A0F6E2A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AFECBD3-81DC-4729-A4D9-2BB640AFB4DF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1E051A9-3A6A-4F49-843A-ABD837802A25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002E91C-EB87-4269-A99B-ACEE00FF393E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2FA68FD-F594-4EDB-924A-A076E69D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CF7F024-B0F2-4FB2-9C00-3A23DE3F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6ED6F68-21FC-4B5E-BC6B-461C286F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1C99BF4-12DB-4632-923C-325E517C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6BB9802-F560-47F3-9363-711276CE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918C5A0-8A86-4393-B28F-CA66620B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0EFB775-D791-462E-8775-4434A9AE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4AC805-B3CD-4A43-A24C-775EF26293C1}" type="slidenum">
              <a:t>&lt;#&gt;</a:t>
            </a:fld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F413C47-7E60-4508-9624-DC866BDA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A4906AC-CC6A-4E67-AED6-384FCD37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CB2E582-25EF-4A52-A433-7F2F0011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C514E85-5ADF-4519-97F1-A231A43C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E03F0B9-2CC4-4D58-8099-519178D7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1A3109B-2D52-4FDD-9417-81E0E983CA19}" type="slidenum">
              <a:t>&lt;#&gt;</a:t>
            </a:fld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82FF19B-43EA-41D7-86F6-93FAD599FF33}" type="slidenum">
              <a:t>&lt;#&gt;</a:t>
            </a:fld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237B0CA-ED80-4551-A269-936A74AB473A}" type="slidenum">
              <a:t>&lt;#&gt;</a:t>
            </a:fld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365D8AF-76EE-42E9-9106-9F09640408BE}" type="slidenum">
              <a:t>&lt;#&gt;</a:t>
            </a:fld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930DDF2-FF2B-4F7D-9F8F-44F62142D48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373F5-9FF1-4C7B-AE90-7E9CC43ECDB0}" type="slidenum">
              <a:t>&lt;#&gt;</a:t>
            </a:fld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D8B7218-6CA2-4FB7-A460-28FBD4893054}" type="slidenum">
              <a:t>&lt;#&gt;</a:t>
            </a:fld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B015439-C382-4D7F-8E31-6E702D4E5130}" type="slidenum">
              <a:t>&lt;#&gt;</a:t>
            </a:fld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34D293F-D17E-41A9-B5CD-E64873CF5B67}" type="slidenum">
              <a:t>&lt;#&gt;</a:t>
            </a:fld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E67759D-D438-48FE-BDE7-E1E37172D8D4}" type="slidenum">
              <a:t>&lt;#&gt;</a:t>
            </a:fld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747016B-F3F5-493D-A8AE-B5A1FF06FFC3}" type="slidenum">
              <a:t>&lt;#&gt;</a:t>
            </a:fld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F1CC0D1-D9D1-4FC2-9028-0DDEDC90BDFF}" type="slidenum">
              <a:t>&lt;#&gt;</a:t>
            </a:fld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FD41BBC-8B82-4DCD-9855-E252761ACAAC}" type="slidenum">
              <a:t>&lt;#&gt;</a:t>
            </a:fld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8FD65EE-3572-47A3-9D26-DFAC0FCD4F1B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04D5881-B21C-4F8E-93D4-88525C7A087A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8DBC7CA-5884-4D7F-93A3-CF39AC0C89F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E1355-72ED-4E89-A67B-76B055117563}" type="slidenum">
              <a:t>&lt;#&gt;</a:t>
            </a:fld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7C5F28B-7B70-4A37-BE9E-B0A2417E98EF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457C640-B1C9-4E71-B86D-D824C7DDC65C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3698C3B-EEA1-487A-9444-C1C875040F1F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1D59E90-8257-4122-84C7-25E9AC18AFB6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8FB73CA-1129-4DA1-BBF4-0EDB54AF88BD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92549B9-216D-4AED-8372-865EE99C3D05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50E311F-0CC6-4BC9-AC7F-F20F69A664C7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3B39EB6-A117-4EBE-A6E3-C4870FCEA254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22D0267-3B9C-4F64-AAD5-7C6BE12F7836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8303760-5840-48E8-B145-1A92423E0FC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0175D-CC63-4043-8EF6-79062EAD6607}" type="slidenum">
              <a:t>&lt;#&gt;</a:t>
            </a:fld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17D4202-9889-46DB-80F4-8F7BE26DDCC4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F4B86E4-D224-498A-8869-A7BD26E04FDC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70E4F72-A7D7-4E5A-AD29-36ECE8BAA1AC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44E699C-9884-4F5C-979E-9AC7C0901998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EB37E67-B1FF-49AB-8974-1FC4ED2605E9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B5A895A-B2A9-4BEA-A856-624777D742A4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CE13A87-B3CA-440C-A61D-5DAFC27DACF5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7D95336-CF87-4308-8131-190096A4DC2C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69E3AB0-6444-4FD8-B5A7-57876A8F3657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C50092D-ED44-4632-9452-63F260B6CF7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7EAD62-3BE0-4FA7-9E62-3AC01375359E}" type="slidenum">
              <a:t>&lt;#&gt;</a:t>
            </a:fld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A206ED3-6A8D-42F8-BBCC-52F0E4BA7B37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E837F5E-AB51-4DC2-B423-778C45F24273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B277857-6166-44B2-AE51-0F45FE008A68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6F294E8-9A3D-4457-8A91-72128F8A1893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2E46891-1A0A-49B1-8F5D-D6565BFBC914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C66D064-8D99-4208-99FC-E3F27AEAE068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4DFF7C4D-286C-439E-A8D7-10952753F72D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7C90F7E-669F-403F-988D-376F0F3B216D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2527E70-B1AD-49AB-9A2C-4B2F55EC20A6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FFE5BDE-B3C4-49C2-8FD8-851C7BC8F28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C347D-C1A1-4B81-B0DA-8A3E045ED2ED}" type="slidenum">
              <a:t>&lt;#&gt;</a:t>
            </a:fld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DCC08BE-6DEF-4797-B5A6-89E6E453666C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C3564C1-2714-4776-9789-4C9A6DCAB97D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81852F3-C630-40B8-911F-D6B487EDA7CA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3701194-FE1D-4144-8C70-26513BDA7FDF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F15783C-C622-4893-BA74-0D45D33E258D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26C71DF-0D02-457A-A5F8-E9D4BD20E26B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774ADCA-1616-46A3-A2F8-A4C793CC3527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F679835-6E09-4372-90F6-9F5F60AEE898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3CEF939-40D5-4BB8-8C85-F5E19AC99AC0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8997705-BE5D-483D-B9C6-6D1036FD6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5B927-F53E-495A-9DCA-B88FAF48DC0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D05A04-4F79-46E6-9C40-81E4FFDA17D5}" type="slidenum">
              <a:t>&lt;#&gt;</a:t>
            </a:fld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A24BEC5-0F5C-4B4B-8B9E-ED5A7763D40F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3F123E2-D86D-4184-90A8-473EB9AE3D7D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72D04EB-5F5C-4B3B-AC83-68210DEB1FB2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325BAB0-EF64-489C-9D4B-9FEB1958FEE8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EFE9EBE-5B97-4FA1-B92D-D11C85975726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CB7F4F2-F2CA-45C3-BE55-50E2D7D1E81F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8DD0367-5C25-4AFC-9C5C-E99DE35D96DB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B34C94D-C58F-466B-B905-02006568B944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C7211B5-32BD-4288-838D-42B557F61BA3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40F2044-1635-44F3-9EFB-BAB33D56C21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969433-E358-4D5F-9BC2-33DB387265F8}" type="slidenum">
              <a:t>&lt;#&gt;</a:t>
            </a:fld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1AD6E23-8E2B-4831-92BD-A8FD902770C9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1C17DC9-ACC0-4BE4-9B43-8F418C7C2F72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BD3CB4D-2BA1-46FE-A6B5-15065951D32F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4AD6BE6-3325-47A9-85F9-98E07B3ABFD6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E780AAB-9041-4FF6-8BFA-ACC329D031A2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3E87FCA-8BF1-4CF8-9009-C66C1214B3E4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EF25751-95C7-474F-A5A5-99066486B284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1BF3C4E-FF38-4441-97B4-C2B9FB34C299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112D85C-A037-4911-AD0D-8866170F290B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E1F4479-5786-49D7-B648-44E193FD918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28FFD8-3B75-4E33-9F35-17D41A1F5CA7}" type="slidenum">
              <a:t>&lt;#&gt;</a:t>
            </a:fld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AC7EF30-7DE2-40E3-A4DC-A04ACE808436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D862FB2-6441-4F49-925A-3BCB8A88DE9E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3065907-4170-4E6B-B17C-637C42ADD87B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DF76F50-BDDB-4DDE-BB34-7953A0CB6980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4D3AF38-ED56-43F7-A4E1-25EB838426D4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FF2917F-FA9F-4A1C-8132-1B14032BCCD3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2F1ACD4-5B59-48E6-B00F-AEF501AEF18C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EDC9AE0-AFCB-4C69-9BFF-F6D0D945199F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8608440-06B4-4084-A8E0-07924DE4DAA4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46190D1-92E5-4DE9-BB72-67602B0F555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C653E-A51E-405D-B362-B1E4B4B06C1F}" type="slidenum">
              <a:t>&lt;#&gt;</a:t>
            </a:fld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0648D49-B72A-49AD-9BE6-C0CD01A42FB6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986AFC7-DEA6-4D7D-83EF-22F928670133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9C654BF-2387-49EC-A579-070E365C84A3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0FCC36E-848A-43C3-94E8-ABCCC6A68EE7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8CC302D-67C5-49DA-BC03-339E3DEA7C0C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2FB6EA1-54F3-44B5-AD03-7B20C243722A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3286D93-C6A2-4A3E-8193-BB625003C6E3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B92CC44-C941-4F0E-9D26-F94F16ECF1EC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1412E6C-62F3-46C5-9516-6598CD32A259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DDCD8E6-0764-4A38-8AD6-F4B8215B8A9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F981FC-7E1E-4057-949D-7E57DCBEC832}" type="slidenum">
              <a:t>&lt;#&gt;</a:t>
            </a:fld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A8500D9-5F78-4FF6-B396-435D0FEBF581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D2FB989F-D102-4CC3-B29C-5053EDDAE5FC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80371CC2-AFA2-4E08-875C-6649FF039A3D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9DE99133-DB81-4795-9ABF-B105ECC7CA7E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B35DB2DB-C9C9-47DB-9FA9-5ED19F556917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A826D89B-D279-4082-9311-083AF02C2FAB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33E82AA4-60D7-45F8-90EA-405F7F86517A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ADE7A667-812C-478C-AB18-B92ADA6B9997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9EEEAFE2-4B8C-4F1A-8D1E-5CE6CA00C08F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0A8692D7-AFF9-4BBF-9DF9-4520BB635F8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8C1612-1648-4157-9DFE-4FF457D8AAD8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9D8BB947-268B-4C1D-8CCD-85D575232DB9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0055DBB7-E2CB-463C-B446-A46009FC4B15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CC004DE7-FEC9-432F-B09B-BD6A81052975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4EEE1CB-EC5E-47CE-8AF3-FD103D711480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6B07987-7084-4EF2-9C42-B8AF628E66B7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B72B69E-AFF9-4D99-918B-EFB7A453757C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284C766-8895-4177-869A-CB99729FE070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BFEED39-736D-4D4A-BAA1-B3CCD9DD6422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92E3C0A-2C5A-4854-90D0-9A3DF0523973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3C670F6-CD23-41DE-AD81-3D7AFA3D497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332C86-43BD-4B2C-870F-14CB2316DE44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8AA8CB5-6CA0-45F6-A86C-34CF40FD630A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15CF5A3-E77F-4475-9D4F-92DE2E6A8E6B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BB12D4E-92AA-4E95-9CB8-8B5ADD86B4F5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E64E39B-9042-4A9B-89E1-12E8F6352AD0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89B2314-5F39-41E3-B3A6-A532F6473777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E9DDE70-1963-42F6-AEC8-70409D78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33F317C-4323-48D8-91C0-F6BE1270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3C2BD5C9-C3B3-4E97-9A0D-7FB7579B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587AA7D8-C9DB-4C79-B36C-69EF901F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AF0CD771-7C8B-4CEF-B549-4623EB44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C023F5-B8F6-44BF-8796-1280CA59F6EB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AB6FB18-7A35-4AE4-9426-59CDF9A3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A17EAB6A-0C81-4CBE-94E3-35E7F1A9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A79C1EA-B9A5-4EFA-A8EA-5A25EC68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D5C4146-C0C3-4219-97BA-8FC0FFC8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B21FE85-8802-4F9C-A036-D9AFB0B4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BB9FF9E2-5192-4938-9453-146FCC69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BC2D39A-03F5-4E9F-BB51-61A1AFE1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D2F4A1E-407A-4093-9A11-22D822111BA9}" type="slidenum">
              <a:t>&lt;#&gt;</a:t>
            </a:fld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C9090D9-ABEA-4757-8EC5-F91484D34565}" type="slidenum">
              <a:t>&lt;#&gt;</a:t>
            </a:fld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F5405E3-9CC6-4D5E-B76D-450014C6DF5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F1B9A4-9259-4F2C-8AF5-98B4FBFE669A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EA9EEAC-A400-47B0-A36C-000B2BD64096}" type="slidenum">
              <a:t>&lt;#&gt;</a:t>
            </a:fld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F038827-26BF-4F80-BE4E-E61D3A24E080}" type="slidenum">
              <a:t>&lt;#&gt;</a:t>
            </a:fld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132C015-AED0-479A-9182-0E2F8FA2982B}" type="slidenum">
              <a:t>&lt;#&gt;</a:t>
            </a:fld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F1473B2-8B7B-4D9B-AA9F-214547AD5D04}" type="slidenum">
              <a:t>&lt;#&gt;</a:t>
            </a:fld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8DE2EBC-4E62-4E12-87EE-0B9D8D5CA114}" type="slidenum">
              <a:t>&lt;#&gt;</a:t>
            </a:fld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32D7B9A-878E-41A2-B796-711AE315463B}" type="slidenum">
              <a:t>&lt;#&gt;</a:t>
            </a:fld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5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7C97072-12F0-4C0F-AECE-81D68052C0B2}" type="slidenum">
              <a:t>&lt;#&gt;</a:t>
            </a:fld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D47E21A-5D86-4114-8716-F1BB60B602BA}" type="slidenum">
              <a:t>&lt;#&gt;</a:t>
            </a:fld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65B602E-3C49-44E4-B371-4D68589C9418}" type="slidenum">
              <a:t>&lt;#&gt;</a:t>
            </a:fld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0291919C-E0D1-4E07-BFF4-90148724F69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9DF1B7-787C-4EF6-B9B3-8F9D3C6307ED}" type="slidenum">
              <a:t>&lt;#&gt;</a:t>
            </a:fld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CEC3A0FF-A750-49B7-9A1C-D43567F11FF1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0337F46C-58CC-4735-8294-58F70678CD37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AD115433-1C9B-4CF1-85EF-E1888ECB9C0A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631F190B-1490-40CB-A95C-AEA57719ADE5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7385E095-FBE6-4C4A-BC2B-A53E0BDB8C37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2E88BE61-E06C-4FD6-8DCD-403EAF417232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54FCDBEC-6858-48CA-BA4A-1C749BAB9C3A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46859B8D-E858-4A85-B0A2-66C0DA4F6997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ABE73D92-65C8-4278-A047-CAC096D79BF9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2605A4A1-2B50-4418-8B7B-9F193B5C0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EC8E-A380-4699-B13D-9F0AE1D196B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55DF30-D0CD-418C-B60D-D6B3DBC25775}" type="slidenum">
              <a:t>&lt;#&gt;</a:t>
            </a:fld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8541ED7E-84F6-4C77-B6EC-066F0A6ABA23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5A1EB1A-CDCC-477E-97D3-9E9773E54215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09ECA0A-4234-457D-9A44-55EE2596BC22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2BA4780-2764-4104-9F42-0945DCDE36B9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522E552-89D4-4210-9D56-A26E8A0F1297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EF7DEC9-88A0-4F76-998B-BBA702EA7729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90D94CD-E127-4172-A52D-E2AB1B8A413F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5237356-519E-47E9-B7FB-B8FDA8678703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9A6439C-7732-482F-AFB5-09187CAC8E0C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E9C9E68-2159-46A4-859F-7A4D6A1079D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68BC4F-608B-42D5-8F58-7E0C86F2A397}" type="slidenum">
              <a:t>&lt;#&gt;</a:t>
            </a:fld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9D5A424-3A84-41A9-BC08-84C5B1FBBF00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2F6312C-3997-44F5-BC14-DE446A7893B6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8408B75-3809-4FE4-AEC3-D99FB5403E21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4B80572-6990-4D05-90A5-480A47D4097B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593377A-17A3-44C5-B291-B87C9E2BCFC1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2929ACB-44BC-4874-88DC-F0F3ADEE7A71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861DC17-9EC1-49D2-B770-5E234EC9D563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4D2F446-3BC6-4A78-B06B-F13A2ABB79D1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2786309-34C1-41DE-8187-D91866F671F9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0110D60-5BFA-4269-B107-26CC5624C04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A66BDA-0CB6-4684-9B28-AC5F05C80778}" type="slidenum">
              <a:t>&lt;#&gt;</a:t>
            </a:fld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B749C03-A754-40E9-A948-CD7268110B7D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B570B60-FC47-493D-B75D-24C5686E95B4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873EAA2-3633-40CC-BAFE-BE3D88E59377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B1C0F8A-946B-4DDB-9BB6-94ADD3E0E226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68CCE17-DEE6-4980-9EF1-9E9AE336F802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00D10C90-12B7-4D10-9386-AE169B816B65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45558C2B-5797-4B16-812A-31F8DD8B5A3A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8861B5A5-CFAB-426B-AE75-BE35EA203AE6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009BFE32-C07A-4E02-8C5C-1B161E5958BB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2303C592-3234-4C69-A96C-2C184C672EE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ADABFA-CBEC-49E4-982E-3D078E353C2C}" type="slidenum">
              <a:t>&lt;#&gt;</a:t>
            </a:fld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A0135391-6F04-4C88-B1E0-14CF3F5C3B92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B319B535-3A6E-4E88-BAC9-DD79682ADDC4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8F2E8BB1-329E-401C-8753-D510F6BC0B93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AF3FBED4-A3A4-4DB6-9E46-0EA50989CBEE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6B7461E3-07C3-4E30-B734-B15FB29D553A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6622351C-48BD-420D-8495-338BCD721F63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95190BFF-42C0-4271-96FF-0B5692A5C688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2AC8419A-FBA1-4043-B5BA-37D7ECC58872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2C3705FE-40A9-4D4F-90F3-544787F65A28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9CB5C6B-F31F-45F7-BD3A-7FF3C50A868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15B627-F475-4007-A1B5-E04F6D5B192E}" type="slidenum">
              <a:t>&lt;#&gt;</a:t>
            </a:fld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596C594-50CB-4A05-AAE6-D43AD9E65C6E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94CA4201-DA8D-4043-A874-CA5AB95B5899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0DB8B17-C510-4784-8C7E-2CE7712ED7B0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85A2B5C-380B-4B3C-A66E-644B1C9DBE57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8E75366-04ED-4486-8324-126E7ED5A87B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93C5BC1E-379B-404B-A1EC-EEE01CEDB06C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5714988-DF75-47FD-9B86-52F2CEF1B70B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4F196A0-0515-420F-BF00-BD36385033F7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1561626-B23B-4DD9-9F5D-CB92E814E43D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58EE989-91CF-4C70-99AC-083EB0BE926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41DB0F-F657-4473-B1A5-96D0715F81EB}" type="slidenum">
              <a:t>&lt;#&gt;</a:t>
            </a:fld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B6270D2-93BF-42D2-95CE-2AE989AAF5DF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D353DCD-63F8-4470-83C8-6B0AA1F6EF57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06F3C18-1FBC-4448-A751-09D180EAC34F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600923D-31CC-4FCF-815B-A23A61FAF707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4D84974-6B3C-4ACA-B241-A4741901E78D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53C5B16-B397-4ECD-9CBD-026489A34AE2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8E84C79-88F7-4777-A7C4-FB5138AE3CF4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D7DB60F-B714-4D96-9C73-B5C8CE27B28F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2804365-8FA2-4CB6-BEE2-02A9199B3AFB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FC63DC4-47B6-49F6-AA57-ACE1F09A7AA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89846D-61FD-4B3E-8F48-3860437BAB49}" type="slidenum">
              <a:t>&lt;#&gt;</a:t>
            </a:fld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7EB3178-0968-4BB2-832E-7867E2672C2B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AE041BEB-40D3-44EB-AD67-1E6DFDA920F5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5A1376D1-6289-4505-8715-E612486D8BA4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C4E0C23D-608C-48B1-8243-2D0FB66B73D6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6B6FC809-4BD6-4B55-9C58-84803C20B3C1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06A0EC1F-5147-4D3F-9B26-8ABC681AECB1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292F0D71-B1A0-496C-B74B-FD924E31E872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5326112B-E8F6-40AA-B4DF-5267BF4A1139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6104E672-0D10-4FE3-AF52-1C3914B479AD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103DB98A-BCC6-408E-9E96-3F443A87FE6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85288-EA7F-48DF-8A9D-C461110F4CF8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1F141E99-8F12-4D72-A383-DB0FD5E4C0A9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97C7417B-BA99-421C-A947-EC46D8851023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8DFA3A00-5C9D-4DAA-8CB3-3F1662095572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FE8A10A-55A2-4439-8062-3145258D7CA5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FF6130D-CEE2-4A53-9934-BF7DA00FA8FB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BDD3ACE-3ABB-4F60-B284-6ABA93BDA250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9E6D2E8-73C6-47FE-B94E-CD63F88BC14B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0F1453B-AAC3-4A04-96B2-BD583BD3EAA8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B6D48EB-5215-4635-BF0F-78EE3670F95F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5EF5FA7-FA1C-4763-A8BF-3F46B0CA809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8BE49-97E8-4A45-82B5-B3110E9659D0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C12FE2C-22D1-490F-9067-7670F25861DD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AB664F7-932C-4C16-BAD5-FAE92A32473C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6242FD3-594B-4B9A-BBD1-A5ADF94A6561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0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34E3C92-0983-4A16-8203-D9FBCC4585B1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5D9C4B9-D43A-45FE-B80E-AC9AD5372BB8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26F4385-06DE-4BC9-8D35-3AAC4257B209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70F2538-06B3-489B-AE0B-599C292B2434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5436B2B-02A4-4252-9C6B-9922140C4DF0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9883706-FF24-40F4-8EE4-FDB0E5D8E86C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DBB66B8-6F91-4E5F-A45B-13F3DCEA95A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2B60F-172F-460A-A027-92408BB6ACAC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95B7C7E-BC2F-43DD-A747-DD7D308E1587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195045B-96AD-4058-A267-76319BB80047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5BCBBA4-8F44-4E02-8852-5D07F519B813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01D5CA8-3600-4613-9E01-111178D8E264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8C765A9-0343-4950-B311-3D6E1048E02C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4C90656-856E-48D3-A9D8-AE5D39183FB9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149235C-D138-4D13-8B9C-67E9D03EA2CE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531C933-14FA-474F-BD82-9CF88554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00D83C0-28D6-4BA2-A268-CC90037D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E1DF4A7-DEF6-4689-93D6-33EBB221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189.xml"/><Relationship Id="rId4" Type="http://schemas.openxmlformats.org/officeDocument/2006/relationships/slideLayout" Target="../slideLayouts/slideLayout1190.xml"/><Relationship Id="rId5" Type="http://schemas.openxmlformats.org/officeDocument/2006/relationships/slideLayout" Target="../slideLayouts/slideLayout1191.xml"/><Relationship Id="rId6" Type="http://schemas.openxmlformats.org/officeDocument/2006/relationships/slideLayout" Target="../slideLayouts/slideLayout1192.xml"/><Relationship Id="rId7" Type="http://schemas.openxmlformats.org/officeDocument/2006/relationships/slideLayout" Target="../slideLayouts/slideLayout1193.xml"/><Relationship Id="rId8" Type="http://schemas.openxmlformats.org/officeDocument/2006/relationships/slideLayout" Target="../slideLayouts/slideLayout1194.xml"/><Relationship Id="rId9" Type="http://schemas.openxmlformats.org/officeDocument/2006/relationships/slideLayout" Target="../slideLayouts/slideLayout1195.xml"/><Relationship Id="rId10" Type="http://schemas.openxmlformats.org/officeDocument/2006/relationships/slideLayout" Target="../slideLayouts/slideLayout1196.xml"/><Relationship Id="rId11" Type="http://schemas.openxmlformats.org/officeDocument/2006/relationships/slideLayout" Target="../slideLayouts/slideLayout1197.xml"/><Relationship Id="rId12" Type="http://schemas.openxmlformats.org/officeDocument/2006/relationships/slideLayout" Target="../slideLayouts/slideLayout1198.xml"/><Relationship Id="rId13" Type="http://schemas.openxmlformats.org/officeDocument/2006/relationships/slideLayout" Target="../slideLayouts/slideLayout1199.xml"/><Relationship Id="rId14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01.xml"/><Relationship Id="rId4" Type="http://schemas.openxmlformats.org/officeDocument/2006/relationships/slideLayout" Target="../slideLayouts/slideLayout1202.xml"/><Relationship Id="rId5" Type="http://schemas.openxmlformats.org/officeDocument/2006/relationships/slideLayout" Target="../slideLayouts/slideLayout1203.xml"/><Relationship Id="rId6" Type="http://schemas.openxmlformats.org/officeDocument/2006/relationships/slideLayout" Target="../slideLayouts/slideLayout1204.xml"/><Relationship Id="rId7" Type="http://schemas.openxmlformats.org/officeDocument/2006/relationships/slideLayout" Target="../slideLayouts/slideLayout1205.xml"/><Relationship Id="rId8" Type="http://schemas.openxmlformats.org/officeDocument/2006/relationships/slideLayout" Target="../slideLayouts/slideLayout1206.xml"/><Relationship Id="rId9" Type="http://schemas.openxmlformats.org/officeDocument/2006/relationships/slideLayout" Target="../slideLayouts/slideLayout1207.xml"/><Relationship Id="rId10" Type="http://schemas.openxmlformats.org/officeDocument/2006/relationships/slideLayout" Target="../slideLayouts/slideLayout1208.xml"/><Relationship Id="rId11" Type="http://schemas.openxmlformats.org/officeDocument/2006/relationships/slideLayout" Target="../slideLayouts/slideLayout1209.xml"/><Relationship Id="rId12" Type="http://schemas.openxmlformats.org/officeDocument/2006/relationships/slideLayout" Target="../slideLayouts/slideLayout1210.xml"/><Relationship Id="rId13" Type="http://schemas.openxmlformats.org/officeDocument/2006/relationships/slideLayout" Target="../slideLayouts/slideLayout1211.xml"/><Relationship Id="rId14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3.xml"/><Relationship Id="rId4" Type="http://schemas.openxmlformats.org/officeDocument/2006/relationships/slideLayout" Target="../slideLayouts/slideLayout1214.xml"/><Relationship Id="rId5" Type="http://schemas.openxmlformats.org/officeDocument/2006/relationships/slideLayout" Target="../slideLayouts/slideLayout1215.xml"/><Relationship Id="rId6" Type="http://schemas.openxmlformats.org/officeDocument/2006/relationships/slideLayout" Target="../slideLayouts/slideLayout1216.xml"/><Relationship Id="rId7" Type="http://schemas.openxmlformats.org/officeDocument/2006/relationships/slideLayout" Target="../slideLayouts/slideLayout1217.xml"/><Relationship Id="rId8" Type="http://schemas.openxmlformats.org/officeDocument/2006/relationships/slideLayout" Target="../slideLayouts/slideLayout1218.xml"/><Relationship Id="rId9" Type="http://schemas.openxmlformats.org/officeDocument/2006/relationships/slideLayout" Target="../slideLayouts/slideLayout1219.xml"/><Relationship Id="rId10" Type="http://schemas.openxmlformats.org/officeDocument/2006/relationships/slideLayout" Target="../slideLayouts/slideLayout1220.xml"/><Relationship Id="rId11" Type="http://schemas.openxmlformats.org/officeDocument/2006/relationships/slideLayout" Target="../slideLayouts/slideLayout1221.xml"/><Relationship Id="rId12" Type="http://schemas.openxmlformats.org/officeDocument/2006/relationships/slideLayout" Target="../slideLayouts/slideLayout1222.xml"/><Relationship Id="rId13" Type="http://schemas.openxmlformats.org/officeDocument/2006/relationships/slideLayout" Target="../slideLayouts/slideLayout1223.xml"/><Relationship Id="rId14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25.xml"/><Relationship Id="rId4" Type="http://schemas.openxmlformats.org/officeDocument/2006/relationships/slideLayout" Target="../slideLayouts/slideLayout1226.xml"/><Relationship Id="rId5" Type="http://schemas.openxmlformats.org/officeDocument/2006/relationships/slideLayout" Target="../slideLayouts/slideLayout1227.xml"/><Relationship Id="rId6" Type="http://schemas.openxmlformats.org/officeDocument/2006/relationships/slideLayout" Target="../slideLayouts/slideLayout1228.xml"/><Relationship Id="rId7" Type="http://schemas.openxmlformats.org/officeDocument/2006/relationships/slideLayout" Target="../slideLayouts/slideLayout1229.xml"/><Relationship Id="rId8" Type="http://schemas.openxmlformats.org/officeDocument/2006/relationships/slideLayout" Target="../slideLayouts/slideLayout1230.xml"/><Relationship Id="rId9" Type="http://schemas.openxmlformats.org/officeDocument/2006/relationships/slideLayout" Target="../slideLayouts/slideLayout1231.xml"/><Relationship Id="rId10" Type="http://schemas.openxmlformats.org/officeDocument/2006/relationships/slideLayout" Target="../slideLayouts/slideLayout1232.xml"/><Relationship Id="rId11" Type="http://schemas.openxmlformats.org/officeDocument/2006/relationships/slideLayout" Target="../slideLayouts/slideLayout1233.xml"/><Relationship Id="rId12" Type="http://schemas.openxmlformats.org/officeDocument/2006/relationships/slideLayout" Target="../slideLayouts/slideLayout1234.xml"/><Relationship Id="rId13" Type="http://schemas.openxmlformats.org/officeDocument/2006/relationships/slideLayout" Target="../slideLayouts/slideLayout1235.xml"/><Relationship Id="rId14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37.xml"/><Relationship Id="rId4" Type="http://schemas.openxmlformats.org/officeDocument/2006/relationships/slideLayout" Target="../slideLayouts/slideLayout1238.xml"/><Relationship Id="rId5" Type="http://schemas.openxmlformats.org/officeDocument/2006/relationships/slideLayout" Target="../slideLayouts/slideLayout1239.xml"/><Relationship Id="rId6" Type="http://schemas.openxmlformats.org/officeDocument/2006/relationships/slideLayout" Target="../slideLayouts/slideLayout1240.xml"/><Relationship Id="rId7" Type="http://schemas.openxmlformats.org/officeDocument/2006/relationships/slideLayout" Target="../slideLayouts/slideLayout1241.xml"/><Relationship Id="rId8" Type="http://schemas.openxmlformats.org/officeDocument/2006/relationships/slideLayout" Target="../slideLayouts/slideLayout1242.xml"/><Relationship Id="rId9" Type="http://schemas.openxmlformats.org/officeDocument/2006/relationships/slideLayout" Target="../slideLayouts/slideLayout1243.xml"/><Relationship Id="rId10" Type="http://schemas.openxmlformats.org/officeDocument/2006/relationships/slideLayout" Target="../slideLayouts/slideLayout1244.xml"/><Relationship Id="rId11" Type="http://schemas.openxmlformats.org/officeDocument/2006/relationships/slideLayout" Target="../slideLayouts/slideLayout1245.xml"/><Relationship Id="rId12" Type="http://schemas.openxmlformats.org/officeDocument/2006/relationships/slideLayout" Target="../slideLayouts/slideLayout1246.xml"/><Relationship Id="rId13" Type="http://schemas.openxmlformats.org/officeDocument/2006/relationships/slideLayout" Target="../slideLayouts/slideLayout1247.xml"/><Relationship Id="rId14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49.xml"/><Relationship Id="rId4" Type="http://schemas.openxmlformats.org/officeDocument/2006/relationships/slideLayout" Target="../slideLayouts/slideLayout1250.xml"/><Relationship Id="rId5" Type="http://schemas.openxmlformats.org/officeDocument/2006/relationships/slideLayout" Target="../slideLayouts/slideLayout1251.xml"/><Relationship Id="rId6" Type="http://schemas.openxmlformats.org/officeDocument/2006/relationships/slideLayout" Target="../slideLayouts/slideLayout1252.xml"/><Relationship Id="rId7" Type="http://schemas.openxmlformats.org/officeDocument/2006/relationships/slideLayout" Target="../slideLayouts/slideLayout1253.xml"/><Relationship Id="rId8" Type="http://schemas.openxmlformats.org/officeDocument/2006/relationships/slideLayout" Target="../slideLayouts/slideLayout1254.xml"/><Relationship Id="rId9" Type="http://schemas.openxmlformats.org/officeDocument/2006/relationships/slideLayout" Target="../slideLayouts/slideLayout1255.xml"/><Relationship Id="rId10" Type="http://schemas.openxmlformats.org/officeDocument/2006/relationships/slideLayout" Target="../slideLayouts/slideLayout1256.xml"/><Relationship Id="rId11" Type="http://schemas.openxmlformats.org/officeDocument/2006/relationships/slideLayout" Target="../slideLayouts/slideLayout1257.xml"/><Relationship Id="rId12" Type="http://schemas.openxmlformats.org/officeDocument/2006/relationships/slideLayout" Target="../slideLayouts/slideLayout1258.xml"/><Relationship Id="rId13" Type="http://schemas.openxmlformats.org/officeDocument/2006/relationships/slideLayout" Target="../slideLayouts/slideLayout1259.xml"/><Relationship Id="rId14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61.xml"/><Relationship Id="rId4" Type="http://schemas.openxmlformats.org/officeDocument/2006/relationships/slideLayout" Target="../slideLayouts/slideLayout1262.xml"/><Relationship Id="rId5" Type="http://schemas.openxmlformats.org/officeDocument/2006/relationships/slideLayout" Target="../slideLayouts/slideLayout1263.xml"/><Relationship Id="rId6" Type="http://schemas.openxmlformats.org/officeDocument/2006/relationships/slideLayout" Target="../slideLayouts/slideLayout1264.xml"/><Relationship Id="rId7" Type="http://schemas.openxmlformats.org/officeDocument/2006/relationships/slideLayout" Target="../slideLayouts/slideLayout1265.xml"/><Relationship Id="rId8" Type="http://schemas.openxmlformats.org/officeDocument/2006/relationships/slideLayout" Target="../slideLayouts/slideLayout1266.xml"/><Relationship Id="rId9" Type="http://schemas.openxmlformats.org/officeDocument/2006/relationships/slideLayout" Target="../slideLayouts/slideLayout1267.xml"/><Relationship Id="rId10" Type="http://schemas.openxmlformats.org/officeDocument/2006/relationships/slideLayout" Target="../slideLayouts/slideLayout1268.xml"/><Relationship Id="rId11" Type="http://schemas.openxmlformats.org/officeDocument/2006/relationships/slideLayout" Target="../slideLayouts/slideLayout1269.xml"/><Relationship Id="rId12" Type="http://schemas.openxmlformats.org/officeDocument/2006/relationships/slideLayout" Target="../slideLayouts/slideLayout1270.xml"/><Relationship Id="rId13" Type="http://schemas.openxmlformats.org/officeDocument/2006/relationships/slideLayout" Target="../slideLayouts/slideLayout1271.xml"/><Relationship Id="rId14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73.xml"/><Relationship Id="rId4" Type="http://schemas.openxmlformats.org/officeDocument/2006/relationships/slideLayout" Target="../slideLayouts/slideLayout1274.xml"/><Relationship Id="rId5" Type="http://schemas.openxmlformats.org/officeDocument/2006/relationships/slideLayout" Target="../slideLayouts/slideLayout1275.xml"/><Relationship Id="rId6" Type="http://schemas.openxmlformats.org/officeDocument/2006/relationships/slideLayout" Target="../slideLayouts/slideLayout1276.xml"/><Relationship Id="rId7" Type="http://schemas.openxmlformats.org/officeDocument/2006/relationships/slideLayout" Target="../slideLayouts/slideLayout1277.xml"/><Relationship Id="rId8" Type="http://schemas.openxmlformats.org/officeDocument/2006/relationships/slideLayout" Target="../slideLayouts/slideLayout1278.xml"/><Relationship Id="rId9" Type="http://schemas.openxmlformats.org/officeDocument/2006/relationships/slideLayout" Target="../slideLayouts/slideLayout1279.xml"/><Relationship Id="rId10" Type="http://schemas.openxmlformats.org/officeDocument/2006/relationships/slideLayout" Target="../slideLayouts/slideLayout1280.xml"/><Relationship Id="rId11" Type="http://schemas.openxmlformats.org/officeDocument/2006/relationships/slideLayout" Target="../slideLayouts/slideLayout1281.xml"/><Relationship Id="rId12" Type="http://schemas.openxmlformats.org/officeDocument/2006/relationships/slideLayout" Target="../slideLayouts/slideLayout1282.xml"/><Relationship Id="rId13" Type="http://schemas.openxmlformats.org/officeDocument/2006/relationships/slideLayout" Target="../slideLayouts/slideLayout1283.xml"/><Relationship Id="rId14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21.xml"/><Relationship Id="rId4" Type="http://schemas.openxmlformats.org/officeDocument/2006/relationships/slideLayout" Target="../slideLayouts/slideLayout1022.xml"/><Relationship Id="rId5" Type="http://schemas.openxmlformats.org/officeDocument/2006/relationships/slideLayout" Target="../slideLayouts/slideLayout1023.xml"/><Relationship Id="rId6" Type="http://schemas.openxmlformats.org/officeDocument/2006/relationships/slideLayout" Target="../slideLayouts/slideLayout1024.xml"/><Relationship Id="rId7" Type="http://schemas.openxmlformats.org/officeDocument/2006/relationships/slideLayout" Target="../slideLayouts/slideLayout1025.xml"/><Relationship Id="rId8" Type="http://schemas.openxmlformats.org/officeDocument/2006/relationships/slideLayout" Target="../slideLayouts/slideLayout1026.xml"/><Relationship Id="rId9" Type="http://schemas.openxmlformats.org/officeDocument/2006/relationships/slideLayout" Target="../slideLayouts/slideLayout1027.xml"/><Relationship Id="rId10" Type="http://schemas.openxmlformats.org/officeDocument/2006/relationships/slideLayout" Target="../slideLayouts/slideLayout1028.xml"/><Relationship Id="rId11" Type="http://schemas.openxmlformats.org/officeDocument/2006/relationships/slideLayout" Target="../slideLayouts/slideLayout1029.xml"/><Relationship Id="rId12" Type="http://schemas.openxmlformats.org/officeDocument/2006/relationships/slideLayout" Target="../slideLayouts/slideLayout1030.xml"/><Relationship Id="rId13" Type="http://schemas.openxmlformats.org/officeDocument/2006/relationships/slideLayout" Target="../slideLayouts/slideLayout1031.xml"/><Relationship Id="rId14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3.xml"/><Relationship Id="rId4" Type="http://schemas.openxmlformats.org/officeDocument/2006/relationships/slideLayout" Target="../slideLayouts/slideLayout1094.xml"/><Relationship Id="rId5" Type="http://schemas.openxmlformats.org/officeDocument/2006/relationships/slideLayout" Target="../slideLayouts/slideLayout1095.xml"/><Relationship Id="rId6" Type="http://schemas.openxmlformats.org/officeDocument/2006/relationships/slideLayout" Target="../slideLayouts/slideLayout1096.xml"/><Relationship Id="rId7" Type="http://schemas.openxmlformats.org/officeDocument/2006/relationships/slideLayout" Target="../slideLayouts/slideLayout1097.xml"/><Relationship Id="rId8" Type="http://schemas.openxmlformats.org/officeDocument/2006/relationships/slideLayout" Target="../slideLayouts/slideLayout1098.xml"/><Relationship Id="rId9" Type="http://schemas.openxmlformats.org/officeDocument/2006/relationships/slideLayout" Target="../slideLayouts/slideLayout1099.xml"/><Relationship Id="rId10" Type="http://schemas.openxmlformats.org/officeDocument/2006/relationships/slideLayout" Target="../slideLayouts/slideLayout1100.xml"/><Relationship Id="rId11" Type="http://schemas.openxmlformats.org/officeDocument/2006/relationships/slideLayout" Target="../slideLayouts/slideLayout1101.xml"/><Relationship Id="rId12" Type="http://schemas.openxmlformats.org/officeDocument/2006/relationships/slideLayout" Target="../slideLayouts/slideLayout1102.xml"/><Relationship Id="rId13" Type="http://schemas.openxmlformats.org/officeDocument/2006/relationships/slideLayout" Target="../slideLayouts/slideLayout1103.xml"/><Relationship Id="rId14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105.xml"/><Relationship Id="rId4" Type="http://schemas.openxmlformats.org/officeDocument/2006/relationships/slideLayout" Target="../slideLayouts/slideLayout1106.xml"/><Relationship Id="rId5" Type="http://schemas.openxmlformats.org/officeDocument/2006/relationships/slideLayout" Target="../slideLayouts/slideLayout1107.xml"/><Relationship Id="rId6" Type="http://schemas.openxmlformats.org/officeDocument/2006/relationships/slideLayout" Target="../slideLayouts/slideLayout1108.xml"/><Relationship Id="rId7" Type="http://schemas.openxmlformats.org/officeDocument/2006/relationships/slideLayout" Target="../slideLayouts/slideLayout1109.xml"/><Relationship Id="rId8" Type="http://schemas.openxmlformats.org/officeDocument/2006/relationships/slideLayout" Target="../slideLayouts/slideLayout1110.xml"/><Relationship Id="rId9" Type="http://schemas.openxmlformats.org/officeDocument/2006/relationships/slideLayout" Target="../slideLayouts/slideLayout1111.xml"/><Relationship Id="rId10" Type="http://schemas.openxmlformats.org/officeDocument/2006/relationships/slideLayout" Target="../slideLayouts/slideLayout1112.xml"/><Relationship Id="rId11" Type="http://schemas.openxmlformats.org/officeDocument/2006/relationships/slideLayout" Target="../slideLayouts/slideLayout1113.xml"/><Relationship Id="rId12" Type="http://schemas.openxmlformats.org/officeDocument/2006/relationships/slideLayout" Target="../slideLayouts/slideLayout1114.xml"/><Relationship Id="rId13" Type="http://schemas.openxmlformats.org/officeDocument/2006/relationships/slideLayout" Target="../slideLayouts/slideLayout1115.xml"/><Relationship Id="rId14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117.xml"/><Relationship Id="rId4" Type="http://schemas.openxmlformats.org/officeDocument/2006/relationships/slideLayout" Target="../slideLayouts/slideLayout1118.xml"/><Relationship Id="rId5" Type="http://schemas.openxmlformats.org/officeDocument/2006/relationships/slideLayout" Target="../slideLayouts/slideLayout1119.xml"/><Relationship Id="rId6" Type="http://schemas.openxmlformats.org/officeDocument/2006/relationships/slideLayout" Target="../slideLayouts/slideLayout1120.xml"/><Relationship Id="rId7" Type="http://schemas.openxmlformats.org/officeDocument/2006/relationships/slideLayout" Target="../slideLayouts/slideLayout1121.xml"/><Relationship Id="rId8" Type="http://schemas.openxmlformats.org/officeDocument/2006/relationships/slideLayout" Target="../slideLayouts/slideLayout1122.xml"/><Relationship Id="rId9" Type="http://schemas.openxmlformats.org/officeDocument/2006/relationships/slideLayout" Target="../slideLayouts/slideLayout1123.xml"/><Relationship Id="rId10" Type="http://schemas.openxmlformats.org/officeDocument/2006/relationships/slideLayout" Target="../slideLayouts/slideLayout1124.xml"/><Relationship Id="rId11" Type="http://schemas.openxmlformats.org/officeDocument/2006/relationships/slideLayout" Target="../slideLayouts/slideLayout1125.xml"/><Relationship Id="rId12" Type="http://schemas.openxmlformats.org/officeDocument/2006/relationships/slideLayout" Target="../slideLayouts/slideLayout1126.xml"/><Relationship Id="rId13" Type="http://schemas.openxmlformats.org/officeDocument/2006/relationships/slideLayout" Target="../slideLayouts/slideLayout1127.xml"/><Relationship Id="rId14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129.xml"/><Relationship Id="rId4" Type="http://schemas.openxmlformats.org/officeDocument/2006/relationships/slideLayout" Target="../slideLayouts/slideLayout1130.xml"/><Relationship Id="rId5" Type="http://schemas.openxmlformats.org/officeDocument/2006/relationships/slideLayout" Target="../slideLayouts/slideLayout1131.xml"/><Relationship Id="rId6" Type="http://schemas.openxmlformats.org/officeDocument/2006/relationships/slideLayout" Target="../slideLayouts/slideLayout1132.xml"/><Relationship Id="rId7" Type="http://schemas.openxmlformats.org/officeDocument/2006/relationships/slideLayout" Target="../slideLayouts/slideLayout1133.xml"/><Relationship Id="rId8" Type="http://schemas.openxmlformats.org/officeDocument/2006/relationships/slideLayout" Target="../slideLayouts/slideLayout1134.xml"/><Relationship Id="rId9" Type="http://schemas.openxmlformats.org/officeDocument/2006/relationships/slideLayout" Target="../slideLayouts/slideLayout1135.xml"/><Relationship Id="rId10" Type="http://schemas.openxmlformats.org/officeDocument/2006/relationships/slideLayout" Target="../slideLayouts/slideLayout1136.xml"/><Relationship Id="rId11" Type="http://schemas.openxmlformats.org/officeDocument/2006/relationships/slideLayout" Target="../slideLayouts/slideLayout1137.xml"/><Relationship Id="rId12" Type="http://schemas.openxmlformats.org/officeDocument/2006/relationships/slideLayout" Target="../slideLayouts/slideLayout1138.xml"/><Relationship Id="rId13" Type="http://schemas.openxmlformats.org/officeDocument/2006/relationships/slideLayout" Target="../slideLayouts/slideLayout1139.xml"/><Relationship Id="rId14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153.xml"/><Relationship Id="rId4" Type="http://schemas.openxmlformats.org/officeDocument/2006/relationships/slideLayout" Target="../slideLayouts/slideLayout1154.xml"/><Relationship Id="rId5" Type="http://schemas.openxmlformats.org/officeDocument/2006/relationships/slideLayout" Target="../slideLayouts/slideLayout1155.xml"/><Relationship Id="rId6" Type="http://schemas.openxmlformats.org/officeDocument/2006/relationships/slideLayout" Target="../slideLayouts/slideLayout1156.xml"/><Relationship Id="rId7" Type="http://schemas.openxmlformats.org/officeDocument/2006/relationships/slideLayout" Target="../slideLayouts/slideLayout1157.xml"/><Relationship Id="rId8" Type="http://schemas.openxmlformats.org/officeDocument/2006/relationships/slideLayout" Target="../slideLayouts/slideLayout1158.xml"/><Relationship Id="rId9" Type="http://schemas.openxmlformats.org/officeDocument/2006/relationships/slideLayout" Target="../slideLayouts/slideLayout1159.xml"/><Relationship Id="rId10" Type="http://schemas.openxmlformats.org/officeDocument/2006/relationships/slideLayout" Target="../slideLayouts/slideLayout1160.xml"/><Relationship Id="rId11" Type="http://schemas.openxmlformats.org/officeDocument/2006/relationships/slideLayout" Target="../slideLayouts/slideLayout1161.xml"/><Relationship Id="rId12" Type="http://schemas.openxmlformats.org/officeDocument/2006/relationships/slideLayout" Target="../slideLayouts/slideLayout1162.xml"/><Relationship Id="rId13" Type="http://schemas.openxmlformats.org/officeDocument/2006/relationships/slideLayout" Target="../slideLayouts/slideLayout1163.xml"/><Relationship Id="rId14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165.xml"/><Relationship Id="rId4" Type="http://schemas.openxmlformats.org/officeDocument/2006/relationships/slideLayout" Target="../slideLayouts/slideLayout1166.xml"/><Relationship Id="rId5" Type="http://schemas.openxmlformats.org/officeDocument/2006/relationships/slideLayout" Target="../slideLayouts/slideLayout1167.xml"/><Relationship Id="rId6" Type="http://schemas.openxmlformats.org/officeDocument/2006/relationships/slideLayout" Target="../slideLayouts/slideLayout1168.xml"/><Relationship Id="rId7" Type="http://schemas.openxmlformats.org/officeDocument/2006/relationships/slideLayout" Target="../slideLayouts/slideLayout1169.xml"/><Relationship Id="rId8" Type="http://schemas.openxmlformats.org/officeDocument/2006/relationships/slideLayout" Target="../slideLayouts/slideLayout1170.xml"/><Relationship Id="rId9" Type="http://schemas.openxmlformats.org/officeDocument/2006/relationships/slideLayout" Target="../slideLayouts/slideLayout1171.xml"/><Relationship Id="rId10" Type="http://schemas.openxmlformats.org/officeDocument/2006/relationships/slideLayout" Target="../slideLayouts/slideLayout1172.xml"/><Relationship Id="rId11" Type="http://schemas.openxmlformats.org/officeDocument/2006/relationships/slideLayout" Target="../slideLayouts/slideLayout1173.xml"/><Relationship Id="rId12" Type="http://schemas.openxmlformats.org/officeDocument/2006/relationships/slideLayout" Target="../slideLayouts/slideLayout1174.xml"/><Relationship Id="rId13" Type="http://schemas.openxmlformats.org/officeDocument/2006/relationships/slideLayout" Target="../slideLayouts/slideLayout1175.xml"/><Relationship Id="rId14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177.xml"/><Relationship Id="rId4" Type="http://schemas.openxmlformats.org/officeDocument/2006/relationships/slideLayout" Target="../slideLayouts/slideLayout1178.xml"/><Relationship Id="rId5" Type="http://schemas.openxmlformats.org/officeDocument/2006/relationships/slideLayout" Target="../slideLayouts/slideLayout1179.xml"/><Relationship Id="rId6" Type="http://schemas.openxmlformats.org/officeDocument/2006/relationships/slideLayout" Target="../slideLayouts/slideLayout1180.xml"/><Relationship Id="rId7" Type="http://schemas.openxmlformats.org/officeDocument/2006/relationships/slideLayout" Target="../slideLayouts/slideLayout1181.xml"/><Relationship Id="rId8" Type="http://schemas.openxmlformats.org/officeDocument/2006/relationships/slideLayout" Target="../slideLayouts/slideLayout1182.xml"/><Relationship Id="rId9" Type="http://schemas.openxmlformats.org/officeDocument/2006/relationships/slideLayout" Target="../slideLayouts/slideLayout1183.xml"/><Relationship Id="rId10" Type="http://schemas.openxmlformats.org/officeDocument/2006/relationships/slideLayout" Target="../slideLayouts/slideLayout1184.xml"/><Relationship Id="rId11" Type="http://schemas.openxmlformats.org/officeDocument/2006/relationships/slideLayout" Target="../slideLayouts/slideLayout1185.xml"/><Relationship Id="rId12" Type="http://schemas.openxmlformats.org/officeDocument/2006/relationships/slideLayout" Target="../slideLayouts/slideLayout1186.xml"/><Relationship Id="rId13" Type="http://schemas.openxmlformats.org/officeDocument/2006/relationships/slideLayout" Target="../slideLayouts/slideLayout1187.xml"/><Relationship Id="rId14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0070-A608-4B30-97E4-28958060198C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C644-F3DA-4DC9-8B87-CE7AA3B7254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7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 type="ftr" idx="2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PlaceHolder 4"/>
          <p:cNvSpPr>
            <a:spLocks noGrp="1"/>
          </p:cNvSpPr>
          <p:nvPr>
            <p:ph type="sldNum" idx="20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CF34-AF02-4FE1-9676-036A2CA84BE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3"/>
    <p:sldLayoutId id="2147484937" r:id="rId4"/>
    <p:sldLayoutId id="2147484938" r:id="rId5"/>
    <p:sldLayoutId id="2147484939" r:id="rId6"/>
    <p:sldLayoutId id="2147484940" r:id="rId7"/>
    <p:sldLayoutId id="2147484941" r:id="rId8"/>
    <p:sldLayoutId id="2147484942" r:id="rId9"/>
    <p:sldLayoutId id="2147484943" r:id="rId10"/>
    <p:sldLayoutId id="2147484944" r:id="rId11"/>
    <p:sldLayoutId id="2147484945" r:id="rId12"/>
    <p:sldLayoutId id="2147484946" r:id="rId13"/>
    <p:sldLayoutId id="2147484947" r:id="rId14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0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3" name="PlaceHolder 3"/>
          <p:cNvSpPr>
            <a:spLocks noGrp="1"/>
          </p:cNvSpPr>
          <p:nvPr>
            <p:ph type="ftr" idx="20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PlaceHolder 4"/>
          <p:cNvSpPr>
            <a:spLocks noGrp="1"/>
          </p:cNvSpPr>
          <p:nvPr>
            <p:ph type="sldNum" idx="20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8081-71B7-491D-ACCB-C739F1AF907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3"/>
    <p:sldLayoutId id="2147484950" r:id="rId4"/>
    <p:sldLayoutId id="2147484951" r:id="rId5"/>
    <p:sldLayoutId id="2147484952" r:id="rId6"/>
    <p:sldLayoutId id="2147484953" r:id="rId7"/>
    <p:sldLayoutId id="2147484954" r:id="rId8"/>
    <p:sldLayoutId id="2147484955" r:id="rId9"/>
    <p:sldLayoutId id="2147484956" r:id="rId10"/>
    <p:sldLayoutId id="2147484957" r:id="rId11"/>
    <p:sldLayoutId id="2147484958" r:id="rId12"/>
    <p:sldLayoutId id="2147484959" r:id="rId13"/>
    <p:sldLayoutId id="2147484960" r:id="rId14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3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5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6" name="PlaceHolder 3"/>
          <p:cNvSpPr>
            <a:spLocks noGrp="1"/>
          </p:cNvSpPr>
          <p:nvPr>
            <p:ph type="ftr" idx="2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PlaceHolder 4"/>
          <p:cNvSpPr>
            <a:spLocks noGrp="1"/>
          </p:cNvSpPr>
          <p:nvPr>
            <p:ph type="sldNum" idx="2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F7CD-99F5-432F-BA30-F597E0AE435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3"/>
    <p:sldLayoutId id="2147484963" r:id="rId4"/>
    <p:sldLayoutId id="2147484964" r:id="rId5"/>
    <p:sldLayoutId id="2147484965" r:id="rId6"/>
    <p:sldLayoutId id="2147484966" r:id="rId7"/>
    <p:sldLayoutId id="2147484967" r:id="rId8"/>
    <p:sldLayoutId id="2147484968" r:id="rId9"/>
    <p:sldLayoutId id="2147484969" r:id="rId10"/>
    <p:sldLayoutId id="2147484970" r:id="rId11"/>
    <p:sldLayoutId id="2147484971" r:id="rId12"/>
    <p:sldLayoutId id="2147484972" r:id="rId13"/>
    <p:sldLayoutId id="2147484973" r:id="rId14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4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6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8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9" name="PlaceHolder 3"/>
          <p:cNvSpPr>
            <a:spLocks noGrp="1"/>
          </p:cNvSpPr>
          <p:nvPr>
            <p:ph type="ftr" idx="2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PlaceHolder 4"/>
          <p:cNvSpPr>
            <a:spLocks noGrp="1"/>
          </p:cNvSpPr>
          <p:nvPr>
            <p:ph type="sldNum" idx="2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DEF7-6B8D-40DD-BD7C-F33A6411F38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3"/>
    <p:sldLayoutId id="2147484976" r:id="rId4"/>
    <p:sldLayoutId id="2147484977" r:id="rId5"/>
    <p:sldLayoutId id="2147484978" r:id="rId6"/>
    <p:sldLayoutId id="2147484979" r:id="rId7"/>
    <p:sldLayoutId id="2147484980" r:id="rId8"/>
    <p:sldLayoutId id="2147484981" r:id="rId9"/>
    <p:sldLayoutId id="2147484982" r:id="rId10"/>
    <p:sldLayoutId id="2147484983" r:id="rId11"/>
    <p:sldLayoutId id="2147484984" r:id="rId12"/>
    <p:sldLayoutId id="2147484985" r:id="rId13"/>
    <p:sldLayoutId id="2147484986" r:id="rId14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9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1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2" name="PlaceHolder 3"/>
          <p:cNvSpPr>
            <a:spLocks noGrp="1"/>
          </p:cNvSpPr>
          <p:nvPr>
            <p:ph type="ftr" idx="2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PlaceHolder 4"/>
          <p:cNvSpPr>
            <a:spLocks noGrp="1"/>
          </p:cNvSpPr>
          <p:nvPr>
            <p:ph type="sldNum" idx="2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21D2-ADFE-486B-96E8-D2D80998FC8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3"/>
    <p:sldLayoutId id="2147484989" r:id="rId4"/>
    <p:sldLayoutId id="2147484990" r:id="rId5"/>
    <p:sldLayoutId id="2147484991" r:id="rId6"/>
    <p:sldLayoutId id="2147484992" r:id="rId7"/>
    <p:sldLayoutId id="2147484993" r:id="rId8"/>
    <p:sldLayoutId id="2147484994" r:id="rId9"/>
    <p:sldLayoutId id="2147484995" r:id="rId10"/>
    <p:sldLayoutId id="2147484996" r:id="rId11"/>
    <p:sldLayoutId id="2147484997" r:id="rId12"/>
    <p:sldLayoutId id="2147484998" r:id="rId13"/>
    <p:sldLayoutId id="2147484999" r:id="rId14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2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4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64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5" name="PlaceHolder 3"/>
          <p:cNvSpPr>
            <a:spLocks noGrp="1"/>
          </p:cNvSpPr>
          <p:nvPr>
            <p:ph type="ftr" idx="2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PlaceHolder 4"/>
          <p:cNvSpPr>
            <a:spLocks noGrp="1"/>
          </p:cNvSpPr>
          <p:nvPr>
            <p:ph type="sldNum" idx="2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9D02-4B8C-498A-8FA5-2B2BD42F94D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3"/>
    <p:sldLayoutId id="2147485002" r:id="rId4"/>
    <p:sldLayoutId id="2147485003" r:id="rId5"/>
    <p:sldLayoutId id="2147485004" r:id="rId6"/>
    <p:sldLayoutId id="2147485005" r:id="rId7"/>
    <p:sldLayoutId id="2147485006" r:id="rId8"/>
    <p:sldLayoutId id="2147485007" r:id="rId9"/>
    <p:sldLayoutId id="2147485008" r:id="rId10"/>
    <p:sldLayoutId id="2147485009" r:id="rId11"/>
    <p:sldLayoutId id="2147485010" r:id="rId12"/>
    <p:sldLayoutId id="2147485011" r:id="rId13"/>
    <p:sldLayoutId id="2147485012" r:id="rId14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5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5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7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8" name="PlaceHolder 3"/>
          <p:cNvSpPr>
            <a:spLocks noGrp="1"/>
          </p:cNvSpPr>
          <p:nvPr>
            <p:ph type="ftr" idx="2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PlaceHolder 4"/>
          <p:cNvSpPr>
            <a:spLocks noGrp="1"/>
          </p:cNvSpPr>
          <p:nvPr>
            <p:ph type="sldNum" idx="2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47DA-2085-478D-8C6E-95F40BC2AF4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3"/>
    <p:sldLayoutId id="2147485015" r:id="rId4"/>
    <p:sldLayoutId id="2147485016" r:id="rId5"/>
    <p:sldLayoutId id="2147485017" r:id="rId6"/>
    <p:sldLayoutId id="2147485018" r:id="rId7"/>
    <p:sldLayoutId id="2147485019" r:id="rId8"/>
    <p:sldLayoutId id="2147485020" r:id="rId9"/>
    <p:sldLayoutId id="2147485021" r:id="rId10"/>
    <p:sldLayoutId id="2147485022" r:id="rId11"/>
    <p:sldLayoutId id="2147485023" r:id="rId12"/>
    <p:sldLayoutId id="2147485024" r:id="rId13"/>
    <p:sldLayoutId id="2147485025" r:id="rId14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6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8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5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0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1" name="PlaceHolder 3"/>
          <p:cNvSpPr>
            <a:spLocks noGrp="1"/>
          </p:cNvSpPr>
          <p:nvPr>
            <p:ph type="ftr" idx="2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PlaceHolder 4"/>
          <p:cNvSpPr>
            <a:spLocks noGrp="1"/>
          </p:cNvSpPr>
          <p:nvPr>
            <p:ph type="sldNum" idx="2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141C-34BC-4457-B9D4-1273F079B6C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3"/>
    <p:sldLayoutId id="2147485028" r:id="rId4"/>
    <p:sldLayoutId id="2147485029" r:id="rId5"/>
    <p:sldLayoutId id="2147485030" r:id="rId6"/>
    <p:sldLayoutId id="2147485031" r:id="rId7"/>
    <p:sldLayoutId id="2147485032" r:id="rId8"/>
    <p:sldLayoutId id="2147485033" r:id="rId9"/>
    <p:sldLayoutId id="2147485034" r:id="rId10"/>
    <p:sldLayoutId id="2147485035" r:id="rId11"/>
    <p:sldLayoutId id="2147485036" r:id="rId12"/>
    <p:sldLayoutId id="2147485037" r:id="rId13"/>
    <p:sldLayoutId id="2147485038" r:id="rId14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Line 41"/>
          <p:cNvSpPr/>
          <p:nvPr/>
        </p:nvSpPr>
        <p:spPr>
          <a:xfrm>
            <a:off x="330120" y="1219320"/>
            <a:ext cx="8534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PlaceHolder 1"/>
          <p:cNvSpPr>
            <a:spLocks noGrp="1"/>
          </p:cNvSpPr>
          <p:nvPr>
            <p:ph type="title"/>
          </p:nvPr>
        </p:nvSpPr>
        <p:spPr>
          <a:xfrm>
            <a:off x="352440" y="340920"/>
            <a:ext cx="76485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127a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56127a"/>
              </a:solidFill>
              <a:latin typeface="Verdana"/>
            </a:endParaRPr>
          </a:p>
        </p:txBody>
      </p:sp>
      <p:sp>
        <p:nvSpPr>
          <p:cNvPr id="4591" name="PlaceHolder 2"/>
          <p:cNvSpPr>
            <a:spLocks noGrp="1"/>
          </p:cNvSpPr>
          <p:nvPr>
            <p:ph type="body"/>
          </p:nvPr>
        </p:nvSpPr>
        <p:spPr>
          <a:xfrm>
            <a:off x="1090080" y="1314360"/>
            <a:ext cx="69073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612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5612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612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6127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2" name="PlaceHolder 3"/>
          <p:cNvSpPr>
            <a:spLocks noGrp="1"/>
          </p:cNvSpPr>
          <p:nvPr>
            <p:ph type="sldNum" idx="222"/>
          </p:nvPr>
        </p:nvSpPr>
        <p:spPr>
          <a:xfrm>
            <a:off x="7785000" y="6590880"/>
            <a:ext cx="1371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F63B-85AB-4BAB-AECC-E8CA67D9E5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Line 41"/>
          <p:cNvSpPr/>
          <p:nvPr/>
        </p:nvSpPr>
        <p:spPr>
          <a:xfrm>
            <a:off x="330120" y="1219320"/>
            <a:ext cx="8534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PlaceHolder 1"/>
          <p:cNvSpPr>
            <a:spLocks noGrp="1"/>
          </p:cNvSpPr>
          <p:nvPr>
            <p:ph type="title"/>
          </p:nvPr>
        </p:nvSpPr>
        <p:spPr>
          <a:xfrm>
            <a:off x="352440" y="340920"/>
            <a:ext cx="76485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127a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56127a"/>
              </a:solidFill>
              <a:latin typeface="Verdana"/>
            </a:endParaRPr>
          </a:p>
        </p:txBody>
      </p:sp>
      <p:sp>
        <p:nvSpPr>
          <p:cNvPr id="4631" name="PlaceHolder 2"/>
          <p:cNvSpPr>
            <a:spLocks noGrp="1"/>
          </p:cNvSpPr>
          <p:nvPr>
            <p:ph type="body"/>
          </p:nvPr>
        </p:nvSpPr>
        <p:spPr>
          <a:xfrm>
            <a:off x="1090080" y="1314360"/>
            <a:ext cx="69073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612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5612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612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6127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2" name="PlaceHolder 3"/>
          <p:cNvSpPr>
            <a:spLocks noGrp="1"/>
          </p:cNvSpPr>
          <p:nvPr>
            <p:ph type="dt" idx="223"/>
          </p:nvPr>
        </p:nvSpPr>
        <p:spPr>
          <a:xfrm>
            <a:off x="2958840" y="6603480"/>
            <a:ext cx="2870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CA, Madison, WI, June 6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PlaceHolder 4"/>
          <p:cNvSpPr>
            <a:spLocks noGrp="1"/>
          </p:cNvSpPr>
          <p:nvPr>
            <p:ph type="sldNum" idx="224"/>
          </p:nvPr>
        </p:nvSpPr>
        <p:spPr>
          <a:xfrm>
            <a:off x="7785000" y="6590880"/>
            <a:ext cx="1371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vind - </a:t>
            </a:r>
            <a:fld id="{33E4D351-D0FF-4452-BF67-12C1CFA18D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2440" y="340920"/>
            <a:ext cx="76485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127a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56127a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090080" y="1314360"/>
            <a:ext cx="69073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612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5612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612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6127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21"/>
          </p:nvPr>
        </p:nvSpPr>
        <p:spPr>
          <a:xfrm>
            <a:off x="7785000" y="6590880"/>
            <a:ext cx="1371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C69B-4FCC-4FEC-86DD-2C56B996735E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41"/>
          <p:cNvSpPr/>
          <p:nvPr/>
        </p:nvSpPr>
        <p:spPr>
          <a:xfrm>
            <a:off x="330120" y="1219320"/>
            <a:ext cx="8534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52440" y="340920"/>
            <a:ext cx="76485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127a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56127a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1090080" y="1314360"/>
            <a:ext cx="69073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612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5612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612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6127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Line 41"/>
          <p:cNvSpPr/>
          <p:nvPr/>
        </p:nvSpPr>
        <p:spPr>
          <a:xfrm>
            <a:off x="330120" y="1219320"/>
            <a:ext cx="8534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52440" y="340920"/>
            <a:ext cx="76485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127a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56127a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090080" y="1314360"/>
            <a:ext cx="69073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612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5612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5612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56127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2"/>
          </p:nvPr>
        </p:nvSpPr>
        <p:spPr>
          <a:xfrm>
            <a:off x="2958840" y="6603480"/>
            <a:ext cx="2870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ISCA, Madison, WI, June 6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23"/>
          </p:nvPr>
        </p:nvSpPr>
        <p:spPr>
          <a:xfrm>
            <a:off x="7785000" y="6590880"/>
            <a:ext cx="1371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Arvind - </a:t>
            </a:r>
            <a:fld id="{9E1EA197-BB95-47F8-9D6B-5D58F8963FAA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41"/>
          <p:cNvSpPr/>
          <p:nvPr/>
        </p:nvSpPr>
        <p:spPr>
          <a:xfrm>
            <a:off x="330120" y="1219320"/>
            <a:ext cx="8534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26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1E07-7054-48E4-9B8F-0868CDDD2622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29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CB52-D266-4927-B2DF-C6D8F71C2FCB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reeform 8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3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3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787E-6D88-4FEF-B70E-918E33099BF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CBCE-5681-4965-85D0-20B888153C5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B9F8-AC5A-41CC-AFFA-068E18B2211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9448-F85F-46EB-A5BA-B15B269AD56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2658-8882-4DC6-851A-ED22A4B04490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sldNum" idx="4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987D-4673-49AB-AEE4-E4694BB65FF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1389-58B7-4E2F-B2A5-B228629FF7E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82E9-C98A-4DF6-BBA5-1065923DBFA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4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B5B2-697F-41E5-9484-FC8E26D7046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B8D8-1349-42CA-AD25-D0E581B3E67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13E0-A4C8-4123-8D2A-102B8AD773A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ftr" idx="5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sldNum" idx="5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8883-F7EC-4722-BB23-AFABB515D21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DB2C-7884-44C6-99C6-F97B0325B30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Freeform 8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5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D9BC-8552-4491-A184-373C14A37C4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 type="ftr" idx="58"/>
          </p:nvPr>
        </p:nvSpPr>
        <p:spPr>
          <a:xfrm>
            <a:off x="3124080" y="6248520"/>
            <a:ext cx="289584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 type="sldNum" idx="5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E0FF-AE00-4094-8C81-0A63A7AAAF9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C765-D1F2-4AB1-BB30-25F45B82773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1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ftr" idx="6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 type="sldNum" idx="6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CB85-3D2A-415D-8BB5-13F6E8DDDBB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4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3463-FBE1-4474-81E3-39AE4504477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6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CF87-9CF1-416F-95DA-DE6BA6CBFEE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0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ftr" idx="6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sldNum" idx="6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4FC2-917B-4F50-A4E2-3513607C1F3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3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8FDC-0E7A-4E99-8A89-62D9DB45509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6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ftr" idx="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sldNum" idx="7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F3A6-0E5E-467F-A551-45D8D9D478C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 type="ftr" idx="7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 type="sldNum" idx="7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CA71-2578-434B-B966-66F0E360348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2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62F1-0CAC-428A-AD22-632DB8EE4EC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5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7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5574-CC3E-42B0-AA2A-1F0DEFC5F0B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8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 type="ftr" idx="7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 type="sldNum" idx="7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BB04-7511-459C-920E-2D0D9B71D56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97B1-7611-493B-BFC1-906BFA86AFD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Freeform 8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dt" idx="8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ftr" idx="8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 type="sldNum" idx="8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3C41-0040-40AA-ACA9-4BC0A6CC9E5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5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sldNum" idx="8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2F8B-8A01-4AFD-8AC1-DE30873B4D3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8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3F6A-C42D-451D-B26A-4A7BC010C7A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1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 type="ftr" idx="8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 type="sldNum" idx="8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1319-64BB-488E-91F5-6897551F5B7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4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sldNum" idx="9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B868-1CA7-423D-8B94-B48D32983B1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7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 type="ftr" idx="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 type="sldNum" idx="9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2A61-DD53-417B-9945-D327F4BE60E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0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 type="ftr" idx="9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 type="sldNum" idx="9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F1AF-F9B2-4F91-9645-3EE7FAEBCE7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3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 type="sldNum" idx="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F24D-83F0-4C5E-9DFD-1EC625BC3B2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6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 type="ftr" idx="9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 type="sldNum" idx="9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691A-13A8-4B1A-ADDD-C47C7D41700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9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 type="ftr" idx="9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 type="sldNum" idx="10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3585-72C3-433C-A182-FDC605142FF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A0A9-D578-4845-A1CD-92AC87D5828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2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 type="sldNum" idx="10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9F7C-4D30-471B-BACF-E18250B180E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Freeform 8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 type="dt" idx="10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 type="ftr" idx="10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09F3-A7B0-4E2D-9273-C2C61A3B7F6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9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 type="ftr" idx="106"/>
          </p:nvPr>
        </p:nvSpPr>
        <p:spPr>
          <a:xfrm>
            <a:off x="3124080" y="6248520"/>
            <a:ext cx="289584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 type="sldNum" idx="10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D63B-44E7-49CC-BA5C-AEADDFCA3C9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2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 type="ftr" idx="10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4"/>
          <p:cNvSpPr>
            <a:spLocks noGrp="1"/>
          </p:cNvSpPr>
          <p:nvPr>
            <p:ph type="sldNum" idx="10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5A7B-2E75-4938-A24E-ABB07A8782A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5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 type="sldNum" idx="1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0687-85B3-46A1-8760-DEE16466AF6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8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 type="ftr" idx="1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 type="sldNum" idx="1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352D-2CB9-47B8-9327-7B0A150AEC5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1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 type="ftr" idx="1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 type="sldNum" idx="1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3445-8242-4C31-99FB-857B0A25B36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4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 type="sldNum" idx="1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AEE2-E23E-454F-9577-13C2B23B57B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7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 type="ftr" idx="1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 type="sldNum" idx="1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0882-7A49-4582-AD9F-0D90EFC84E5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0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3" name="PlaceHolder 3"/>
          <p:cNvSpPr>
            <a:spLocks noGrp="1"/>
          </p:cNvSpPr>
          <p:nvPr>
            <p:ph type="ftr" idx="1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4"/>
          <p:cNvSpPr>
            <a:spLocks noGrp="1"/>
          </p:cNvSpPr>
          <p:nvPr>
            <p:ph type="sldNum" idx="1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F0C1-60ED-4CF5-865F-07AD7DA608E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67AA-6787-4289-A7A7-8CC9CCF331C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3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 type="sldNum" idx="1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28D0-CB6E-43FE-8937-77F250C7546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6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9" name="PlaceHolder 3"/>
          <p:cNvSpPr>
            <a:spLocks noGrp="1"/>
          </p:cNvSpPr>
          <p:nvPr>
            <p:ph type="ftr" idx="1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4"/>
          <p:cNvSpPr>
            <a:spLocks noGrp="1"/>
          </p:cNvSpPr>
          <p:nvPr>
            <p:ph type="sldNum" idx="1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C497-8FB2-4E22-838F-918AEA87AE1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 type="dt" idx="1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 type="ftr" idx="1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 type="sldNum" idx="1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3F25-6715-49ED-9485-A6DBF1BA7F2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 type="ftr" idx="1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4"/>
          <p:cNvSpPr>
            <a:spLocks noGrp="1"/>
          </p:cNvSpPr>
          <p:nvPr>
            <p:ph type="sldNum" idx="1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1BBA-89E4-4B85-B746-F0D482960B7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6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7" name="PlaceHolder 3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4"/>
          <p:cNvSpPr>
            <a:spLocks noGrp="1"/>
          </p:cNvSpPr>
          <p:nvPr>
            <p:ph type="sldNum" idx="1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E1AF-F207-4283-801D-14DC5C3772C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ftr" idx="1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sldNum" idx="13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202B-4D19-4A00-9C7E-9F8C0D5D0A4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 type="ftr" idx="1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 type="sldNum" idx="1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44C1-B881-4940-A878-84A2D292FFA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 type="sldNum" idx="1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448A-CD93-4512-AC70-2616E19EBE1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 type="ftr" idx="1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4"/>
          <p:cNvSpPr>
            <a:spLocks noGrp="1"/>
          </p:cNvSpPr>
          <p:nvPr>
            <p:ph type="sldNum" idx="14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10B6-8295-4074-A72E-4F7E7D794E7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ftr" idx="1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sldNum" idx="1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1A72-B28C-41D0-AD5C-5D52BF30B6B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2F1B-91B5-4D8D-BA9C-701C0B214A2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9" name="PlaceHolder 3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PlaceHolder 4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DFD1-0153-45DB-A3E4-5D41B22D1E9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 type="ftr" idx="1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 type="sldNum" idx="14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1A58-D2A2-46B0-81F3-B48B14B3B4F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 type="ftr" idx="1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PlaceHolder 4"/>
          <p:cNvSpPr>
            <a:spLocks noGrp="1"/>
          </p:cNvSpPr>
          <p:nvPr>
            <p:ph type="sldNum" idx="1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C950-7EBB-4CAD-ACA5-EB443E63FE5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Freeform 8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 type="dt" idx="1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PlaceHolder 4"/>
          <p:cNvSpPr>
            <a:spLocks noGrp="1"/>
          </p:cNvSpPr>
          <p:nvPr>
            <p:ph type="ftr" idx="15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PlaceHolder 5"/>
          <p:cNvSpPr>
            <a:spLocks noGrp="1"/>
          </p:cNvSpPr>
          <p:nvPr>
            <p:ph type="sldNum" idx="1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002B-F4F4-4C7B-95F5-AD43D4B7A60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7" name="Picture 7" descr="safari.png"/>
          <p:cNvPicPr/>
          <p:nvPr/>
        </p:nvPicPr>
        <p:blipFill>
          <a:blip r:embed="rId2"/>
          <a:stretch/>
        </p:blipFill>
        <p:spPr>
          <a:xfrm>
            <a:off x="179280" y="6453360"/>
            <a:ext cx="1079640" cy="312480"/>
          </a:xfrm>
          <a:prstGeom prst="rect">
            <a:avLst/>
          </a:prstGeom>
          <a:ln w="0">
            <a:noFill/>
          </a:ln>
        </p:spPr>
      </p:pic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 type="sldNum" idx="15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036F-D89A-4172-B762-4FD39413FED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0" name="Picture 7" descr="safari.png"/>
          <p:cNvPicPr/>
          <p:nvPr/>
        </p:nvPicPr>
        <p:blipFill>
          <a:blip r:embed="rId2"/>
          <a:stretch/>
        </p:blipFill>
        <p:spPr>
          <a:xfrm>
            <a:off x="179280" y="6453360"/>
            <a:ext cx="1079640" cy="312480"/>
          </a:xfrm>
          <a:prstGeom prst="rect">
            <a:avLst/>
          </a:prstGeom>
          <a:ln w="0">
            <a:noFill/>
          </a:ln>
        </p:spPr>
      </p:pic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 type="ftr" idx="1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PlaceHolder 4"/>
          <p:cNvSpPr>
            <a:spLocks noGrp="1"/>
          </p:cNvSpPr>
          <p:nvPr>
            <p:ph type="sldNum" idx="15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C435-00D3-4C55-8BE9-061741D5BDE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3" name="Picture 7" descr="safari.png"/>
          <p:cNvPicPr/>
          <p:nvPr/>
        </p:nvPicPr>
        <p:blipFill>
          <a:blip r:embed="rId2"/>
          <a:stretch/>
        </p:blipFill>
        <p:spPr>
          <a:xfrm>
            <a:off x="179280" y="6453360"/>
            <a:ext cx="1079640" cy="312480"/>
          </a:xfrm>
          <a:prstGeom prst="rect">
            <a:avLst/>
          </a:prstGeom>
          <a:ln w="0">
            <a:noFill/>
          </a:ln>
        </p:spPr>
      </p:pic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 type="ftr" idx="1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 type="sldNum" idx="1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D2E6-5882-4AD8-A951-CA53DE8F297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4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6" name="Picture 7" descr="safari.png"/>
          <p:cNvPicPr/>
          <p:nvPr/>
        </p:nvPicPr>
        <p:blipFill>
          <a:blip r:embed="rId2"/>
          <a:stretch/>
        </p:blipFill>
        <p:spPr>
          <a:xfrm>
            <a:off x="179280" y="6453360"/>
            <a:ext cx="1079640" cy="312480"/>
          </a:xfrm>
          <a:prstGeom prst="rect">
            <a:avLst/>
          </a:prstGeom>
          <a:ln w="0">
            <a:noFill/>
          </a:ln>
        </p:spPr>
      </p:pic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 type="sldNum" idx="15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C8DE-D98F-4D3D-9DDD-D5959BE39E5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9" name="Picture 7" descr="safari.png"/>
          <p:cNvPicPr/>
          <p:nvPr/>
        </p:nvPicPr>
        <p:blipFill>
          <a:blip r:embed="rId2"/>
          <a:stretch/>
        </p:blipFill>
        <p:spPr>
          <a:xfrm>
            <a:off x="179280" y="6453360"/>
            <a:ext cx="1079640" cy="312480"/>
          </a:xfrm>
          <a:prstGeom prst="rect">
            <a:avLst/>
          </a:prstGeom>
          <a:ln w="0">
            <a:noFill/>
          </a:ln>
        </p:spPr>
      </p:pic>
      <p:sp>
        <p:nvSpPr>
          <p:cNvPr id="33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2" name="PlaceHolder 3"/>
          <p:cNvSpPr>
            <a:spLocks noGrp="1"/>
          </p:cNvSpPr>
          <p:nvPr>
            <p:ph type="ftr" idx="16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PlaceHolder 4"/>
          <p:cNvSpPr>
            <a:spLocks noGrp="1"/>
          </p:cNvSpPr>
          <p:nvPr>
            <p:ph type="sldNum" idx="16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5E41-BCB2-4FA8-A89B-B94720BC343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2" name="Picture 7" descr="safari.png"/>
          <p:cNvPicPr/>
          <p:nvPr/>
        </p:nvPicPr>
        <p:blipFill>
          <a:blip r:embed="rId2"/>
          <a:stretch/>
        </p:blipFill>
        <p:spPr>
          <a:xfrm>
            <a:off x="179280" y="6453360"/>
            <a:ext cx="1079640" cy="312480"/>
          </a:xfrm>
          <a:prstGeom prst="rect">
            <a:avLst/>
          </a:prstGeom>
          <a:ln w="0">
            <a:noFill/>
          </a:ln>
        </p:spPr>
      </p:pic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 type="ftr" idx="1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 type="sldNum" idx="1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AEFC-6009-4404-AFDC-93BEBF5F22B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2AAE95-3A38-43F4-9CC0-520D27EC3AB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safari.png"/>
          <p:cNvPicPr/>
          <p:nvPr/>
        </p:nvPicPr>
        <p:blipFill>
          <a:blip r:embed="rId2"/>
          <a:stretch/>
        </p:blipFill>
        <p:spPr>
          <a:xfrm>
            <a:off x="179280" y="6453360"/>
            <a:ext cx="1079640" cy="31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5" name="Picture 7" descr="safari.png"/>
          <p:cNvPicPr/>
          <p:nvPr/>
        </p:nvPicPr>
        <p:blipFill>
          <a:blip r:embed="rId2"/>
          <a:stretch/>
        </p:blipFill>
        <p:spPr>
          <a:xfrm>
            <a:off x="179280" y="6453360"/>
            <a:ext cx="1079640" cy="312480"/>
          </a:xfrm>
          <a:prstGeom prst="rect">
            <a:avLst/>
          </a:prstGeom>
          <a:ln w="0">
            <a:noFill/>
          </a:ln>
        </p:spPr>
      </p:pic>
      <p:sp>
        <p:nvSpPr>
          <p:cNvPr id="33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7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8" name="PlaceHolder 3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PlaceHolder 4"/>
          <p:cNvSpPr>
            <a:spLocks noGrp="1"/>
          </p:cNvSpPr>
          <p:nvPr>
            <p:ph type="sldNum" idx="16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95F1-7447-4ABB-A72D-6975F520124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8" name="Picture 7" descr="safari.png"/>
          <p:cNvPicPr/>
          <p:nvPr/>
        </p:nvPicPr>
        <p:blipFill>
          <a:blip r:embed="rId2"/>
          <a:stretch/>
        </p:blipFill>
        <p:spPr>
          <a:xfrm>
            <a:off x="179280" y="6453360"/>
            <a:ext cx="1079640" cy="312480"/>
          </a:xfrm>
          <a:prstGeom prst="rect">
            <a:avLst/>
          </a:prstGeom>
          <a:ln w="0">
            <a:noFill/>
          </a:ln>
        </p:spPr>
      </p:pic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 type="ftr" idx="16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 type="sldNum" idx="16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6108-55A5-4F13-880C-7414607EB19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1" name="Picture 7" descr="safari.png"/>
          <p:cNvPicPr/>
          <p:nvPr/>
        </p:nvPicPr>
        <p:blipFill>
          <a:blip r:embed="rId2"/>
          <a:stretch/>
        </p:blipFill>
        <p:spPr>
          <a:xfrm>
            <a:off x="179280" y="6453360"/>
            <a:ext cx="1079640" cy="312480"/>
          </a:xfrm>
          <a:prstGeom prst="rect">
            <a:avLst/>
          </a:prstGeom>
          <a:ln w="0">
            <a:noFill/>
          </a:ln>
        </p:spPr>
      </p:pic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3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4" name="PlaceHolder 3"/>
          <p:cNvSpPr>
            <a:spLocks noGrp="1"/>
          </p:cNvSpPr>
          <p:nvPr>
            <p:ph type="ftr" idx="1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PlaceHolder 4"/>
          <p:cNvSpPr>
            <a:spLocks noGrp="1"/>
          </p:cNvSpPr>
          <p:nvPr>
            <p:ph type="sldNum" idx="1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FEE5-729C-47AD-A854-5F8C7961158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4" name="Picture 7" descr="safari.png"/>
          <p:cNvPicPr/>
          <p:nvPr/>
        </p:nvPicPr>
        <p:blipFill>
          <a:blip r:embed="rId2"/>
          <a:stretch/>
        </p:blipFill>
        <p:spPr>
          <a:xfrm>
            <a:off x="179280" y="6453360"/>
            <a:ext cx="1079640" cy="312480"/>
          </a:xfrm>
          <a:prstGeom prst="rect">
            <a:avLst/>
          </a:prstGeom>
          <a:ln w="0">
            <a:noFill/>
          </a:ln>
        </p:spPr>
      </p:pic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160" indent="-3236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0600" indent="-349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8120" indent="-3142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79400" indent="-3380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79400" indent="-338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PlaceHolder 4"/>
          <p:cNvSpPr>
            <a:spLocks noGrp="1"/>
          </p:cNvSpPr>
          <p:nvPr>
            <p:ph type="sldNum" idx="17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25DB-FC4B-43FD-A4CB-8CD2DC07F2E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Freeform 8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0" name="PlaceHolder 3"/>
          <p:cNvSpPr>
            <a:spLocks noGrp="1"/>
          </p:cNvSpPr>
          <p:nvPr>
            <p:ph type="dt" idx="17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PlaceHolder 4"/>
          <p:cNvSpPr>
            <a:spLocks noGrp="1"/>
          </p:cNvSpPr>
          <p:nvPr>
            <p:ph type="ftr" idx="17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PlaceHolder 5"/>
          <p:cNvSpPr>
            <a:spLocks noGrp="1"/>
          </p:cNvSpPr>
          <p:nvPr>
            <p:ph type="sldNum" idx="17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3B02-FA1D-435E-8B09-3AD15633974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1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4" name="PlaceHolder 3"/>
          <p:cNvSpPr>
            <a:spLocks noGrp="1"/>
          </p:cNvSpPr>
          <p:nvPr>
            <p:ph type="ftr" idx="175"/>
          </p:nvPr>
        </p:nvSpPr>
        <p:spPr>
          <a:xfrm>
            <a:off x="3124080" y="6248520"/>
            <a:ext cx="289584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PlaceHolder 4"/>
          <p:cNvSpPr>
            <a:spLocks noGrp="1"/>
          </p:cNvSpPr>
          <p:nvPr>
            <p:ph type="sldNum" idx="17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6E0B-FD97-470C-8567-8462AA700A4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4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7" name="PlaceHolder 3"/>
          <p:cNvSpPr>
            <a:spLocks noGrp="1"/>
          </p:cNvSpPr>
          <p:nvPr>
            <p:ph type="ftr" idx="1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PlaceHolder 4"/>
          <p:cNvSpPr>
            <a:spLocks noGrp="1"/>
          </p:cNvSpPr>
          <p:nvPr>
            <p:ph type="sldNum" idx="1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A1EA-26C8-42C1-8A6E-CFCBB04DCFA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3"/>
    <p:sldLayoutId id="2147484755" r:id="rId4"/>
    <p:sldLayoutId id="2147484756" r:id="rId5"/>
    <p:sldLayoutId id="2147484757" r:id="rId6"/>
    <p:sldLayoutId id="2147484758" r:id="rId7"/>
    <p:sldLayoutId id="2147484759" r:id="rId8"/>
    <p:sldLayoutId id="2147484760" r:id="rId9"/>
    <p:sldLayoutId id="2147484761" r:id="rId10"/>
    <p:sldLayoutId id="2147484762" r:id="rId11"/>
    <p:sldLayoutId id="2147484763" r:id="rId12"/>
    <p:sldLayoutId id="2147484764" r:id="rId13"/>
    <p:sldLayoutId id="2147484765" r:id="rId14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5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7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 type="ftr" idx="1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PlaceHolder 4"/>
          <p:cNvSpPr>
            <a:spLocks noGrp="1"/>
          </p:cNvSpPr>
          <p:nvPr>
            <p:ph type="sldNum" idx="18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AC7C-2154-488B-82AA-6A2CAD0E6CC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0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 type="ftr" idx="18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 type="sldNum" idx="18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C360-84E0-4B8C-87E0-4F39D28714C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3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6" name="PlaceHolder 3"/>
          <p:cNvSpPr>
            <a:spLocks noGrp="1"/>
          </p:cNvSpPr>
          <p:nvPr>
            <p:ph type="ftr" idx="1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PlaceHolder 4"/>
          <p:cNvSpPr>
            <a:spLocks noGrp="1"/>
          </p:cNvSpPr>
          <p:nvPr>
            <p:ph type="sldNum" idx="18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2C18-F5D1-4F2E-8D67-06DF53965B1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CCB5-5AA9-47BF-ACB0-58DAF098ADA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6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9" name="PlaceHolder 3"/>
          <p:cNvSpPr>
            <a:spLocks noGrp="1"/>
          </p:cNvSpPr>
          <p:nvPr>
            <p:ph type="ftr" idx="1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PlaceHolder 4"/>
          <p:cNvSpPr>
            <a:spLocks noGrp="1"/>
          </p:cNvSpPr>
          <p:nvPr>
            <p:ph type="sldNum" idx="18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8946-7A55-40B2-B5F7-6748D139D9B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9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2" name="PlaceHolder 3"/>
          <p:cNvSpPr>
            <a:spLocks noGrp="1"/>
          </p:cNvSpPr>
          <p:nvPr>
            <p:ph type="ftr" idx="18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PlaceHolder 4"/>
          <p:cNvSpPr>
            <a:spLocks noGrp="1"/>
          </p:cNvSpPr>
          <p:nvPr>
            <p:ph type="sldNum" idx="18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0A99-EF02-4516-820C-10D627C6F03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2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39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4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5" name="PlaceHolder 3"/>
          <p:cNvSpPr>
            <a:spLocks noGrp="1"/>
          </p:cNvSpPr>
          <p:nvPr>
            <p:ph type="ftr" idx="1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PlaceHolder 4"/>
          <p:cNvSpPr>
            <a:spLocks noGrp="1"/>
          </p:cNvSpPr>
          <p:nvPr>
            <p:ph type="sldNum" idx="19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5464-F256-4395-B425-0BDD8682D58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3"/>
    <p:sldLayoutId id="2147484833" r:id="rId4"/>
    <p:sldLayoutId id="2147484834" r:id="rId5"/>
    <p:sldLayoutId id="2147484835" r:id="rId6"/>
    <p:sldLayoutId id="2147484836" r:id="rId7"/>
    <p:sldLayoutId id="2147484837" r:id="rId8"/>
    <p:sldLayoutId id="2147484838" r:id="rId9"/>
    <p:sldLayoutId id="2147484839" r:id="rId10"/>
    <p:sldLayoutId id="2147484840" r:id="rId11"/>
    <p:sldLayoutId id="2147484841" r:id="rId12"/>
    <p:sldLayoutId id="2147484842" r:id="rId13"/>
    <p:sldLayoutId id="2147484843" r:id="rId14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5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39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7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8" name="PlaceHolder 3"/>
          <p:cNvSpPr>
            <a:spLocks noGrp="1"/>
          </p:cNvSpPr>
          <p:nvPr>
            <p:ph type="ftr" idx="1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PlaceHolder 4"/>
          <p:cNvSpPr>
            <a:spLocks noGrp="1"/>
          </p:cNvSpPr>
          <p:nvPr>
            <p:ph type="sldNum" idx="19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BA40-A14A-4366-B7E2-B6C8437F7D7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3"/>
    <p:sldLayoutId id="2147484846" r:id="rId4"/>
    <p:sldLayoutId id="2147484847" r:id="rId5"/>
    <p:sldLayoutId id="2147484848" r:id="rId6"/>
    <p:sldLayoutId id="2147484849" r:id="rId7"/>
    <p:sldLayoutId id="2147484850" r:id="rId8"/>
    <p:sldLayoutId id="2147484851" r:id="rId9"/>
    <p:sldLayoutId id="2147484852" r:id="rId10"/>
    <p:sldLayoutId id="2147484853" r:id="rId11"/>
    <p:sldLayoutId id="2147484854" r:id="rId12"/>
    <p:sldLayoutId id="2147484855" r:id="rId13"/>
    <p:sldLayoutId id="2147484856" r:id="rId14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8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0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1" name="PlaceHolder 3"/>
          <p:cNvSpPr>
            <a:spLocks noGrp="1"/>
          </p:cNvSpPr>
          <p:nvPr>
            <p:ph type="ftr" idx="19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PlaceHolder 4"/>
          <p:cNvSpPr>
            <a:spLocks noGrp="1"/>
          </p:cNvSpPr>
          <p:nvPr>
            <p:ph type="sldNum" idx="19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AB7A-F62E-44BE-9A43-3983DD24B26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3"/>
    <p:sldLayoutId id="2147484859" r:id="rId4"/>
    <p:sldLayoutId id="2147484860" r:id="rId5"/>
    <p:sldLayoutId id="2147484861" r:id="rId6"/>
    <p:sldLayoutId id="2147484862" r:id="rId7"/>
    <p:sldLayoutId id="2147484863" r:id="rId8"/>
    <p:sldLayoutId id="2147484864" r:id="rId9"/>
    <p:sldLayoutId id="2147484865" r:id="rId10"/>
    <p:sldLayoutId id="2147484866" r:id="rId11"/>
    <p:sldLayoutId id="2147484867" r:id="rId12"/>
    <p:sldLayoutId id="2147484868" r:id="rId13"/>
    <p:sldLayoutId id="2147484869" r:id="rId14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1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 type="ftr" idx="1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PlaceHolder 4"/>
          <p:cNvSpPr>
            <a:spLocks noGrp="1"/>
          </p:cNvSpPr>
          <p:nvPr>
            <p:ph type="sldNum" idx="1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3D29-9589-4A28-A6E7-40AFD03CA22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3"/>
    <p:sldLayoutId id="2147484872" r:id="rId4"/>
    <p:sldLayoutId id="2147484873" r:id="rId5"/>
    <p:sldLayoutId id="2147484874" r:id="rId6"/>
    <p:sldLayoutId id="2147484875" r:id="rId7"/>
    <p:sldLayoutId id="2147484876" r:id="rId8"/>
    <p:sldLayoutId id="2147484877" r:id="rId9"/>
    <p:sldLayoutId id="2147484878" r:id="rId10"/>
    <p:sldLayoutId id="2147484879" r:id="rId11"/>
    <p:sldLayoutId id="2147484880" r:id="rId12"/>
    <p:sldLayoutId id="2147484881" r:id="rId13"/>
    <p:sldLayoutId id="2147484882" r:id="rId14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Freeform 8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76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7" name="PlaceHolder 3"/>
          <p:cNvSpPr>
            <a:spLocks noGrp="1"/>
          </p:cNvSpPr>
          <p:nvPr>
            <p:ph type="dt" idx="19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PlaceHolder 4"/>
          <p:cNvSpPr>
            <a:spLocks noGrp="1"/>
          </p:cNvSpPr>
          <p:nvPr>
            <p:ph type="ftr" idx="19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PlaceHolder 5"/>
          <p:cNvSpPr>
            <a:spLocks noGrp="1"/>
          </p:cNvSpPr>
          <p:nvPr>
            <p:ph type="sldNum" idx="19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2C0A-CCB0-4D83-BDDF-D93F2D36BCA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6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8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1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0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1" name="PlaceHolder 3"/>
          <p:cNvSpPr>
            <a:spLocks noGrp="1"/>
          </p:cNvSpPr>
          <p:nvPr>
            <p:ph type="ftr" idx="200"/>
          </p:nvPr>
        </p:nvSpPr>
        <p:spPr>
          <a:xfrm>
            <a:off x="3124080" y="6248520"/>
            <a:ext cx="289584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PlaceHolder 4"/>
          <p:cNvSpPr>
            <a:spLocks noGrp="1"/>
          </p:cNvSpPr>
          <p:nvPr>
            <p:ph type="sldNum" idx="20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AAF1-2FB2-4113-B9AD-D25EA227398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3"/>
    <p:sldLayoutId id="2147484898" r:id="rId4"/>
    <p:sldLayoutId id="2147484899" r:id="rId5"/>
    <p:sldLayoutId id="2147484900" r:id="rId6"/>
    <p:sldLayoutId id="2147484901" r:id="rId7"/>
    <p:sldLayoutId id="2147484902" r:id="rId8"/>
    <p:sldLayoutId id="2147484903" r:id="rId9"/>
    <p:sldLayoutId id="2147484904" r:id="rId10"/>
    <p:sldLayoutId id="2147484905" r:id="rId11"/>
    <p:sldLayoutId id="2147484906" r:id="rId12"/>
    <p:sldLayoutId id="2147484907" r:id="rId13"/>
    <p:sldLayoutId id="2147484908" r:id="rId14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1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1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3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4" name="PlaceHolder 3"/>
          <p:cNvSpPr>
            <a:spLocks noGrp="1"/>
          </p:cNvSpPr>
          <p:nvPr>
            <p:ph type="ftr" idx="20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PlaceHolder 4"/>
          <p:cNvSpPr>
            <a:spLocks noGrp="1"/>
          </p:cNvSpPr>
          <p:nvPr>
            <p:ph type="sldNum" idx="20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5DB2-3B50-4C81-A918-B7862B44E9C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3"/>
    <p:sldLayoutId id="2147484911" r:id="rId4"/>
    <p:sldLayoutId id="2147484912" r:id="rId5"/>
    <p:sldLayoutId id="2147484913" r:id="rId6"/>
    <p:sldLayoutId id="2147484914" r:id="rId7"/>
    <p:sldLayoutId id="2147484915" r:id="rId8"/>
    <p:sldLayoutId id="2147484916" r:id="rId9"/>
    <p:sldLayoutId id="2147484917" r:id="rId10"/>
    <p:sldLayoutId id="2147484918" r:id="rId11"/>
    <p:sldLayoutId id="2147484919" r:id="rId12"/>
    <p:sldLayoutId id="2147484920" r:id="rId13"/>
    <p:sldLayoutId id="2147484921" r:id="rId14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2" name="Line 1032"/>
          <p:cNvSpPr/>
          <p:nvPr/>
        </p:nvSpPr>
        <p:spPr>
          <a:xfrm>
            <a:off x="228600" y="624852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Line 1033"/>
          <p:cNvSpPr/>
          <p:nvPr/>
        </p:nvSpPr>
        <p:spPr>
          <a:xfrm>
            <a:off x="228600" y="9144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4" name="Picture 7" descr="safari.png"/>
          <p:cNvPicPr/>
          <p:nvPr/>
        </p:nvPicPr>
        <p:blipFill>
          <a:blip r:embed="rId2"/>
          <a:stretch/>
        </p:blipFill>
        <p:spPr>
          <a:xfrm>
            <a:off x="285840" y="6357960"/>
            <a:ext cx="1347840" cy="390600"/>
          </a:xfrm>
          <a:prstGeom prst="rect">
            <a:avLst/>
          </a:prstGeom>
          <a:ln w="0">
            <a:noFill/>
          </a:ln>
        </p:spPr>
      </p:pic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 type="body"/>
          </p:nvPr>
        </p:nvSpPr>
        <p:spPr>
          <a:xfrm>
            <a:off x="228600" y="907560"/>
            <a:ext cx="861048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7" name="PlaceHolder 3"/>
          <p:cNvSpPr>
            <a:spLocks noGrp="1"/>
          </p:cNvSpPr>
          <p:nvPr>
            <p:ph type="ftr" idx="2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PPER: HPCA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PlaceHolder 4"/>
          <p:cNvSpPr>
            <a:spLocks noGrp="1"/>
          </p:cNvSpPr>
          <p:nvPr>
            <p:ph type="sldNum" idx="20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169F-8057-4F21-B3A7-49188588894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3"/>
    <p:sldLayoutId id="2147484924" r:id="rId4"/>
    <p:sldLayoutId id="2147484925" r:id="rId5"/>
    <p:sldLayoutId id="2147484926" r:id="rId6"/>
    <p:sldLayoutId id="2147484927" r:id="rId7"/>
    <p:sldLayoutId id="2147484928" r:id="rId8"/>
    <p:sldLayoutId id="2147484929" r:id="rId9"/>
    <p:sldLayoutId id="2147484930" r:id="rId10"/>
    <p:sldLayoutId id="2147484931" r:id="rId11"/>
    <p:sldLayoutId id="2147484932" r:id="rId12"/>
    <p:sldLayoutId id="2147484933" r:id="rId13"/>
    <p:sldLayoutId id="214748493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2uue7izU2c&amp;list=PL5PHm2jkkXmh4cDkC3s1VBB7-njlgiG5d&amp;index=19" TargetMode="External"/><Relationship Id="rId2" Type="http://schemas.openxmlformats.org/officeDocument/2006/relationships/hyperlink" Target="http://www.youtube.com/watch?v=D2uue7izU2c&amp;list=PL5PHm2jkkXmh4cDkC3s1VBB7-njlgiG5d&amp;index=19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9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42832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Computer Architecture:</a:t>
            </a:r>
            <a:br>
              <a:rPr sz="4400"/>
            </a:b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Dataflow (Part I)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78" name="PlaceHolder 2"/>
          <p:cNvSpPr>
            <a:spLocks noGrp="1"/>
          </p:cNvSpPr>
          <p:nvPr>
            <p:ph type="subTitle"/>
          </p:nvPr>
        </p:nvSpPr>
        <p:spPr>
          <a:xfrm>
            <a:off x="685800" y="37285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low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0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data flow machine, a program consists of data flow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data flow node fires (fetched and executed) when all its inputs ar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.e. when all inputs have toke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node and its ISA repre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BC72-DB5E-4B71-89C6-A9125B9C20F3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5" name="Picture 5" descr=""/>
          <p:cNvPicPr/>
          <p:nvPr/>
        </p:nvPicPr>
        <p:blipFill>
          <a:blip r:embed="rId1"/>
          <a:stretch/>
        </p:blipFill>
        <p:spPr>
          <a:xfrm>
            <a:off x="933480" y="4400640"/>
            <a:ext cx="1542960" cy="1600200"/>
          </a:xfrm>
          <a:prstGeom prst="rect">
            <a:avLst/>
          </a:prstGeom>
          <a:ln w="0">
            <a:noFill/>
          </a:ln>
        </p:spPr>
      </p:pic>
      <p:pic>
        <p:nvPicPr>
          <p:cNvPr id="4706" name="Picture 6" descr=""/>
          <p:cNvPicPr/>
          <p:nvPr/>
        </p:nvPicPr>
        <p:blipFill>
          <a:blip r:embed="rId2"/>
          <a:stretch/>
        </p:blipFill>
        <p:spPr>
          <a:xfrm>
            <a:off x="2971800" y="4805280"/>
            <a:ext cx="586728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low Nod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0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7ED0-DF6E-4499-A030-EC668ECF30FC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9" name="Picture 2" descr=""/>
          <p:cNvPicPr/>
          <p:nvPr/>
        </p:nvPicPr>
        <p:blipFill>
          <a:blip r:embed="rId1"/>
          <a:stretch/>
        </p:blipFill>
        <p:spPr>
          <a:xfrm>
            <a:off x="1508040" y="996840"/>
            <a:ext cx="605160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low Nodes (I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1" name="PlaceHolder 2"/>
          <p:cNvSpPr>
            <a:spLocks noGrp="1"/>
          </p:cNvSpPr>
          <p:nvPr>
            <p:ph/>
          </p:nvPr>
        </p:nvSpPr>
        <p:spPr>
          <a:xfrm>
            <a:off x="836280" y="1428840"/>
            <a:ext cx="732636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mall set of dataflow operators can be used to define a general programming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2" name="Rectangle 4"/>
          <p:cNvSpPr/>
          <p:nvPr/>
        </p:nvSpPr>
        <p:spPr>
          <a:xfrm>
            <a:off x="905760" y="2690640"/>
            <a:ext cx="60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F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Rectangle 5"/>
          <p:cNvSpPr/>
          <p:nvPr/>
        </p:nvSpPr>
        <p:spPr>
          <a:xfrm>
            <a:off x="1964880" y="2690640"/>
            <a:ext cx="1567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Primitive 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4" name="Group 6"/>
          <p:cNvGrpSpPr/>
          <p:nvPr/>
        </p:nvGrpSpPr>
        <p:grpSpPr>
          <a:xfrm>
            <a:off x="2475000" y="3170160"/>
            <a:ext cx="528480" cy="1123920"/>
            <a:chOff x="2475000" y="3170160"/>
            <a:chExt cx="528480" cy="1123920"/>
          </a:xfrm>
        </p:grpSpPr>
        <p:sp>
          <p:nvSpPr>
            <p:cNvPr id="4715" name="Rectangle 7"/>
            <p:cNvSpPr/>
            <p:nvPr/>
          </p:nvSpPr>
          <p:spPr>
            <a:xfrm>
              <a:off x="2475000" y="3514680"/>
              <a:ext cx="528480" cy="453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Line 8"/>
            <p:cNvSpPr/>
            <p:nvPr/>
          </p:nvSpPr>
          <p:spPr>
            <a:xfrm>
              <a:off x="2576520" y="3170160"/>
              <a:ext cx="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Line 9"/>
            <p:cNvSpPr/>
            <p:nvPr/>
          </p:nvSpPr>
          <p:spPr>
            <a:xfrm>
              <a:off x="2917800" y="3170160"/>
              <a:ext cx="0" cy="33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Line 10"/>
            <p:cNvSpPr/>
            <p:nvPr/>
          </p:nvSpPr>
          <p:spPr>
            <a:xfrm>
              <a:off x="2751120" y="3962520"/>
              <a:ext cx="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9" name="Rectangle 11"/>
          <p:cNvSpPr/>
          <p:nvPr/>
        </p:nvSpPr>
        <p:spPr>
          <a:xfrm>
            <a:off x="4375800" y="2690640"/>
            <a:ext cx="825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Rectangle 12"/>
          <p:cNvSpPr/>
          <p:nvPr/>
        </p:nvSpPr>
        <p:spPr>
          <a:xfrm>
            <a:off x="6867720" y="2690640"/>
            <a:ext cx="828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1" name="Group 13"/>
          <p:cNvGrpSpPr/>
          <p:nvPr/>
        </p:nvGrpSpPr>
        <p:grpSpPr>
          <a:xfrm>
            <a:off x="875880" y="3164040"/>
            <a:ext cx="673560" cy="1126440"/>
            <a:chOff x="875880" y="3164040"/>
            <a:chExt cx="673560" cy="1126440"/>
          </a:xfrm>
        </p:grpSpPr>
        <p:sp>
          <p:nvSpPr>
            <p:cNvPr id="4722" name="Line 14"/>
            <p:cNvSpPr/>
            <p:nvPr/>
          </p:nvSpPr>
          <p:spPr>
            <a:xfrm flipH="1">
              <a:off x="1197000" y="3164040"/>
              <a:ext cx="1440" cy="58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Line 15"/>
            <p:cNvSpPr/>
            <p:nvPr/>
          </p:nvSpPr>
          <p:spPr>
            <a:xfrm flipH="1">
              <a:off x="875880" y="3752640"/>
              <a:ext cx="320760" cy="53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Line 16"/>
            <p:cNvSpPr/>
            <p:nvPr/>
          </p:nvSpPr>
          <p:spPr>
            <a:xfrm>
              <a:off x="1192320" y="3751200"/>
              <a:ext cx="357120" cy="53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5" name="Rectangle 17"/>
          <p:cNvSpPr/>
          <p:nvPr/>
        </p:nvSpPr>
        <p:spPr>
          <a:xfrm>
            <a:off x="760320" y="1695600"/>
            <a:ext cx="7301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Oval 18"/>
          <p:cNvSpPr/>
          <p:nvPr/>
        </p:nvSpPr>
        <p:spPr>
          <a:xfrm>
            <a:off x="1133640" y="3244680"/>
            <a:ext cx="139680" cy="140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7" name="Group 19"/>
          <p:cNvGrpSpPr/>
          <p:nvPr/>
        </p:nvGrpSpPr>
        <p:grpSpPr>
          <a:xfrm>
            <a:off x="6045120" y="3159000"/>
            <a:ext cx="1954440" cy="1135080"/>
            <a:chOff x="6045120" y="3159000"/>
            <a:chExt cx="1954440" cy="1135080"/>
          </a:xfrm>
        </p:grpSpPr>
        <p:sp>
          <p:nvSpPr>
            <p:cNvPr id="4728" name="Oval 20"/>
            <p:cNvSpPr/>
            <p:nvPr/>
          </p:nvSpPr>
          <p:spPr>
            <a:xfrm>
              <a:off x="6573960" y="3530520"/>
              <a:ext cx="1425600" cy="405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Line 21"/>
            <p:cNvSpPr/>
            <p:nvPr/>
          </p:nvSpPr>
          <p:spPr>
            <a:xfrm>
              <a:off x="7518600" y="3159000"/>
              <a:ext cx="0" cy="3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Line 22"/>
            <p:cNvSpPr/>
            <p:nvPr/>
          </p:nvSpPr>
          <p:spPr>
            <a:xfrm>
              <a:off x="7277040" y="392904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Rectangle 23"/>
            <p:cNvSpPr/>
            <p:nvPr/>
          </p:nvSpPr>
          <p:spPr>
            <a:xfrm>
              <a:off x="6917040" y="3557520"/>
              <a:ext cx="22644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Line 24"/>
            <p:cNvSpPr/>
            <p:nvPr/>
          </p:nvSpPr>
          <p:spPr>
            <a:xfrm>
              <a:off x="7037280" y="3168720"/>
              <a:ext cx="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Line 25"/>
            <p:cNvSpPr/>
            <p:nvPr/>
          </p:nvSpPr>
          <p:spPr>
            <a:xfrm>
              <a:off x="6045120" y="3735360"/>
              <a:ext cx="53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Rectangle 26"/>
            <p:cNvSpPr/>
            <p:nvPr/>
          </p:nvSpPr>
          <p:spPr>
            <a:xfrm>
              <a:off x="7400160" y="3557520"/>
              <a:ext cx="22032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5" name="Group 27"/>
          <p:cNvGrpSpPr/>
          <p:nvPr/>
        </p:nvGrpSpPr>
        <p:grpSpPr>
          <a:xfrm>
            <a:off x="3575160" y="3162240"/>
            <a:ext cx="1954080" cy="1131840"/>
            <a:chOff x="3575160" y="3162240"/>
            <a:chExt cx="1954080" cy="1131840"/>
          </a:xfrm>
        </p:grpSpPr>
        <p:sp>
          <p:nvSpPr>
            <p:cNvPr id="4736" name="Oval 28"/>
            <p:cNvSpPr/>
            <p:nvPr/>
          </p:nvSpPr>
          <p:spPr>
            <a:xfrm>
              <a:off x="4103640" y="3535200"/>
              <a:ext cx="1425600" cy="404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Line 29"/>
            <p:cNvSpPr/>
            <p:nvPr/>
          </p:nvSpPr>
          <p:spPr>
            <a:xfrm>
              <a:off x="5048280" y="3919320"/>
              <a:ext cx="0" cy="3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Line 30"/>
            <p:cNvSpPr/>
            <p:nvPr/>
          </p:nvSpPr>
          <p:spPr>
            <a:xfrm>
              <a:off x="4807080" y="316224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Rectangle 31"/>
            <p:cNvSpPr/>
            <p:nvPr/>
          </p:nvSpPr>
          <p:spPr>
            <a:xfrm>
              <a:off x="4447080" y="3708360"/>
              <a:ext cx="22644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Line 32"/>
            <p:cNvSpPr/>
            <p:nvPr/>
          </p:nvSpPr>
          <p:spPr>
            <a:xfrm>
              <a:off x="4567320" y="3929040"/>
              <a:ext cx="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Line 33"/>
            <p:cNvSpPr/>
            <p:nvPr/>
          </p:nvSpPr>
          <p:spPr>
            <a:xfrm>
              <a:off x="3575160" y="3740040"/>
              <a:ext cx="53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Rectangle 34"/>
            <p:cNvSpPr/>
            <p:nvPr/>
          </p:nvSpPr>
          <p:spPr>
            <a:xfrm>
              <a:off x="4930200" y="3708360"/>
              <a:ext cx="22032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3" name="Oval 35"/>
          <p:cNvSpPr/>
          <p:nvPr/>
        </p:nvSpPr>
        <p:spPr>
          <a:xfrm>
            <a:off x="2508120" y="324000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Oval 37"/>
          <p:cNvSpPr/>
          <p:nvPr/>
        </p:nvSpPr>
        <p:spPr>
          <a:xfrm>
            <a:off x="4737240" y="324000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Oval 38"/>
          <p:cNvSpPr/>
          <p:nvPr/>
        </p:nvSpPr>
        <p:spPr>
          <a:xfrm>
            <a:off x="6966000" y="323676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Oval 39"/>
          <p:cNvSpPr/>
          <p:nvPr/>
        </p:nvSpPr>
        <p:spPr>
          <a:xfrm>
            <a:off x="7450200" y="3235320"/>
            <a:ext cx="139680" cy="139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Oval 40"/>
          <p:cNvSpPr/>
          <p:nvPr/>
        </p:nvSpPr>
        <p:spPr>
          <a:xfrm>
            <a:off x="3722760" y="3670200"/>
            <a:ext cx="139680" cy="139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Oval 41"/>
          <p:cNvSpPr/>
          <p:nvPr/>
        </p:nvSpPr>
        <p:spPr>
          <a:xfrm>
            <a:off x="6210360" y="3666960"/>
            <a:ext cx="139680" cy="140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Rectangle 42"/>
          <p:cNvSpPr/>
          <p:nvPr/>
        </p:nvSpPr>
        <p:spPr>
          <a:xfrm>
            <a:off x="3687120" y="3481560"/>
            <a:ext cx="2127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Rectangle 43"/>
          <p:cNvSpPr/>
          <p:nvPr/>
        </p:nvSpPr>
        <p:spPr>
          <a:xfrm>
            <a:off x="6182640" y="3481560"/>
            <a:ext cx="2127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2475000" y="5075280"/>
            <a:ext cx="528480" cy="1123920"/>
            <a:chOff x="2475000" y="5075280"/>
            <a:chExt cx="528480" cy="1123920"/>
          </a:xfrm>
        </p:grpSpPr>
        <p:sp>
          <p:nvSpPr>
            <p:cNvPr id="4752" name="Rectangle 45"/>
            <p:cNvSpPr/>
            <p:nvPr/>
          </p:nvSpPr>
          <p:spPr>
            <a:xfrm>
              <a:off x="2475000" y="5419800"/>
              <a:ext cx="528480" cy="453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Line 46"/>
            <p:cNvSpPr/>
            <p:nvPr/>
          </p:nvSpPr>
          <p:spPr>
            <a:xfrm>
              <a:off x="2576520" y="5075280"/>
              <a:ext cx="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Line 47"/>
            <p:cNvSpPr/>
            <p:nvPr/>
          </p:nvSpPr>
          <p:spPr>
            <a:xfrm>
              <a:off x="2917800" y="5075280"/>
              <a:ext cx="0" cy="33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Line 48"/>
            <p:cNvSpPr/>
            <p:nvPr/>
          </p:nvSpPr>
          <p:spPr>
            <a:xfrm>
              <a:off x="2751120" y="5867640"/>
              <a:ext cx="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6" name="Group 49"/>
          <p:cNvGrpSpPr/>
          <p:nvPr/>
        </p:nvGrpSpPr>
        <p:grpSpPr>
          <a:xfrm>
            <a:off x="875880" y="5068800"/>
            <a:ext cx="673560" cy="1127160"/>
            <a:chOff x="875880" y="5068800"/>
            <a:chExt cx="673560" cy="1127160"/>
          </a:xfrm>
        </p:grpSpPr>
        <p:sp>
          <p:nvSpPr>
            <p:cNvPr id="4757" name="Line 50"/>
            <p:cNvSpPr/>
            <p:nvPr/>
          </p:nvSpPr>
          <p:spPr>
            <a:xfrm flipH="1">
              <a:off x="1197000" y="5068800"/>
              <a:ext cx="144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Line 51"/>
            <p:cNvSpPr/>
            <p:nvPr/>
          </p:nvSpPr>
          <p:spPr>
            <a:xfrm flipH="1">
              <a:off x="875880" y="5657760"/>
              <a:ext cx="320760" cy="53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Line 52"/>
            <p:cNvSpPr/>
            <p:nvPr/>
          </p:nvSpPr>
          <p:spPr>
            <a:xfrm>
              <a:off x="1192320" y="5655600"/>
              <a:ext cx="357120" cy="53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0" name="Oval 53"/>
          <p:cNvSpPr/>
          <p:nvPr/>
        </p:nvSpPr>
        <p:spPr>
          <a:xfrm>
            <a:off x="1341360" y="592308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Oval 54"/>
          <p:cNvSpPr/>
          <p:nvPr/>
        </p:nvSpPr>
        <p:spPr>
          <a:xfrm>
            <a:off x="923760" y="5931000"/>
            <a:ext cx="14004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2" name="Group 55"/>
          <p:cNvGrpSpPr/>
          <p:nvPr/>
        </p:nvGrpSpPr>
        <p:grpSpPr>
          <a:xfrm>
            <a:off x="6045120" y="5064120"/>
            <a:ext cx="1954440" cy="1135080"/>
            <a:chOff x="6045120" y="5064120"/>
            <a:chExt cx="1954440" cy="1135080"/>
          </a:xfrm>
        </p:grpSpPr>
        <p:sp>
          <p:nvSpPr>
            <p:cNvPr id="4763" name="Oval 56"/>
            <p:cNvSpPr/>
            <p:nvPr/>
          </p:nvSpPr>
          <p:spPr>
            <a:xfrm>
              <a:off x="6573960" y="5435640"/>
              <a:ext cx="1425600" cy="405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Line 57"/>
            <p:cNvSpPr/>
            <p:nvPr/>
          </p:nvSpPr>
          <p:spPr>
            <a:xfrm>
              <a:off x="7518600" y="5064120"/>
              <a:ext cx="0" cy="3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Line 58"/>
            <p:cNvSpPr/>
            <p:nvPr/>
          </p:nvSpPr>
          <p:spPr>
            <a:xfrm>
              <a:off x="7277040" y="583416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Rectangle 59"/>
            <p:cNvSpPr/>
            <p:nvPr/>
          </p:nvSpPr>
          <p:spPr>
            <a:xfrm>
              <a:off x="6917040" y="5462640"/>
              <a:ext cx="22644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Line 60"/>
            <p:cNvSpPr/>
            <p:nvPr/>
          </p:nvSpPr>
          <p:spPr>
            <a:xfrm>
              <a:off x="7037280" y="5073840"/>
              <a:ext cx="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Line 61"/>
            <p:cNvSpPr/>
            <p:nvPr/>
          </p:nvSpPr>
          <p:spPr>
            <a:xfrm>
              <a:off x="6045120" y="5640480"/>
              <a:ext cx="53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Rectangle 62"/>
            <p:cNvSpPr/>
            <p:nvPr/>
          </p:nvSpPr>
          <p:spPr>
            <a:xfrm>
              <a:off x="7400160" y="5462640"/>
              <a:ext cx="22032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0" name="Group 63"/>
          <p:cNvGrpSpPr/>
          <p:nvPr/>
        </p:nvGrpSpPr>
        <p:grpSpPr>
          <a:xfrm>
            <a:off x="3575160" y="5067360"/>
            <a:ext cx="1954080" cy="1131840"/>
            <a:chOff x="3575160" y="5067360"/>
            <a:chExt cx="1954080" cy="1131840"/>
          </a:xfrm>
        </p:grpSpPr>
        <p:sp>
          <p:nvSpPr>
            <p:cNvPr id="4771" name="Oval 64"/>
            <p:cNvSpPr/>
            <p:nvPr/>
          </p:nvSpPr>
          <p:spPr>
            <a:xfrm>
              <a:off x="4103640" y="5440320"/>
              <a:ext cx="1425600" cy="404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Line 65"/>
            <p:cNvSpPr/>
            <p:nvPr/>
          </p:nvSpPr>
          <p:spPr>
            <a:xfrm>
              <a:off x="5048280" y="5824440"/>
              <a:ext cx="0" cy="37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Line 66"/>
            <p:cNvSpPr/>
            <p:nvPr/>
          </p:nvSpPr>
          <p:spPr>
            <a:xfrm>
              <a:off x="4807080" y="506736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Rectangle 67"/>
            <p:cNvSpPr/>
            <p:nvPr/>
          </p:nvSpPr>
          <p:spPr>
            <a:xfrm>
              <a:off x="4447080" y="5613480"/>
              <a:ext cx="22644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Line 68"/>
            <p:cNvSpPr/>
            <p:nvPr/>
          </p:nvSpPr>
          <p:spPr>
            <a:xfrm>
              <a:off x="4567320" y="5834160"/>
              <a:ext cx="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Line 69"/>
            <p:cNvSpPr/>
            <p:nvPr/>
          </p:nvSpPr>
          <p:spPr>
            <a:xfrm>
              <a:off x="3575160" y="5645160"/>
              <a:ext cx="53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Rectangle 70"/>
            <p:cNvSpPr/>
            <p:nvPr/>
          </p:nvSpPr>
          <p:spPr>
            <a:xfrm>
              <a:off x="4930200" y="5613480"/>
              <a:ext cx="22032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8" name="Oval 71"/>
          <p:cNvSpPr/>
          <p:nvPr/>
        </p:nvSpPr>
        <p:spPr>
          <a:xfrm>
            <a:off x="2681280" y="5929200"/>
            <a:ext cx="139680" cy="1396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Oval 72"/>
          <p:cNvSpPr/>
          <p:nvPr/>
        </p:nvSpPr>
        <p:spPr>
          <a:xfrm>
            <a:off x="4494240" y="592776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Rectangle 73"/>
          <p:cNvSpPr/>
          <p:nvPr/>
        </p:nvSpPr>
        <p:spPr>
          <a:xfrm>
            <a:off x="3687120" y="5386320"/>
            <a:ext cx="2127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Rectangle 74"/>
          <p:cNvSpPr/>
          <p:nvPr/>
        </p:nvSpPr>
        <p:spPr>
          <a:xfrm>
            <a:off x="6182640" y="5386320"/>
            <a:ext cx="2127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Oval 75"/>
          <p:cNvSpPr/>
          <p:nvPr/>
        </p:nvSpPr>
        <p:spPr>
          <a:xfrm>
            <a:off x="7207200" y="593100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Rectangle 76"/>
          <p:cNvSpPr/>
          <p:nvPr/>
        </p:nvSpPr>
        <p:spPr>
          <a:xfrm rot="5400000">
            <a:off x="3939840" y="4385880"/>
            <a:ext cx="452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127a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Oval 77"/>
          <p:cNvSpPr/>
          <p:nvPr/>
        </p:nvSpPr>
        <p:spPr>
          <a:xfrm>
            <a:off x="7450200" y="5178600"/>
            <a:ext cx="139680" cy="139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Oval 78"/>
          <p:cNvSpPr/>
          <p:nvPr/>
        </p:nvSpPr>
        <p:spPr>
          <a:xfrm>
            <a:off x="2840040" y="3247920"/>
            <a:ext cx="139680" cy="139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3941640" cy="1269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flow Graph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87" name="Rectangle 3"/>
          <p:cNvSpPr/>
          <p:nvPr/>
        </p:nvSpPr>
        <p:spPr>
          <a:xfrm>
            <a:off x="1752480" y="1503360"/>
            <a:ext cx="15843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Arial"/>
                <a:ea typeface="Arial"/>
              </a:rPr>
              <a:t>{x = a + b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6127a"/>
                </a:solidFill>
                <a:latin typeface="Arial"/>
                <a:ea typeface="Arial"/>
              </a:rPr>
              <a:t>y = b *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800" spc="-1" strike="noStrike">
                <a:solidFill>
                  <a:srgbClr val="56127a"/>
                </a:solidFill>
                <a:latin typeface="Arial"/>
                <a:ea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56127a"/>
                </a:solidFill>
                <a:latin typeface="Arial"/>
                <a:ea typeface="Arial"/>
              </a:rPr>
              <a:t>(x-y) * (x+y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8" name="Group 28"/>
          <p:cNvGrpSpPr/>
          <p:nvPr/>
        </p:nvGrpSpPr>
        <p:grpSpPr>
          <a:xfrm>
            <a:off x="5730120" y="1631880"/>
            <a:ext cx="2792520" cy="4370400"/>
            <a:chOff x="5730120" y="1631880"/>
            <a:chExt cx="2792520" cy="4370400"/>
          </a:xfrm>
        </p:grpSpPr>
        <p:sp>
          <p:nvSpPr>
            <p:cNvPr id="4789" name="Rectangle 29"/>
            <p:cNvSpPr/>
            <p:nvPr/>
          </p:nvSpPr>
          <p:spPr>
            <a:xfrm>
              <a:off x="5951520" y="1643040"/>
              <a:ext cx="3506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56127a"/>
                  </a:solidFill>
                  <a:latin typeface="Arial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Rectangle 30"/>
            <p:cNvSpPr/>
            <p:nvPr/>
          </p:nvSpPr>
          <p:spPr>
            <a:xfrm>
              <a:off x="8153640" y="1631880"/>
              <a:ext cx="3506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56127a"/>
                  </a:solidFill>
                  <a:latin typeface="Arial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Rectangle 31"/>
            <p:cNvSpPr/>
            <p:nvPr/>
          </p:nvSpPr>
          <p:spPr>
            <a:xfrm>
              <a:off x="6072120" y="2468520"/>
              <a:ext cx="63360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Rectangle 32"/>
            <p:cNvSpPr/>
            <p:nvPr/>
          </p:nvSpPr>
          <p:spPr>
            <a:xfrm>
              <a:off x="7843680" y="2468520"/>
              <a:ext cx="63504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Arial"/>
                  <a:ea typeface="Arial"/>
                </a:rPr>
                <a:t>*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Rectangle 33"/>
            <p:cNvSpPr/>
            <p:nvPr/>
          </p:nvSpPr>
          <p:spPr>
            <a:xfrm>
              <a:off x="6203880" y="3846600"/>
              <a:ext cx="63360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Arial"/>
                  <a:ea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Rectangle 34"/>
            <p:cNvSpPr/>
            <p:nvPr/>
          </p:nvSpPr>
          <p:spPr>
            <a:xfrm>
              <a:off x="7713720" y="3846600"/>
              <a:ext cx="63324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Rectangle 35"/>
            <p:cNvSpPr/>
            <p:nvPr/>
          </p:nvSpPr>
          <p:spPr>
            <a:xfrm>
              <a:off x="6991200" y="5094360"/>
              <a:ext cx="63360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Arial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Line 36"/>
            <p:cNvSpPr/>
            <p:nvPr/>
          </p:nvSpPr>
          <p:spPr>
            <a:xfrm>
              <a:off x="6257880" y="1866960"/>
              <a:ext cx="0" cy="59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Line 37"/>
            <p:cNvSpPr/>
            <p:nvPr/>
          </p:nvSpPr>
          <p:spPr>
            <a:xfrm>
              <a:off x="8161200" y="1866960"/>
              <a:ext cx="0" cy="59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Line 38"/>
            <p:cNvSpPr/>
            <p:nvPr/>
          </p:nvSpPr>
          <p:spPr>
            <a:xfrm>
              <a:off x="6389640" y="2982960"/>
              <a:ext cx="0" cy="85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Freeform 39"/>
            <p:cNvSpPr/>
            <p:nvPr/>
          </p:nvSpPr>
          <p:spPr>
            <a:xfrm>
              <a:off x="6519960" y="2063880"/>
              <a:ext cx="1643040" cy="395280"/>
            </a:xfrm>
            <a:custGeom>
              <a:avLst/>
              <a:gdLst/>
              <a:ahLst/>
              <a:rect l="l" t="t" r="r" b="b"/>
              <a:pathLst>
                <a:path w="1201" h="289">
                  <a:moveTo>
                    <a:pt x="1200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Line 40"/>
            <p:cNvSpPr/>
            <p:nvPr/>
          </p:nvSpPr>
          <p:spPr>
            <a:xfrm>
              <a:off x="8161200" y="2982960"/>
              <a:ext cx="0" cy="85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Freeform 41"/>
            <p:cNvSpPr/>
            <p:nvPr/>
          </p:nvSpPr>
          <p:spPr>
            <a:xfrm>
              <a:off x="6389640" y="3179880"/>
              <a:ext cx="1511280" cy="657000"/>
            </a:xfrm>
            <a:custGeom>
              <a:avLst/>
              <a:gdLst/>
              <a:ahLst/>
              <a:rect l="l" t="t" r="r" b="b"/>
              <a:pathLst>
                <a:path w="1105" h="481">
                  <a:moveTo>
                    <a:pt x="0" y="0"/>
                  </a:moveTo>
                  <a:lnTo>
                    <a:pt x="1104" y="0"/>
                  </a:lnTo>
                  <a:lnTo>
                    <a:pt x="1104" y="48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Freeform 42"/>
            <p:cNvSpPr/>
            <p:nvPr/>
          </p:nvSpPr>
          <p:spPr>
            <a:xfrm>
              <a:off x="6651720" y="3443400"/>
              <a:ext cx="1511280" cy="393480"/>
            </a:xfrm>
            <a:custGeom>
              <a:avLst/>
              <a:gdLst/>
              <a:ahLst/>
              <a:rect l="l" t="t" r="r" b="b"/>
              <a:pathLst>
                <a:path w="1105" h="289">
                  <a:moveTo>
                    <a:pt x="1104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Freeform 43"/>
            <p:cNvSpPr/>
            <p:nvPr/>
          </p:nvSpPr>
          <p:spPr>
            <a:xfrm>
              <a:off x="6519960" y="4361040"/>
              <a:ext cx="658800" cy="723600"/>
            </a:xfrm>
            <a:custGeom>
              <a:avLst/>
              <a:gdLst/>
              <a:ahLst/>
              <a:rect l="l" t="t" r="r" b="b"/>
              <a:pathLst>
                <a:path w="481" h="529">
                  <a:moveTo>
                    <a:pt x="0" y="0"/>
                  </a:moveTo>
                  <a:lnTo>
                    <a:pt x="0" y="240"/>
                  </a:lnTo>
                  <a:lnTo>
                    <a:pt x="480" y="240"/>
                  </a:lnTo>
                  <a:lnTo>
                    <a:pt x="480" y="52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Freeform 44"/>
            <p:cNvSpPr/>
            <p:nvPr/>
          </p:nvSpPr>
          <p:spPr>
            <a:xfrm>
              <a:off x="7439040" y="4361040"/>
              <a:ext cx="593640" cy="723600"/>
            </a:xfrm>
            <a:custGeom>
              <a:avLst/>
              <a:gdLst/>
              <a:ahLst/>
              <a:rect l="l" t="t" r="r" b="b"/>
              <a:pathLst>
                <a:path w="433" h="529">
                  <a:moveTo>
                    <a:pt x="432" y="0"/>
                  </a:moveTo>
                  <a:lnTo>
                    <a:pt x="432" y="240"/>
                  </a:lnTo>
                  <a:lnTo>
                    <a:pt x="0" y="240"/>
                  </a:lnTo>
                  <a:lnTo>
                    <a:pt x="0" y="52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Line 45"/>
            <p:cNvSpPr/>
            <p:nvPr/>
          </p:nvSpPr>
          <p:spPr>
            <a:xfrm>
              <a:off x="7307280" y="5608800"/>
              <a:ext cx="0" cy="39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Oval 46"/>
            <p:cNvSpPr/>
            <p:nvPr/>
          </p:nvSpPr>
          <p:spPr>
            <a:xfrm>
              <a:off x="6356520" y="3146400"/>
              <a:ext cx="648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Oval 47"/>
            <p:cNvSpPr/>
            <p:nvPr/>
          </p:nvSpPr>
          <p:spPr>
            <a:xfrm>
              <a:off x="8128080" y="3409920"/>
              <a:ext cx="65160" cy="63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Oval 48"/>
            <p:cNvSpPr/>
            <p:nvPr/>
          </p:nvSpPr>
          <p:spPr>
            <a:xfrm>
              <a:off x="8128080" y="203040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Rectangle 49"/>
            <p:cNvSpPr/>
            <p:nvPr/>
          </p:nvSpPr>
          <p:spPr>
            <a:xfrm>
              <a:off x="8188920" y="3273480"/>
              <a:ext cx="333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56127a"/>
                  </a:solidFill>
                  <a:latin typeface="Arial"/>
                  <a:ea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Rectangle 50"/>
            <p:cNvSpPr/>
            <p:nvPr/>
          </p:nvSpPr>
          <p:spPr>
            <a:xfrm>
              <a:off x="6088680" y="3076560"/>
              <a:ext cx="333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56127a"/>
                  </a:solidFill>
                  <a:latin typeface="Arial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Rectangle 51"/>
            <p:cNvSpPr/>
            <p:nvPr/>
          </p:nvSpPr>
          <p:spPr>
            <a:xfrm>
              <a:off x="5730120" y="249228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Rectangle 52"/>
            <p:cNvSpPr/>
            <p:nvPr/>
          </p:nvSpPr>
          <p:spPr>
            <a:xfrm>
              <a:off x="7517520" y="249228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Rectangle 53"/>
            <p:cNvSpPr/>
            <p:nvPr/>
          </p:nvSpPr>
          <p:spPr>
            <a:xfrm>
              <a:off x="5882400" y="388620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Rectangle 54"/>
            <p:cNvSpPr/>
            <p:nvPr/>
          </p:nvSpPr>
          <p:spPr>
            <a:xfrm>
              <a:off x="7379640" y="384804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Rectangle 55"/>
            <p:cNvSpPr/>
            <p:nvPr/>
          </p:nvSpPr>
          <p:spPr>
            <a:xfrm>
              <a:off x="6668280" y="511488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6" name="PlaceHolder 2"/>
          <p:cNvSpPr>
            <a:spLocks noGrp="1"/>
          </p:cNvSpPr>
          <p:nvPr>
            <p:ph/>
          </p:nvPr>
        </p:nvSpPr>
        <p:spPr>
          <a:xfrm>
            <a:off x="455760" y="2774520"/>
            <a:ext cx="4456080" cy="28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es in dataflow graphs are represented as tok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operator executes when all its input tokens are present; copies of the result token are distributed to the destination opera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17" name="Group 68"/>
          <p:cNvGrpSpPr/>
          <p:nvPr/>
        </p:nvGrpSpPr>
        <p:grpSpPr>
          <a:xfrm>
            <a:off x="1057320" y="3602160"/>
            <a:ext cx="3438360" cy="774000"/>
            <a:chOff x="1057320" y="3602160"/>
            <a:chExt cx="3438360" cy="774000"/>
          </a:xfrm>
        </p:grpSpPr>
        <p:sp>
          <p:nvSpPr>
            <p:cNvPr id="4818" name="Rectangle 58"/>
            <p:cNvSpPr/>
            <p:nvPr/>
          </p:nvSpPr>
          <p:spPr>
            <a:xfrm>
              <a:off x="1057320" y="3627360"/>
              <a:ext cx="7416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200" bIns="252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ok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9" name="Group 59"/>
            <p:cNvGrpSpPr/>
            <p:nvPr/>
          </p:nvGrpSpPr>
          <p:grpSpPr>
            <a:xfrm>
              <a:off x="1319040" y="3602160"/>
              <a:ext cx="3176640" cy="774000"/>
              <a:chOff x="1319040" y="3602160"/>
              <a:chExt cx="3176640" cy="774000"/>
            </a:xfrm>
          </p:grpSpPr>
          <p:sp>
            <p:nvSpPr>
              <p:cNvPr id="4820" name="Rectangle 60"/>
              <p:cNvSpPr/>
              <p:nvPr/>
            </p:nvSpPr>
            <p:spPr>
              <a:xfrm>
                <a:off x="2481480" y="3602160"/>
                <a:ext cx="1724760" cy="36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200" bIns="25200" anchor="t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56127a"/>
                    </a:solidFill>
                    <a:latin typeface="Verdana"/>
                    <a:ea typeface="Arial"/>
                  </a:rPr>
                  <a:t>&lt; ip , p , v &gt;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Rectangle 61"/>
              <p:cNvSpPr/>
              <p:nvPr/>
            </p:nvSpPr>
            <p:spPr>
              <a:xfrm>
                <a:off x="1319040" y="4133880"/>
                <a:ext cx="132084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200" bIns="252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56127a"/>
                    </a:solidFill>
                    <a:latin typeface="Verdana"/>
                    <a:ea typeface="Arial"/>
                  </a:rPr>
                  <a:t>instruction pt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Rectangle 62"/>
              <p:cNvSpPr/>
              <p:nvPr/>
            </p:nvSpPr>
            <p:spPr>
              <a:xfrm>
                <a:off x="3279600" y="4121280"/>
                <a:ext cx="48240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200" bIns="252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56127a"/>
                    </a:solidFill>
                    <a:latin typeface="Verdana"/>
                    <a:ea typeface="Arial"/>
                  </a:rPr>
                  <a:t>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Rectangle 63"/>
              <p:cNvSpPr/>
              <p:nvPr/>
            </p:nvSpPr>
            <p:spPr>
              <a:xfrm>
                <a:off x="3993480" y="4121280"/>
                <a:ext cx="50220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200" bIns="252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56127a"/>
                    </a:solidFill>
                    <a:latin typeface="Verdana"/>
                    <a:ea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Line 64"/>
              <p:cNvSpPr/>
              <p:nvPr/>
            </p:nvSpPr>
            <p:spPr>
              <a:xfrm flipV="1">
                <a:off x="2184480" y="3983040"/>
                <a:ext cx="569520" cy="13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Line 65"/>
              <p:cNvSpPr/>
              <p:nvPr/>
            </p:nvSpPr>
            <p:spPr>
              <a:xfrm>
                <a:off x="3313080" y="4008600"/>
                <a:ext cx="177480" cy="13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Line 66"/>
              <p:cNvSpPr/>
              <p:nvPr/>
            </p:nvSpPr>
            <p:spPr>
              <a:xfrm>
                <a:off x="3859200" y="3957840"/>
                <a:ext cx="34092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27" name="Group 72"/>
          <p:cNvGrpSpPr/>
          <p:nvPr/>
        </p:nvGrpSpPr>
        <p:grpSpPr>
          <a:xfrm>
            <a:off x="4470480" y="3325680"/>
            <a:ext cx="1981080" cy="716400"/>
            <a:chOff x="4470480" y="3325680"/>
            <a:chExt cx="1981080" cy="716400"/>
          </a:xfrm>
        </p:grpSpPr>
        <p:sp>
          <p:nvSpPr>
            <p:cNvPr id="4828" name="Oval 69"/>
            <p:cNvSpPr/>
            <p:nvPr/>
          </p:nvSpPr>
          <p:spPr>
            <a:xfrm>
              <a:off x="6311880" y="351468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Line 70"/>
            <p:cNvSpPr/>
            <p:nvPr/>
          </p:nvSpPr>
          <p:spPr>
            <a:xfrm flipV="1">
              <a:off x="4470480" y="3619080"/>
              <a:ext cx="170172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Text Box 71"/>
            <p:cNvSpPr/>
            <p:nvPr/>
          </p:nvSpPr>
          <p:spPr>
            <a:xfrm rot="21274200">
              <a:off x="4811760" y="3362400"/>
              <a:ext cx="81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Arial"/>
                  <a:ea typeface="Arial"/>
                </a:rPr>
                <a:t>ip = 3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Arial"/>
                  <a:ea typeface="Arial"/>
                </a:rPr>
                <a:t>p =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1" name="Text Box 73"/>
          <p:cNvSpPr/>
          <p:nvPr/>
        </p:nvSpPr>
        <p:spPr>
          <a:xfrm>
            <a:off x="3367440" y="6019920"/>
            <a:ext cx="260244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separate control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Example Data Flow Program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ABEC-3D00-4F99-8FB4-004F83075C96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4" name="Picture 2" descr=""/>
          <p:cNvPicPr/>
          <p:nvPr/>
        </p:nvPicPr>
        <p:blipFill>
          <a:blip r:embed="rId1"/>
          <a:stretch/>
        </p:blipFill>
        <p:spPr>
          <a:xfrm>
            <a:off x="2286000" y="996840"/>
            <a:ext cx="4913280" cy="5678640"/>
          </a:xfrm>
          <a:prstGeom prst="rect">
            <a:avLst/>
          </a:prstGeom>
          <a:ln w="0">
            <a:noFill/>
          </a:ln>
        </p:spPr>
      </p:pic>
      <p:sp>
        <p:nvSpPr>
          <p:cNvPr id="4835" name="TextBox 4"/>
          <p:cNvSpPr/>
          <p:nvPr/>
        </p:nvSpPr>
        <p:spPr>
          <a:xfrm>
            <a:off x="2209680" y="54100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Flow vs. Data Flow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837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483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4F9F-156B-4F2B-B9EB-A718BCD6EF1C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9" name="Picture 4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7334280" cy="53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tatic Dataflow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4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only one instance of a node to be enabled for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taflow node is fired only when all of the tokens are available on its input arcs and no tokens exist on any of its its output ar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nis and Misunas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 Preliminary Architecture for a Basic Data Flow Process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ISCA 197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10F7-198B-4898-B7C3-42A08990EFBE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3" name="Rectangle 2"/>
          <p:cNvSpPr/>
          <p:nvPr/>
        </p:nvSpPr>
        <p:spPr>
          <a:xfrm>
            <a:off x="1231920" y="2351160"/>
            <a:ext cx="3373560" cy="20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Rectangle 3"/>
          <p:cNvSpPr/>
          <p:nvPr/>
        </p:nvSpPr>
        <p:spPr>
          <a:xfrm>
            <a:off x="3851280" y="2355840"/>
            <a:ext cx="152280" cy="203832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Rectangle 4"/>
          <p:cNvSpPr/>
          <p:nvPr/>
        </p:nvSpPr>
        <p:spPr>
          <a:xfrm>
            <a:off x="3171960" y="2352600"/>
            <a:ext cx="152280" cy="203832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PlaceHolder 1"/>
          <p:cNvSpPr>
            <a:spLocks noGrp="1"/>
          </p:cNvSpPr>
          <p:nvPr>
            <p:ph type="title"/>
          </p:nvPr>
        </p:nvSpPr>
        <p:spPr>
          <a:xfrm>
            <a:off x="320760" y="336600"/>
            <a:ext cx="5859360" cy="7826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127a"/>
                </a:solidFill>
                <a:latin typeface="Verdana"/>
              </a:rPr>
              <a:t>Static Dataflow Machine:</a:t>
            </a:r>
            <a:br>
              <a:rPr sz="3600"/>
            </a:br>
            <a:r>
              <a:rPr b="0" i="1" lang="en-US" sz="2400" spc="-1" strike="noStrike">
                <a:solidFill>
                  <a:srgbClr val="56127a"/>
                </a:solidFill>
                <a:latin typeface="Verdana"/>
              </a:rPr>
              <a:t>Instruction Templates</a:t>
            </a:r>
            <a:endParaRPr b="0" lang="en-US" sz="2400" spc="-1" strike="noStrike">
              <a:solidFill>
                <a:srgbClr val="56127a"/>
              </a:solidFill>
              <a:latin typeface="Verdana"/>
            </a:endParaRPr>
          </a:p>
        </p:txBody>
      </p:sp>
      <p:sp>
        <p:nvSpPr>
          <p:cNvPr id="4847" name="Rectangle 6"/>
          <p:cNvSpPr/>
          <p:nvPr/>
        </p:nvSpPr>
        <p:spPr>
          <a:xfrm>
            <a:off x="1009800" y="5165640"/>
            <a:ext cx="47466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Each arc in the graph has an operand slot in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Rectangle 7"/>
          <p:cNvSpPr/>
          <p:nvPr/>
        </p:nvSpPr>
        <p:spPr>
          <a:xfrm rot="19466400">
            <a:off x="1854360" y="1701360"/>
            <a:ext cx="1446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56127a"/>
                </a:solidFill>
                <a:latin typeface="Verdana"/>
                <a:ea typeface="Arial"/>
              </a:rPr>
              <a:t>Destina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Rectangle 8"/>
          <p:cNvSpPr/>
          <p:nvPr/>
        </p:nvSpPr>
        <p:spPr>
          <a:xfrm rot="19466400">
            <a:off x="2625840" y="1699920"/>
            <a:ext cx="1446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56127a"/>
                </a:solidFill>
                <a:latin typeface="Verdana"/>
                <a:ea typeface="Arial"/>
              </a:rPr>
              <a:t>Destina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Rectangle 9"/>
          <p:cNvSpPr/>
          <p:nvPr/>
        </p:nvSpPr>
        <p:spPr>
          <a:xfrm>
            <a:off x="4217400" y="4468680"/>
            <a:ext cx="17186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56127a"/>
                </a:solidFill>
                <a:latin typeface="Verdana"/>
                <a:ea typeface="Arial"/>
              </a:rPr>
              <a:t>Presenc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1" name="Group 10"/>
          <p:cNvGrpSpPr/>
          <p:nvPr/>
        </p:nvGrpSpPr>
        <p:grpSpPr>
          <a:xfrm>
            <a:off x="868320" y="2354400"/>
            <a:ext cx="349200" cy="2039760"/>
            <a:chOff x="868320" y="2354400"/>
            <a:chExt cx="349200" cy="2039760"/>
          </a:xfrm>
        </p:grpSpPr>
        <p:sp>
          <p:nvSpPr>
            <p:cNvPr id="4852" name="Rectangle 11"/>
            <p:cNvSpPr/>
            <p:nvPr/>
          </p:nvSpPr>
          <p:spPr>
            <a:xfrm>
              <a:off x="868320" y="2354400"/>
              <a:ext cx="34920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2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Rectangle 12"/>
            <p:cNvSpPr/>
            <p:nvPr/>
          </p:nvSpPr>
          <p:spPr>
            <a:xfrm>
              <a:off x="868320" y="2764800"/>
              <a:ext cx="34920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2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Rectangle 13"/>
            <p:cNvSpPr/>
            <p:nvPr/>
          </p:nvSpPr>
          <p:spPr>
            <a:xfrm>
              <a:off x="868320" y="3184920"/>
              <a:ext cx="34920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2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Rectangle 14"/>
            <p:cNvSpPr/>
            <p:nvPr/>
          </p:nvSpPr>
          <p:spPr>
            <a:xfrm>
              <a:off x="868320" y="3593520"/>
              <a:ext cx="34920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2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Rectangle 15"/>
            <p:cNvSpPr/>
            <p:nvPr/>
          </p:nvSpPr>
          <p:spPr>
            <a:xfrm>
              <a:off x="868320" y="4003920"/>
              <a:ext cx="34920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2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7" name="Line 16"/>
          <p:cNvSpPr/>
          <p:nvPr/>
        </p:nvSpPr>
        <p:spPr>
          <a:xfrm>
            <a:off x="1219320" y="2771640"/>
            <a:ext cx="338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Line 17"/>
          <p:cNvSpPr/>
          <p:nvPr/>
        </p:nvSpPr>
        <p:spPr>
          <a:xfrm>
            <a:off x="1231920" y="3168720"/>
            <a:ext cx="33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Line 18"/>
          <p:cNvSpPr/>
          <p:nvPr/>
        </p:nvSpPr>
        <p:spPr>
          <a:xfrm>
            <a:off x="1231920" y="3613320"/>
            <a:ext cx="33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Line 19"/>
          <p:cNvSpPr/>
          <p:nvPr/>
        </p:nvSpPr>
        <p:spPr>
          <a:xfrm>
            <a:off x="1231920" y="4010040"/>
            <a:ext cx="33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Line 20"/>
          <p:cNvSpPr/>
          <p:nvPr/>
        </p:nvSpPr>
        <p:spPr>
          <a:xfrm>
            <a:off x="2484360" y="2360520"/>
            <a:ext cx="0" cy="203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Rectangle 21"/>
          <p:cNvSpPr/>
          <p:nvPr/>
        </p:nvSpPr>
        <p:spPr>
          <a:xfrm>
            <a:off x="1326240" y="2287440"/>
            <a:ext cx="16750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56127a"/>
                </a:solidFill>
                <a:latin typeface="Courier New"/>
                <a:ea typeface="Arial"/>
              </a:rPr>
              <a:t>+ </a:t>
            </a:r>
            <a:r>
              <a:rPr b="1" lang="en-US" sz="2200" spc="-1" strike="noStrike">
                <a:solidFill>
                  <a:srgbClr val="56127a"/>
                </a:solidFill>
                <a:latin typeface="Courier New"/>
                <a:ea typeface="Arial"/>
              </a:rPr>
              <a:t>3L  4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Rectangle 22"/>
          <p:cNvSpPr/>
          <p:nvPr/>
        </p:nvSpPr>
        <p:spPr>
          <a:xfrm>
            <a:off x="1397160" y="2658960"/>
            <a:ext cx="156816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 baseline="-25000">
                <a:solidFill>
                  <a:srgbClr val="56127a"/>
                </a:solidFill>
                <a:latin typeface="Arial"/>
                <a:ea typeface="Arial"/>
              </a:rPr>
              <a:t>*</a:t>
            </a:r>
            <a:r>
              <a:rPr b="1" lang="en-US" sz="1600" spc="-1" strike="noStrike">
                <a:solidFill>
                  <a:srgbClr val="56127a"/>
                </a:solidFill>
                <a:latin typeface="Courier New"/>
                <a:ea typeface="Arial"/>
              </a:rPr>
              <a:t>  </a:t>
            </a:r>
            <a:r>
              <a:rPr b="1" lang="en-US" sz="2200" spc="-1" strike="noStrike">
                <a:solidFill>
                  <a:srgbClr val="56127a"/>
                </a:solidFill>
                <a:latin typeface="Courier New"/>
                <a:ea typeface="Arial"/>
              </a:rPr>
              <a:t>3R  4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Rectangle 23"/>
          <p:cNvSpPr/>
          <p:nvPr/>
        </p:nvSpPr>
        <p:spPr>
          <a:xfrm>
            <a:off x="1321920" y="3117960"/>
            <a:ext cx="10044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56127a"/>
                </a:solidFill>
                <a:latin typeface="Courier New"/>
                <a:ea typeface="Arial"/>
              </a:rPr>
              <a:t>- </a:t>
            </a:r>
            <a:r>
              <a:rPr b="1" lang="en-US" sz="2200" spc="-1" strike="noStrike">
                <a:solidFill>
                  <a:srgbClr val="56127a"/>
                </a:solidFill>
                <a:latin typeface="Courier New"/>
                <a:ea typeface="Arial"/>
              </a:rPr>
              <a:t>5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Rectangle 24"/>
          <p:cNvSpPr/>
          <p:nvPr/>
        </p:nvSpPr>
        <p:spPr>
          <a:xfrm>
            <a:off x="1336680" y="3538440"/>
            <a:ext cx="10044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56127a"/>
                </a:solidFill>
                <a:latin typeface="Courier New"/>
                <a:ea typeface="Arial"/>
              </a:rPr>
              <a:t>+ </a:t>
            </a:r>
            <a:r>
              <a:rPr b="1" lang="en-US" sz="2200" spc="-1" strike="noStrike">
                <a:solidFill>
                  <a:srgbClr val="56127a"/>
                </a:solidFill>
                <a:latin typeface="Courier New"/>
                <a:ea typeface="Arial"/>
              </a:rPr>
              <a:t>5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Rectangle 25"/>
          <p:cNvSpPr/>
          <p:nvPr/>
        </p:nvSpPr>
        <p:spPr>
          <a:xfrm>
            <a:off x="1377720" y="3873600"/>
            <a:ext cx="113976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 baseline="-25000">
                <a:solidFill>
                  <a:srgbClr val="56127a"/>
                </a:solidFill>
                <a:latin typeface="Courier New"/>
                <a:ea typeface="Arial"/>
              </a:rPr>
              <a:t>*</a:t>
            </a:r>
            <a:r>
              <a:rPr b="1" lang="en-US" sz="3200" spc="-1" strike="noStrike">
                <a:solidFill>
                  <a:srgbClr val="56127a"/>
                </a:solidFill>
                <a:latin typeface="Courier New"/>
                <a:ea typeface="Arial"/>
              </a:rPr>
              <a:t> </a:t>
            </a:r>
            <a:r>
              <a:rPr b="1" lang="en-US" sz="2200" spc="-1" strike="noStrike">
                <a:solidFill>
                  <a:srgbClr val="56127a"/>
                </a:solidFill>
                <a:latin typeface="Courier New"/>
                <a:ea typeface="Arial"/>
              </a:rPr>
              <a:t>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Line 26"/>
          <p:cNvSpPr/>
          <p:nvPr/>
        </p:nvSpPr>
        <p:spPr>
          <a:xfrm>
            <a:off x="1751040" y="2338560"/>
            <a:ext cx="0" cy="205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Rectangle 27"/>
          <p:cNvSpPr/>
          <p:nvPr/>
        </p:nvSpPr>
        <p:spPr>
          <a:xfrm rot="19457400">
            <a:off x="1294560" y="1873080"/>
            <a:ext cx="923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56127a"/>
                </a:solidFill>
                <a:latin typeface="Verdana"/>
                <a:ea typeface="Arial"/>
              </a:rPr>
              <a:t>Op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Rectangle 28"/>
          <p:cNvSpPr/>
          <p:nvPr/>
        </p:nvSpPr>
        <p:spPr>
          <a:xfrm rot="19463400">
            <a:off x="3360600" y="1784520"/>
            <a:ext cx="1196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56127a"/>
                </a:solidFill>
                <a:latin typeface="Verdana"/>
                <a:ea typeface="Arial"/>
              </a:rPr>
              <a:t>Opera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Rectangle 29"/>
          <p:cNvSpPr/>
          <p:nvPr/>
        </p:nvSpPr>
        <p:spPr>
          <a:xfrm rot="19463400">
            <a:off x="4032000" y="1784520"/>
            <a:ext cx="1196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56127a"/>
                </a:solidFill>
                <a:latin typeface="Verdana"/>
                <a:ea typeface="Arial"/>
              </a:rPr>
              <a:t>Operan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1" name="Group 30"/>
          <p:cNvGrpSpPr/>
          <p:nvPr/>
        </p:nvGrpSpPr>
        <p:grpSpPr>
          <a:xfrm>
            <a:off x="5730120" y="1631880"/>
            <a:ext cx="2808000" cy="4370400"/>
            <a:chOff x="5730120" y="1631880"/>
            <a:chExt cx="2808000" cy="4370400"/>
          </a:xfrm>
        </p:grpSpPr>
        <p:sp>
          <p:nvSpPr>
            <p:cNvPr id="4872" name="Rectangle 31"/>
            <p:cNvSpPr/>
            <p:nvPr/>
          </p:nvSpPr>
          <p:spPr>
            <a:xfrm>
              <a:off x="5944680" y="1643040"/>
              <a:ext cx="364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Rectangle 32"/>
            <p:cNvSpPr/>
            <p:nvPr/>
          </p:nvSpPr>
          <p:spPr>
            <a:xfrm>
              <a:off x="8146800" y="1631880"/>
              <a:ext cx="364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Rectangle 33"/>
            <p:cNvSpPr/>
            <p:nvPr/>
          </p:nvSpPr>
          <p:spPr>
            <a:xfrm>
              <a:off x="6072120" y="2468520"/>
              <a:ext cx="63360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Rectangle 34"/>
            <p:cNvSpPr/>
            <p:nvPr/>
          </p:nvSpPr>
          <p:spPr>
            <a:xfrm>
              <a:off x="7843680" y="2468520"/>
              <a:ext cx="63504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*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Rectangle 35"/>
            <p:cNvSpPr/>
            <p:nvPr/>
          </p:nvSpPr>
          <p:spPr>
            <a:xfrm>
              <a:off x="6203880" y="3846600"/>
              <a:ext cx="63360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Rectangle 36"/>
            <p:cNvSpPr/>
            <p:nvPr/>
          </p:nvSpPr>
          <p:spPr>
            <a:xfrm>
              <a:off x="7713720" y="3846600"/>
              <a:ext cx="63324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Rectangle 37"/>
            <p:cNvSpPr/>
            <p:nvPr/>
          </p:nvSpPr>
          <p:spPr>
            <a:xfrm>
              <a:off x="6991200" y="5094360"/>
              <a:ext cx="63360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Line 38"/>
            <p:cNvSpPr/>
            <p:nvPr/>
          </p:nvSpPr>
          <p:spPr>
            <a:xfrm>
              <a:off x="6257880" y="1866960"/>
              <a:ext cx="0" cy="59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Line 39"/>
            <p:cNvSpPr/>
            <p:nvPr/>
          </p:nvSpPr>
          <p:spPr>
            <a:xfrm>
              <a:off x="8161200" y="1866960"/>
              <a:ext cx="0" cy="59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Line 40"/>
            <p:cNvSpPr/>
            <p:nvPr/>
          </p:nvSpPr>
          <p:spPr>
            <a:xfrm>
              <a:off x="6389640" y="2982960"/>
              <a:ext cx="0" cy="85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Freeform 41"/>
            <p:cNvSpPr/>
            <p:nvPr/>
          </p:nvSpPr>
          <p:spPr>
            <a:xfrm>
              <a:off x="6519960" y="2063880"/>
              <a:ext cx="1643040" cy="395280"/>
            </a:xfrm>
            <a:custGeom>
              <a:avLst/>
              <a:gdLst/>
              <a:ahLst/>
              <a:rect l="l" t="t" r="r" b="b"/>
              <a:pathLst>
                <a:path w="1201" h="289">
                  <a:moveTo>
                    <a:pt x="1200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Line 42"/>
            <p:cNvSpPr/>
            <p:nvPr/>
          </p:nvSpPr>
          <p:spPr>
            <a:xfrm>
              <a:off x="8161200" y="2982960"/>
              <a:ext cx="0" cy="85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Freeform 43"/>
            <p:cNvSpPr/>
            <p:nvPr/>
          </p:nvSpPr>
          <p:spPr>
            <a:xfrm>
              <a:off x="6389640" y="3179880"/>
              <a:ext cx="1511280" cy="657000"/>
            </a:xfrm>
            <a:custGeom>
              <a:avLst/>
              <a:gdLst/>
              <a:ahLst/>
              <a:rect l="l" t="t" r="r" b="b"/>
              <a:pathLst>
                <a:path w="1105" h="481">
                  <a:moveTo>
                    <a:pt x="0" y="0"/>
                  </a:moveTo>
                  <a:lnTo>
                    <a:pt x="1104" y="0"/>
                  </a:lnTo>
                  <a:lnTo>
                    <a:pt x="1104" y="48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Freeform 44"/>
            <p:cNvSpPr/>
            <p:nvPr/>
          </p:nvSpPr>
          <p:spPr>
            <a:xfrm>
              <a:off x="6651720" y="3443400"/>
              <a:ext cx="1511280" cy="393480"/>
            </a:xfrm>
            <a:custGeom>
              <a:avLst/>
              <a:gdLst/>
              <a:ahLst/>
              <a:rect l="l" t="t" r="r" b="b"/>
              <a:pathLst>
                <a:path w="1105" h="289">
                  <a:moveTo>
                    <a:pt x="1104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Freeform 45"/>
            <p:cNvSpPr/>
            <p:nvPr/>
          </p:nvSpPr>
          <p:spPr>
            <a:xfrm>
              <a:off x="6519960" y="4361040"/>
              <a:ext cx="658800" cy="723600"/>
            </a:xfrm>
            <a:custGeom>
              <a:avLst/>
              <a:gdLst/>
              <a:ahLst/>
              <a:rect l="l" t="t" r="r" b="b"/>
              <a:pathLst>
                <a:path w="481" h="529">
                  <a:moveTo>
                    <a:pt x="0" y="0"/>
                  </a:moveTo>
                  <a:lnTo>
                    <a:pt x="0" y="240"/>
                  </a:lnTo>
                  <a:lnTo>
                    <a:pt x="480" y="240"/>
                  </a:lnTo>
                  <a:lnTo>
                    <a:pt x="480" y="52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Freeform 46"/>
            <p:cNvSpPr/>
            <p:nvPr/>
          </p:nvSpPr>
          <p:spPr>
            <a:xfrm>
              <a:off x="7439040" y="4361040"/>
              <a:ext cx="593640" cy="723600"/>
            </a:xfrm>
            <a:custGeom>
              <a:avLst/>
              <a:gdLst/>
              <a:ahLst/>
              <a:rect l="l" t="t" r="r" b="b"/>
              <a:pathLst>
                <a:path w="433" h="529">
                  <a:moveTo>
                    <a:pt x="432" y="0"/>
                  </a:moveTo>
                  <a:lnTo>
                    <a:pt x="432" y="240"/>
                  </a:lnTo>
                  <a:lnTo>
                    <a:pt x="0" y="240"/>
                  </a:lnTo>
                  <a:lnTo>
                    <a:pt x="0" y="52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Line 47"/>
            <p:cNvSpPr/>
            <p:nvPr/>
          </p:nvSpPr>
          <p:spPr>
            <a:xfrm>
              <a:off x="7307280" y="5608800"/>
              <a:ext cx="0" cy="39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Oval 48"/>
            <p:cNvSpPr/>
            <p:nvPr/>
          </p:nvSpPr>
          <p:spPr>
            <a:xfrm>
              <a:off x="6356520" y="3146400"/>
              <a:ext cx="648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Oval 49"/>
            <p:cNvSpPr/>
            <p:nvPr/>
          </p:nvSpPr>
          <p:spPr>
            <a:xfrm>
              <a:off x="8128080" y="3409920"/>
              <a:ext cx="65160" cy="63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Oval 50"/>
            <p:cNvSpPr/>
            <p:nvPr/>
          </p:nvSpPr>
          <p:spPr>
            <a:xfrm>
              <a:off x="8128080" y="203040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Rectangle 51"/>
            <p:cNvSpPr/>
            <p:nvPr/>
          </p:nvSpPr>
          <p:spPr>
            <a:xfrm>
              <a:off x="8173800" y="3273480"/>
              <a:ext cx="364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Rectangle 52"/>
            <p:cNvSpPr/>
            <p:nvPr/>
          </p:nvSpPr>
          <p:spPr>
            <a:xfrm>
              <a:off x="6073560" y="3076560"/>
              <a:ext cx="364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Rectangle 53"/>
            <p:cNvSpPr/>
            <p:nvPr/>
          </p:nvSpPr>
          <p:spPr>
            <a:xfrm>
              <a:off x="5730120" y="249228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Rectangle 54"/>
            <p:cNvSpPr/>
            <p:nvPr/>
          </p:nvSpPr>
          <p:spPr>
            <a:xfrm>
              <a:off x="7517520" y="249228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Rectangle 55"/>
            <p:cNvSpPr/>
            <p:nvPr/>
          </p:nvSpPr>
          <p:spPr>
            <a:xfrm>
              <a:off x="5882400" y="388620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Rectangle 56"/>
            <p:cNvSpPr/>
            <p:nvPr/>
          </p:nvSpPr>
          <p:spPr>
            <a:xfrm>
              <a:off x="7379640" y="384804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Rectangle 57"/>
            <p:cNvSpPr/>
            <p:nvPr/>
          </p:nvSpPr>
          <p:spPr>
            <a:xfrm>
              <a:off x="6668280" y="511488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9" name="Line 58"/>
          <p:cNvSpPr/>
          <p:nvPr/>
        </p:nvSpPr>
        <p:spPr>
          <a:xfrm flipH="1" flipV="1">
            <a:off x="3214800" y="4443480"/>
            <a:ext cx="914400" cy="226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Line 59"/>
          <p:cNvSpPr/>
          <p:nvPr/>
        </p:nvSpPr>
        <p:spPr>
          <a:xfrm flipH="1" flipV="1">
            <a:off x="3925800" y="4468320"/>
            <a:ext cx="254160" cy="16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1" name="Rectangle 56"/>
          <p:cNvSpPr/>
          <p:nvPr/>
        </p:nvSpPr>
        <p:spPr>
          <a:xfrm>
            <a:off x="1441440" y="1428840"/>
            <a:ext cx="6481800" cy="39211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Rectangle 33"/>
          <p:cNvSpPr/>
          <p:nvPr/>
        </p:nvSpPr>
        <p:spPr>
          <a:xfrm>
            <a:off x="3706920" y="2201760"/>
            <a:ext cx="4124160" cy="1141560"/>
          </a:xfrm>
          <a:prstGeom prst="rect">
            <a:avLst/>
          </a:prstGeom>
          <a:solidFill>
            <a:srgbClr val="cc99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3" name="PlaceHolder 1"/>
          <p:cNvSpPr>
            <a:spLocks noGrp="1"/>
          </p:cNvSpPr>
          <p:nvPr>
            <p:ph type="title"/>
          </p:nvPr>
        </p:nvSpPr>
        <p:spPr>
          <a:xfrm>
            <a:off x="312840" y="228600"/>
            <a:ext cx="8850240" cy="1147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tatic Dataflow Machine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(Dennis+, ISCA 1974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04" name="Rectangle 3"/>
          <p:cNvSpPr/>
          <p:nvPr/>
        </p:nvSpPr>
        <p:spPr>
          <a:xfrm>
            <a:off x="3369240" y="4937040"/>
            <a:ext cx="2496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&lt;s</a:t>
            </a:r>
            <a:r>
              <a:rPr b="0" lang="en-US" sz="1800" spc="-1" strike="noStrike" baseline="-25000">
                <a:solidFill>
                  <a:srgbClr val="56127a"/>
                </a:solidFill>
                <a:latin typeface="Verdana"/>
                <a:ea typeface="Arial"/>
              </a:rPr>
              <a:t>1</a:t>
            </a: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, p</a:t>
            </a:r>
            <a:r>
              <a:rPr b="0" lang="en-US" sz="1800" spc="-1" strike="noStrike" baseline="-25000">
                <a:solidFill>
                  <a:srgbClr val="56127a"/>
                </a:solidFill>
                <a:latin typeface="Verdana"/>
                <a:ea typeface="Arial"/>
              </a:rPr>
              <a:t>1</a:t>
            </a: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, v</a:t>
            </a:r>
            <a:r>
              <a:rPr b="0" lang="en-US" sz="1800" spc="-1" strike="noStrike" baseline="-25000">
                <a:solidFill>
                  <a:srgbClr val="56127a"/>
                </a:solidFill>
                <a:latin typeface="Verdana"/>
                <a:ea typeface="Arial"/>
              </a:rPr>
              <a:t>1</a:t>
            </a: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&gt;, &lt;s</a:t>
            </a:r>
            <a:r>
              <a:rPr b="0" lang="en-US" sz="1800" spc="-1" strike="noStrike" baseline="-25000">
                <a:solidFill>
                  <a:srgbClr val="56127a"/>
                </a:solidFill>
                <a:latin typeface="Verdana"/>
                <a:ea typeface="Arial"/>
              </a:rPr>
              <a:t>2</a:t>
            </a: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, p</a:t>
            </a:r>
            <a:r>
              <a:rPr b="0" lang="en-US" sz="1800" spc="-1" strike="noStrike" baseline="-25000">
                <a:solidFill>
                  <a:srgbClr val="56127a"/>
                </a:solidFill>
                <a:latin typeface="Verdana"/>
                <a:ea typeface="Arial"/>
              </a:rPr>
              <a:t>2</a:t>
            </a: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, v</a:t>
            </a:r>
            <a:r>
              <a:rPr b="0" lang="en-US" sz="1800" spc="-1" strike="noStrike" baseline="-25000">
                <a:solidFill>
                  <a:srgbClr val="56127a"/>
                </a:solidFill>
                <a:latin typeface="Verdana"/>
                <a:ea typeface="Arial"/>
              </a:rPr>
              <a:t>2</a:t>
            </a: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Rectangle 4"/>
          <p:cNvSpPr/>
          <p:nvPr/>
        </p:nvSpPr>
        <p:spPr>
          <a:xfrm>
            <a:off x="3827520" y="3900600"/>
            <a:ext cx="682560" cy="617400"/>
          </a:xfrm>
          <a:prstGeom prst="rect">
            <a:avLst/>
          </a:prstGeom>
          <a:solidFill>
            <a:srgbClr val="cc99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Rectangle 5"/>
          <p:cNvSpPr/>
          <p:nvPr/>
        </p:nvSpPr>
        <p:spPr>
          <a:xfrm>
            <a:off x="4832280" y="3900600"/>
            <a:ext cx="682560" cy="617400"/>
          </a:xfrm>
          <a:prstGeom prst="rect">
            <a:avLst/>
          </a:prstGeom>
          <a:solidFill>
            <a:srgbClr val="cc99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Rectangle 6"/>
          <p:cNvSpPr/>
          <p:nvPr/>
        </p:nvSpPr>
        <p:spPr>
          <a:xfrm>
            <a:off x="5837400" y="3900600"/>
            <a:ext cx="682560" cy="617400"/>
          </a:xfrm>
          <a:prstGeom prst="rect">
            <a:avLst/>
          </a:prstGeom>
          <a:solidFill>
            <a:srgbClr val="cc99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Rectangle 7"/>
          <p:cNvSpPr/>
          <p:nvPr/>
        </p:nvSpPr>
        <p:spPr>
          <a:xfrm>
            <a:off x="6840360" y="3900600"/>
            <a:ext cx="684360" cy="617400"/>
          </a:xfrm>
          <a:prstGeom prst="rect">
            <a:avLst/>
          </a:prstGeom>
          <a:solidFill>
            <a:srgbClr val="cc99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Rectangle 8"/>
          <p:cNvSpPr/>
          <p:nvPr/>
        </p:nvSpPr>
        <p:spPr>
          <a:xfrm>
            <a:off x="2900520" y="3900600"/>
            <a:ext cx="682560" cy="617400"/>
          </a:xfrm>
          <a:prstGeom prst="rect">
            <a:avLst/>
          </a:prstGeom>
          <a:solidFill>
            <a:srgbClr val="cc99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Freeform 9"/>
          <p:cNvSpPr/>
          <p:nvPr/>
        </p:nvSpPr>
        <p:spPr>
          <a:xfrm>
            <a:off x="4179960" y="4551480"/>
            <a:ext cx="1440" cy="442800"/>
          </a:xfrm>
          <a:custGeom>
            <a:avLst/>
            <a:gdLst/>
            <a:ahLst/>
            <a:rect l="l" t="t" r="r" b="b"/>
            <a:pathLst>
              <a:path w="1" h="322">
                <a:moveTo>
                  <a:pt x="0" y="0"/>
                </a:moveTo>
                <a:lnTo>
                  <a:pt x="0" y="32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Line 10"/>
          <p:cNvSpPr/>
          <p:nvPr/>
        </p:nvSpPr>
        <p:spPr>
          <a:xfrm>
            <a:off x="3992400" y="3668760"/>
            <a:ext cx="3013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Freeform 11"/>
          <p:cNvSpPr/>
          <p:nvPr/>
        </p:nvSpPr>
        <p:spPr>
          <a:xfrm>
            <a:off x="3252960" y="4540320"/>
            <a:ext cx="1440" cy="442800"/>
          </a:xfrm>
          <a:custGeom>
            <a:avLst/>
            <a:gdLst/>
            <a:ahLst/>
            <a:rect l="l" t="t" r="r" b="b"/>
            <a:pathLst>
              <a:path w="1" h="322">
                <a:moveTo>
                  <a:pt x="0" y="0"/>
                </a:moveTo>
                <a:lnTo>
                  <a:pt x="0" y="32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Freeform 12"/>
          <p:cNvSpPr/>
          <p:nvPr/>
        </p:nvSpPr>
        <p:spPr>
          <a:xfrm>
            <a:off x="5183280" y="4540320"/>
            <a:ext cx="1440" cy="442800"/>
          </a:xfrm>
          <a:custGeom>
            <a:avLst/>
            <a:gdLst/>
            <a:ahLst/>
            <a:rect l="l" t="t" r="r" b="b"/>
            <a:pathLst>
              <a:path w="1" h="322">
                <a:moveTo>
                  <a:pt x="0" y="0"/>
                </a:moveTo>
                <a:lnTo>
                  <a:pt x="0" y="32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Freeform 13"/>
          <p:cNvSpPr/>
          <p:nvPr/>
        </p:nvSpPr>
        <p:spPr>
          <a:xfrm>
            <a:off x="6199200" y="4540320"/>
            <a:ext cx="1440" cy="442800"/>
          </a:xfrm>
          <a:custGeom>
            <a:avLst/>
            <a:gdLst/>
            <a:ahLst/>
            <a:rect l="l" t="t" r="r" b="b"/>
            <a:pathLst>
              <a:path w="1" h="322">
                <a:moveTo>
                  <a:pt x="0" y="0"/>
                </a:moveTo>
                <a:lnTo>
                  <a:pt x="0" y="32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Line 14"/>
          <p:cNvSpPr/>
          <p:nvPr/>
        </p:nvSpPr>
        <p:spPr>
          <a:xfrm>
            <a:off x="4300560" y="3537000"/>
            <a:ext cx="2992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Line 15"/>
          <p:cNvSpPr/>
          <p:nvPr/>
        </p:nvSpPr>
        <p:spPr>
          <a:xfrm>
            <a:off x="6132600" y="3357720"/>
            <a:ext cx="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7" name="Line 16"/>
          <p:cNvSpPr/>
          <p:nvPr/>
        </p:nvSpPr>
        <p:spPr>
          <a:xfrm>
            <a:off x="7302600" y="3349800"/>
            <a:ext cx="0" cy="17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Line 17"/>
          <p:cNvSpPr/>
          <p:nvPr/>
        </p:nvSpPr>
        <p:spPr>
          <a:xfrm>
            <a:off x="4002120" y="3668760"/>
            <a:ext cx="0" cy="2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Line 18"/>
          <p:cNvSpPr/>
          <p:nvPr/>
        </p:nvSpPr>
        <p:spPr>
          <a:xfrm>
            <a:off x="4300560" y="3525840"/>
            <a:ext cx="0" cy="363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0" name="Line 19"/>
          <p:cNvSpPr/>
          <p:nvPr/>
        </p:nvSpPr>
        <p:spPr>
          <a:xfrm>
            <a:off x="5029200" y="3668760"/>
            <a:ext cx="0" cy="2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1" name="Line 20"/>
          <p:cNvSpPr/>
          <p:nvPr/>
        </p:nvSpPr>
        <p:spPr>
          <a:xfrm>
            <a:off x="5327640" y="3525840"/>
            <a:ext cx="0" cy="363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2" name="Line 21"/>
          <p:cNvSpPr/>
          <p:nvPr/>
        </p:nvSpPr>
        <p:spPr>
          <a:xfrm>
            <a:off x="6033960" y="3668760"/>
            <a:ext cx="0" cy="2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Line 22"/>
          <p:cNvSpPr/>
          <p:nvPr/>
        </p:nvSpPr>
        <p:spPr>
          <a:xfrm>
            <a:off x="6332400" y="3525840"/>
            <a:ext cx="0" cy="363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Line 23"/>
          <p:cNvSpPr/>
          <p:nvPr/>
        </p:nvSpPr>
        <p:spPr>
          <a:xfrm>
            <a:off x="7005600" y="3668760"/>
            <a:ext cx="0" cy="2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Line 24"/>
          <p:cNvSpPr/>
          <p:nvPr/>
        </p:nvSpPr>
        <p:spPr>
          <a:xfrm>
            <a:off x="7304040" y="3525840"/>
            <a:ext cx="0" cy="363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6" name="Freeform 25"/>
          <p:cNvSpPr/>
          <p:nvPr/>
        </p:nvSpPr>
        <p:spPr>
          <a:xfrm>
            <a:off x="3164040" y="3668760"/>
            <a:ext cx="828360" cy="233280"/>
          </a:xfrm>
          <a:custGeom>
            <a:avLst/>
            <a:gdLst/>
            <a:ahLst/>
            <a:rect l="l" t="t" r="r" b="b"/>
            <a:pathLst>
              <a:path w="602" h="169">
                <a:moveTo>
                  <a:pt x="601" y="0"/>
                </a:moveTo>
                <a:lnTo>
                  <a:pt x="0" y="0"/>
                </a:lnTo>
                <a:lnTo>
                  <a:pt x="0" y="16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7" name="Freeform 26"/>
          <p:cNvSpPr/>
          <p:nvPr/>
        </p:nvSpPr>
        <p:spPr>
          <a:xfrm>
            <a:off x="3406680" y="3537000"/>
            <a:ext cx="873360" cy="376200"/>
          </a:xfrm>
          <a:custGeom>
            <a:avLst/>
            <a:gdLst/>
            <a:ahLst/>
            <a:rect l="l" t="t" r="r" b="b"/>
            <a:pathLst>
              <a:path w="634" h="273">
                <a:moveTo>
                  <a:pt x="633" y="0"/>
                </a:moveTo>
                <a:lnTo>
                  <a:pt x="0" y="0"/>
                </a:lnTo>
                <a:lnTo>
                  <a:pt x="0" y="27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Rectangle 27"/>
          <p:cNvSpPr/>
          <p:nvPr/>
        </p:nvSpPr>
        <p:spPr>
          <a:xfrm>
            <a:off x="3050640" y="4044960"/>
            <a:ext cx="43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Verdana"/>
                <a:ea typeface="Arial"/>
              </a:rPr>
              <a:t>F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9" name="Rectangle 28"/>
          <p:cNvSpPr/>
          <p:nvPr/>
        </p:nvSpPr>
        <p:spPr>
          <a:xfrm>
            <a:off x="3999960" y="4056120"/>
            <a:ext cx="43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Verdana"/>
                <a:ea typeface="Arial"/>
              </a:rPr>
              <a:t>F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0" name="Rectangle 29"/>
          <p:cNvSpPr/>
          <p:nvPr/>
        </p:nvSpPr>
        <p:spPr>
          <a:xfrm>
            <a:off x="4993560" y="4056120"/>
            <a:ext cx="43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Verdana"/>
                <a:ea typeface="Arial"/>
              </a:rPr>
              <a:t>F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1" name="Rectangle 30"/>
          <p:cNvSpPr/>
          <p:nvPr/>
        </p:nvSpPr>
        <p:spPr>
          <a:xfrm>
            <a:off x="5985720" y="4067280"/>
            <a:ext cx="43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Verdana"/>
                <a:ea typeface="Arial"/>
              </a:rPr>
              <a:t>F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Rectangle 31"/>
          <p:cNvSpPr/>
          <p:nvPr/>
        </p:nvSpPr>
        <p:spPr>
          <a:xfrm>
            <a:off x="6990840" y="4076640"/>
            <a:ext cx="43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Verdana"/>
                <a:ea typeface="Arial"/>
              </a:rPr>
              <a:t>F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Rectangle 32"/>
          <p:cNvSpPr/>
          <p:nvPr/>
        </p:nvSpPr>
        <p:spPr>
          <a:xfrm>
            <a:off x="3949560" y="2122560"/>
            <a:ext cx="3587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Verdana"/>
                <a:ea typeface="Arial"/>
              </a:rPr>
              <a:t>Op   dest1  dest2  p1  src1   p2   sr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4" name="Line 34"/>
          <p:cNvSpPr/>
          <p:nvPr/>
        </p:nvSpPr>
        <p:spPr>
          <a:xfrm>
            <a:off x="3703680" y="2411280"/>
            <a:ext cx="4110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Line 35"/>
          <p:cNvSpPr/>
          <p:nvPr/>
        </p:nvSpPr>
        <p:spPr>
          <a:xfrm>
            <a:off x="3703680" y="2652840"/>
            <a:ext cx="4110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6" name="Line 36"/>
          <p:cNvSpPr/>
          <p:nvPr/>
        </p:nvSpPr>
        <p:spPr>
          <a:xfrm>
            <a:off x="3693960" y="2884320"/>
            <a:ext cx="4110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7" name="Line 37"/>
          <p:cNvSpPr/>
          <p:nvPr/>
        </p:nvSpPr>
        <p:spPr>
          <a:xfrm>
            <a:off x="3703680" y="3105000"/>
            <a:ext cx="4110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Line 38"/>
          <p:cNvSpPr/>
          <p:nvPr/>
        </p:nvSpPr>
        <p:spPr>
          <a:xfrm>
            <a:off x="4224240" y="2201760"/>
            <a:ext cx="0" cy="113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Line 39"/>
          <p:cNvSpPr/>
          <p:nvPr/>
        </p:nvSpPr>
        <p:spPr>
          <a:xfrm>
            <a:off x="6773760" y="2192400"/>
            <a:ext cx="0" cy="113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Line 40"/>
          <p:cNvSpPr/>
          <p:nvPr/>
        </p:nvSpPr>
        <p:spPr>
          <a:xfrm>
            <a:off x="5970600" y="2201760"/>
            <a:ext cx="0" cy="113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1" name="Line 41"/>
          <p:cNvSpPr/>
          <p:nvPr/>
        </p:nvSpPr>
        <p:spPr>
          <a:xfrm>
            <a:off x="7067520" y="2192400"/>
            <a:ext cx="0" cy="11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2" name="Line 42"/>
          <p:cNvSpPr/>
          <p:nvPr/>
        </p:nvSpPr>
        <p:spPr>
          <a:xfrm>
            <a:off x="4964040" y="2201760"/>
            <a:ext cx="0" cy="113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Line 43"/>
          <p:cNvSpPr/>
          <p:nvPr/>
        </p:nvSpPr>
        <p:spPr>
          <a:xfrm>
            <a:off x="5684760" y="2192400"/>
            <a:ext cx="0" cy="113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Rectangle 44"/>
          <p:cNvSpPr/>
          <p:nvPr/>
        </p:nvSpPr>
        <p:spPr>
          <a:xfrm>
            <a:off x="3395880" y="2165400"/>
            <a:ext cx="2926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Line 45"/>
          <p:cNvSpPr/>
          <p:nvPr/>
        </p:nvSpPr>
        <p:spPr>
          <a:xfrm flipH="1">
            <a:off x="2660760" y="4991040"/>
            <a:ext cx="451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6" name="Freeform 46"/>
          <p:cNvSpPr/>
          <p:nvPr/>
        </p:nvSpPr>
        <p:spPr>
          <a:xfrm>
            <a:off x="7180200" y="4551480"/>
            <a:ext cx="1800" cy="442800"/>
          </a:xfrm>
          <a:custGeom>
            <a:avLst/>
            <a:gdLst/>
            <a:ahLst/>
            <a:rect l="l" t="t" r="r" b="b"/>
            <a:pathLst>
              <a:path w="1" h="322">
                <a:moveTo>
                  <a:pt x="0" y="0"/>
                </a:moveTo>
                <a:lnTo>
                  <a:pt x="0" y="32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7" name="Rectangle 47"/>
          <p:cNvSpPr/>
          <p:nvPr/>
        </p:nvSpPr>
        <p:spPr>
          <a:xfrm>
            <a:off x="1778040" y="1555920"/>
            <a:ext cx="882720" cy="428400"/>
          </a:xfrm>
          <a:prstGeom prst="rect">
            <a:avLst/>
          </a:prstGeom>
          <a:solidFill>
            <a:srgbClr val="cc99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Rectangle 48"/>
          <p:cNvSpPr/>
          <p:nvPr/>
        </p:nvSpPr>
        <p:spPr>
          <a:xfrm>
            <a:off x="1766880" y="4792680"/>
            <a:ext cx="882720" cy="419040"/>
          </a:xfrm>
          <a:prstGeom prst="rect">
            <a:avLst/>
          </a:prstGeom>
          <a:solidFill>
            <a:srgbClr val="cc99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9" name="Line 49"/>
          <p:cNvSpPr/>
          <p:nvPr/>
        </p:nvSpPr>
        <p:spPr>
          <a:xfrm>
            <a:off x="1160640" y="1763640"/>
            <a:ext cx="57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Line 50"/>
          <p:cNvSpPr/>
          <p:nvPr/>
        </p:nvSpPr>
        <p:spPr>
          <a:xfrm>
            <a:off x="1171440" y="5035680"/>
            <a:ext cx="574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1" name="Group 51"/>
          <p:cNvGrpSpPr/>
          <p:nvPr/>
        </p:nvGrpSpPr>
        <p:grpSpPr>
          <a:xfrm>
            <a:off x="2660760" y="1774440"/>
            <a:ext cx="4286160" cy="430200"/>
            <a:chOff x="2660760" y="1774440"/>
            <a:chExt cx="4286160" cy="430200"/>
          </a:xfrm>
        </p:grpSpPr>
        <p:sp>
          <p:nvSpPr>
            <p:cNvPr id="4952" name="Line 52"/>
            <p:cNvSpPr/>
            <p:nvPr/>
          </p:nvSpPr>
          <p:spPr>
            <a:xfrm>
              <a:off x="5811840" y="1774800"/>
              <a:ext cx="0" cy="42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Line 53"/>
            <p:cNvSpPr/>
            <p:nvPr/>
          </p:nvSpPr>
          <p:spPr>
            <a:xfrm>
              <a:off x="6946920" y="1777320"/>
              <a:ext cx="0" cy="42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Line 54"/>
            <p:cNvSpPr/>
            <p:nvPr/>
          </p:nvSpPr>
          <p:spPr>
            <a:xfrm flipH="1" flipV="1">
              <a:off x="2660760" y="1774440"/>
              <a:ext cx="4286160" cy="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5" name="Line 55"/>
          <p:cNvSpPr/>
          <p:nvPr/>
        </p:nvSpPr>
        <p:spPr>
          <a:xfrm flipV="1">
            <a:off x="2241720" y="2017800"/>
            <a:ext cx="0" cy="2774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Rectangle 57"/>
          <p:cNvSpPr/>
          <p:nvPr/>
        </p:nvSpPr>
        <p:spPr>
          <a:xfrm>
            <a:off x="3062520" y="1854360"/>
            <a:ext cx="25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Instruction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PlaceHolder 2"/>
          <p:cNvSpPr>
            <a:spLocks noGrp="1"/>
          </p:cNvSpPr>
          <p:nvPr>
            <p:ph/>
          </p:nvPr>
        </p:nvSpPr>
        <p:spPr>
          <a:xfrm>
            <a:off x="759960" y="5479920"/>
            <a:ext cx="690732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such processors can be connected toge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s can be statically divided among the process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tatic versus Dynamic Dataflow Machin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959" name="Content Placeholder 4" descr=""/>
          <p:cNvPicPr/>
          <p:nvPr/>
        </p:nvPicPr>
        <p:blipFill>
          <a:blip r:embed="rId1"/>
          <a:srcRect l="-27863" t="0" r="-27863" b="0"/>
          <a:stretch/>
        </p:blipFill>
        <p:spPr>
          <a:xfrm>
            <a:off x="-187200" y="914400"/>
            <a:ext cx="9347040" cy="5638680"/>
          </a:xfrm>
          <a:prstGeom prst="rect">
            <a:avLst/>
          </a:prstGeom>
          <a:ln w="0">
            <a:noFill/>
          </a:ln>
        </p:spPr>
      </p:pic>
      <p:sp>
        <p:nvSpPr>
          <p:cNvPr id="496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153E-34AA-482D-B2FC-828434D72D66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 Note on This Lectur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80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se slides are from 18-742 Fall 2012, Parallel Computer Architecture, Lecture 22: Dataflow 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Vide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95160" indent="-342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6600"/>
                </a:solidFill>
                <a:uFillTx/>
                <a:latin typeface="Tahoma"/>
                <a:ea typeface="ＭＳ Ｐゴシック"/>
                <a:hlinkClick r:id="rId1"/>
              </a:rPr>
              <a:t>http://www.youtube.com/watch?v=D2uue7izU2c&amp;list=PL5PHm2jkkXmh4cDkC3s1VBB7-njlgiG5d&amp;index=</a:t>
            </a:r>
            <a:r>
              <a:rPr b="0" lang="en-US" sz="2000" spc="-1" strike="noStrike" u="sng">
                <a:solidFill>
                  <a:srgbClr val="996600"/>
                </a:solidFill>
                <a:uFillTx/>
                <a:latin typeface="Tahoma"/>
                <a:ea typeface="ＭＳ Ｐゴシック"/>
                <a:hlinkClick r:id="rId2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95160" indent="-342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FAD1-221A-4B16-8700-0AA848983424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tatic Data Flow Machin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match between the model and the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odel requir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nbounded FIFO token queu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er arc but the architecture provides storage for one token per ar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rchitectur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oes not ensure FIFO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der in the reuse of an operand sl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tic mode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oes not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entra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Stru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333C-9700-45CD-9288-247D959FA27F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roblems with Re-entranc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5" name=""/>
          <p:cNvSpPr txBox="1"/>
          <p:nvPr/>
        </p:nvSpPr>
        <p:spPr>
          <a:xfrm>
            <a:off x="6172200" y="901800"/>
            <a:ext cx="266688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is was in a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in a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operations took variable time to exec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you ensure the tokens that match are of the same invoc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E13A-AB02-4E2A-BB6F-531EFF07386D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7" name="Picture 4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519408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ynamic Dataflow Archite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e instruction templates, i.e., a frame, dynamically to support each loop iteration and procedure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rmination detection needed to deallocate fra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can be shared if we separate the code and the operand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0" name="Rectangle 5"/>
          <p:cNvSpPr/>
          <p:nvPr/>
        </p:nvSpPr>
        <p:spPr>
          <a:xfrm>
            <a:off x="4338360" y="4621320"/>
            <a:ext cx="27658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56127a"/>
                </a:solidFill>
                <a:latin typeface="Verdana"/>
                <a:ea typeface="Arial"/>
              </a:rPr>
              <a:t>&lt;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fp</a:t>
            </a:r>
            <a:r>
              <a:rPr b="0" lang="en-US" sz="2400" spc="-1" strike="noStrike">
                <a:solidFill>
                  <a:srgbClr val="56127a"/>
                </a:solidFill>
                <a:latin typeface="Verdana"/>
                <a:ea typeface="Arial"/>
              </a:rPr>
              <a:t>, ip, port, data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1" name="Rectangle 6"/>
          <p:cNvSpPr/>
          <p:nvPr/>
        </p:nvSpPr>
        <p:spPr>
          <a:xfrm>
            <a:off x="3196440" y="5483160"/>
            <a:ext cx="117612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2" name="Rectangle 7"/>
          <p:cNvSpPr/>
          <p:nvPr/>
        </p:nvSpPr>
        <p:spPr>
          <a:xfrm>
            <a:off x="4978440" y="5470560"/>
            <a:ext cx="176364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instruction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3" name="Line 8"/>
          <p:cNvSpPr/>
          <p:nvPr/>
        </p:nvSpPr>
        <p:spPr>
          <a:xfrm flipH="1">
            <a:off x="4002120" y="4937040"/>
            <a:ext cx="544320" cy="54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4" name="Line 9"/>
          <p:cNvSpPr/>
          <p:nvPr/>
        </p:nvSpPr>
        <p:spPr>
          <a:xfrm>
            <a:off x="5181480" y="4937040"/>
            <a:ext cx="544680" cy="54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Rectangle 10"/>
          <p:cNvSpPr/>
          <p:nvPr/>
        </p:nvSpPr>
        <p:spPr>
          <a:xfrm>
            <a:off x="1773720" y="4646520"/>
            <a:ext cx="1195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 t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6" name="PlaceHolder 1"/>
          <p:cNvSpPr>
            <a:spLocks noGrp="1"/>
          </p:cNvSpPr>
          <p:nvPr>
            <p:ph type="title"/>
          </p:nvPr>
        </p:nvSpPr>
        <p:spPr>
          <a:xfrm>
            <a:off x="309600" y="641520"/>
            <a:ext cx="6959520" cy="490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127a"/>
                </a:solidFill>
                <a:latin typeface="Verdana"/>
              </a:rPr>
              <a:t>A Frame in Dynamic Dataflow</a:t>
            </a:r>
            <a:endParaRPr b="0" lang="en-US" sz="3600" spc="-1" strike="noStrike">
              <a:solidFill>
                <a:srgbClr val="56127a"/>
              </a:solidFill>
              <a:latin typeface="Verdana"/>
            </a:endParaRPr>
          </a:p>
        </p:txBody>
      </p:sp>
      <p:grpSp>
        <p:nvGrpSpPr>
          <p:cNvPr id="4977" name="Group 3"/>
          <p:cNvGrpSpPr/>
          <p:nvPr/>
        </p:nvGrpSpPr>
        <p:grpSpPr>
          <a:xfrm>
            <a:off x="205200" y="1392120"/>
            <a:ext cx="341640" cy="2039040"/>
            <a:chOff x="205200" y="1392120"/>
            <a:chExt cx="341640" cy="2039040"/>
          </a:xfrm>
        </p:grpSpPr>
        <p:sp>
          <p:nvSpPr>
            <p:cNvPr id="4978" name="Rectangle 4"/>
            <p:cNvSpPr/>
            <p:nvPr/>
          </p:nvSpPr>
          <p:spPr>
            <a:xfrm>
              <a:off x="205200" y="1392120"/>
              <a:ext cx="3416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Rectangle 5"/>
            <p:cNvSpPr/>
            <p:nvPr/>
          </p:nvSpPr>
          <p:spPr>
            <a:xfrm>
              <a:off x="205200" y="1802160"/>
              <a:ext cx="3416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Rectangle 6"/>
            <p:cNvSpPr/>
            <p:nvPr/>
          </p:nvSpPr>
          <p:spPr>
            <a:xfrm>
              <a:off x="205200" y="2221920"/>
              <a:ext cx="3416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Rectangle 7"/>
            <p:cNvSpPr/>
            <p:nvPr/>
          </p:nvSpPr>
          <p:spPr>
            <a:xfrm>
              <a:off x="205200" y="2630520"/>
              <a:ext cx="3416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Rectangle 8"/>
            <p:cNvSpPr/>
            <p:nvPr/>
          </p:nvSpPr>
          <p:spPr>
            <a:xfrm>
              <a:off x="205200" y="3040920"/>
              <a:ext cx="3416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3" name="Rectangle 9"/>
          <p:cNvSpPr/>
          <p:nvPr/>
        </p:nvSpPr>
        <p:spPr>
          <a:xfrm>
            <a:off x="4027680" y="1414440"/>
            <a:ext cx="133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4" name="Rectangle 10"/>
          <p:cNvSpPr/>
          <p:nvPr/>
        </p:nvSpPr>
        <p:spPr>
          <a:xfrm>
            <a:off x="560520" y="1389240"/>
            <a:ext cx="3373200" cy="2041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5" name="Line 11"/>
          <p:cNvSpPr/>
          <p:nvPr/>
        </p:nvSpPr>
        <p:spPr>
          <a:xfrm>
            <a:off x="547560" y="1808280"/>
            <a:ext cx="338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6" name="Line 12"/>
          <p:cNvSpPr/>
          <p:nvPr/>
        </p:nvSpPr>
        <p:spPr>
          <a:xfrm>
            <a:off x="560520" y="2206800"/>
            <a:ext cx="33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7" name="Line 13"/>
          <p:cNvSpPr/>
          <p:nvPr/>
        </p:nvSpPr>
        <p:spPr>
          <a:xfrm>
            <a:off x="560520" y="2649600"/>
            <a:ext cx="33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8" name="Line 14"/>
          <p:cNvSpPr/>
          <p:nvPr/>
        </p:nvSpPr>
        <p:spPr>
          <a:xfrm>
            <a:off x="560520" y="3048120"/>
            <a:ext cx="33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9" name="Line 15"/>
          <p:cNvSpPr/>
          <p:nvPr/>
        </p:nvSpPr>
        <p:spPr>
          <a:xfrm>
            <a:off x="1231920" y="1376280"/>
            <a:ext cx="0" cy="2054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0" name="Line 16"/>
          <p:cNvSpPr/>
          <p:nvPr/>
        </p:nvSpPr>
        <p:spPr>
          <a:xfrm>
            <a:off x="1965240" y="1398600"/>
            <a:ext cx="0" cy="20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1" name="Rectangle 17"/>
          <p:cNvSpPr/>
          <p:nvPr/>
        </p:nvSpPr>
        <p:spPr>
          <a:xfrm>
            <a:off x="689760" y="1401840"/>
            <a:ext cx="312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2" name="Rectangle 18"/>
          <p:cNvSpPr/>
          <p:nvPr/>
        </p:nvSpPr>
        <p:spPr>
          <a:xfrm>
            <a:off x="692280" y="191124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3" name="Rectangle 19"/>
          <p:cNvSpPr/>
          <p:nvPr/>
        </p:nvSpPr>
        <p:spPr>
          <a:xfrm>
            <a:off x="719640" y="2270160"/>
            <a:ext cx="254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4" name="Rectangle 20"/>
          <p:cNvSpPr/>
          <p:nvPr/>
        </p:nvSpPr>
        <p:spPr>
          <a:xfrm>
            <a:off x="689760" y="2705040"/>
            <a:ext cx="312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5" name="Rectangle 21"/>
          <p:cNvSpPr/>
          <p:nvPr/>
        </p:nvSpPr>
        <p:spPr>
          <a:xfrm>
            <a:off x="1370160" y="22986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Verdana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6" name="Group 22"/>
          <p:cNvGrpSpPr/>
          <p:nvPr/>
        </p:nvGrpSpPr>
        <p:grpSpPr>
          <a:xfrm>
            <a:off x="1370160" y="1457280"/>
            <a:ext cx="307800" cy="2018160"/>
            <a:chOff x="1370160" y="1457280"/>
            <a:chExt cx="307800" cy="2018160"/>
          </a:xfrm>
        </p:grpSpPr>
        <p:sp>
          <p:nvSpPr>
            <p:cNvPr id="4997" name="Rectangle 23"/>
            <p:cNvSpPr/>
            <p:nvPr/>
          </p:nvSpPr>
          <p:spPr>
            <a:xfrm>
              <a:off x="1370160" y="145728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Rectangle 24"/>
            <p:cNvSpPr/>
            <p:nvPr/>
          </p:nvSpPr>
          <p:spPr>
            <a:xfrm>
              <a:off x="1370160" y="187812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Rectangle 25"/>
            <p:cNvSpPr/>
            <p:nvPr/>
          </p:nvSpPr>
          <p:spPr>
            <a:xfrm>
              <a:off x="1370160" y="271764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Rectangle 26"/>
            <p:cNvSpPr/>
            <p:nvPr/>
          </p:nvSpPr>
          <p:spPr>
            <a:xfrm>
              <a:off x="1370160" y="313992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1" name="Rectangle 27"/>
          <p:cNvSpPr/>
          <p:nvPr/>
        </p:nvSpPr>
        <p:spPr>
          <a:xfrm>
            <a:off x="2208240" y="1457280"/>
            <a:ext cx="80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3L, 4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2" name="Rectangle 28"/>
          <p:cNvSpPr/>
          <p:nvPr/>
        </p:nvSpPr>
        <p:spPr>
          <a:xfrm>
            <a:off x="2231280" y="1889280"/>
            <a:ext cx="847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3R, 4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3" name="Rectangle 29"/>
          <p:cNvSpPr/>
          <p:nvPr/>
        </p:nvSpPr>
        <p:spPr>
          <a:xfrm>
            <a:off x="2501280" y="2287440"/>
            <a:ext cx="433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5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4" name="Rectangle 30"/>
          <p:cNvSpPr/>
          <p:nvPr/>
        </p:nvSpPr>
        <p:spPr>
          <a:xfrm>
            <a:off x="2469960" y="2730600"/>
            <a:ext cx="45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5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5" name="Rectangle 31"/>
          <p:cNvSpPr/>
          <p:nvPr/>
        </p:nvSpPr>
        <p:spPr>
          <a:xfrm>
            <a:off x="2435040" y="3129120"/>
            <a:ext cx="54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Rectangle 33"/>
          <p:cNvSpPr/>
          <p:nvPr/>
        </p:nvSpPr>
        <p:spPr>
          <a:xfrm>
            <a:off x="692280" y="31399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7" name="Rectangle 35"/>
          <p:cNvSpPr/>
          <p:nvPr/>
        </p:nvSpPr>
        <p:spPr>
          <a:xfrm>
            <a:off x="560520" y="4025880"/>
            <a:ext cx="3373200" cy="2041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8" name="Group 36"/>
          <p:cNvGrpSpPr/>
          <p:nvPr/>
        </p:nvGrpSpPr>
        <p:grpSpPr>
          <a:xfrm>
            <a:off x="182880" y="4025880"/>
            <a:ext cx="3762000" cy="2109600"/>
            <a:chOff x="182880" y="4025880"/>
            <a:chExt cx="3762000" cy="2109600"/>
          </a:xfrm>
        </p:grpSpPr>
        <p:sp>
          <p:nvSpPr>
            <p:cNvPr id="5009" name="Rectangle 37"/>
            <p:cNvSpPr/>
            <p:nvPr/>
          </p:nvSpPr>
          <p:spPr>
            <a:xfrm>
              <a:off x="560520" y="4025880"/>
              <a:ext cx="657000" cy="20415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Line 38"/>
            <p:cNvSpPr/>
            <p:nvPr/>
          </p:nvSpPr>
          <p:spPr>
            <a:xfrm>
              <a:off x="560520" y="4468680"/>
              <a:ext cx="338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Line 39"/>
            <p:cNvSpPr/>
            <p:nvPr/>
          </p:nvSpPr>
          <p:spPr>
            <a:xfrm>
              <a:off x="547560" y="5697360"/>
              <a:ext cx="338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Rectangle 40"/>
            <p:cNvSpPr/>
            <p:nvPr/>
          </p:nvSpPr>
          <p:spPr>
            <a:xfrm>
              <a:off x="182880" y="4084560"/>
              <a:ext cx="3355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Rectangle 41"/>
            <p:cNvSpPr/>
            <p:nvPr/>
          </p:nvSpPr>
          <p:spPr>
            <a:xfrm>
              <a:off x="182880" y="4506840"/>
              <a:ext cx="3355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Rectangle 42"/>
            <p:cNvSpPr/>
            <p:nvPr/>
          </p:nvSpPr>
          <p:spPr>
            <a:xfrm>
              <a:off x="182880" y="5335560"/>
              <a:ext cx="3355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Rectangle 43"/>
            <p:cNvSpPr/>
            <p:nvPr/>
          </p:nvSpPr>
          <p:spPr>
            <a:xfrm>
              <a:off x="182880" y="5745240"/>
              <a:ext cx="3355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6" name="Rectangle 44"/>
          <p:cNvSpPr/>
          <p:nvPr/>
        </p:nvSpPr>
        <p:spPr>
          <a:xfrm>
            <a:off x="2140920" y="4952880"/>
            <a:ext cx="312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7" name="Group 46"/>
          <p:cNvGrpSpPr/>
          <p:nvPr/>
        </p:nvGrpSpPr>
        <p:grpSpPr>
          <a:xfrm>
            <a:off x="5958720" y="1542960"/>
            <a:ext cx="2808000" cy="4370400"/>
            <a:chOff x="5958720" y="1542960"/>
            <a:chExt cx="2808000" cy="4370400"/>
          </a:xfrm>
        </p:grpSpPr>
        <p:sp>
          <p:nvSpPr>
            <p:cNvPr id="5018" name="Rectangle 47"/>
            <p:cNvSpPr/>
            <p:nvPr/>
          </p:nvSpPr>
          <p:spPr>
            <a:xfrm>
              <a:off x="6173280" y="1554120"/>
              <a:ext cx="364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Rectangle 48"/>
            <p:cNvSpPr/>
            <p:nvPr/>
          </p:nvSpPr>
          <p:spPr>
            <a:xfrm>
              <a:off x="8375400" y="1542960"/>
              <a:ext cx="364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Rectangle 49"/>
            <p:cNvSpPr/>
            <p:nvPr/>
          </p:nvSpPr>
          <p:spPr>
            <a:xfrm>
              <a:off x="6300720" y="2379600"/>
              <a:ext cx="63360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Rectangle 50"/>
            <p:cNvSpPr/>
            <p:nvPr/>
          </p:nvSpPr>
          <p:spPr>
            <a:xfrm>
              <a:off x="8072280" y="2379600"/>
              <a:ext cx="63504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*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Rectangle 51"/>
            <p:cNvSpPr/>
            <p:nvPr/>
          </p:nvSpPr>
          <p:spPr>
            <a:xfrm>
              <a:off x="6432480" y="3757680"/>
              <a:ext cx="63360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Rectangle 52"/>
            <p:cNvSpPr/>
            <p:nvPr/>
          </p:nvSpPr>
          <p:spPr>
            <a:xfrm>
              <a:off x="7942320" y="3757680"/>
              <a:ext cx="63324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Rectangle 53"/>
            <p:cNvSpPr/>
            <p:nvPr/>
          </p:nvSpPr>
          <p:spPr>
            <a:xfrm>
              <a:off x="7219800" y="5005440"/>
              <a:ext cx="633600" cy="503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Line 54"/>
            <p:cNvSpPr/>
            <p:nvPr/>
          </p:nvSpPr>
          <p:spPr>
            <a:xfrm>
              <a:off x="6486480" y="1778040"/>
              <a:ext cx="0" cy="59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Line 55"/>
            <p:cNvSpPr/>
            <p:nvPr/>
          </p:nvSpPr>
          <p:spPr>
            <a:xfrm>
              <a:off x="8389800" y="1778040"/>
              <a:ext cx="0" cy="59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Line 56"/>
            <p:cNvSpPr/>
            <p:nvPr/>
          </p:nvSpPr>
          <p:spPr>
            <a:xfrm>
              <a:off x="6618240" y="2894040"/>
              <a:ext cx="0" cy="85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Freeform 57"/>
            <p:cNvSpPr/>
            <p:nvPr/>
          </p:nvSpPr>
          <p:spPr>
            <a:xfrm>
              <a:off x="6748560" y="1974960"/>
              <a:ext cx="1643040" cy="395280"/>
            </a:xfrm>
            <a:custGeom>
              <a:avLst/>
              <a:gdLst/>
              <a:ahLst/>
              <a:rect l="l" t="t" r="r" b="b"/>
              <a:pathLst>
                <a:path w="1201" h="289">
                  <a:moveTo>
                    <a:pt x="1200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Line 58"/>
            <p:cNvSpPr/>
            <p:nvPr/>
          </p:nvSpPr>
          <p:spPr>
            <a:xfrm>
              <a:off x="8389800" y="2894040"/>
              <a:ext cx="0" cy="85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Freeform 59"/>
            <p:cNvSpPr/>
            <p:nvPr/>
          </p:nvSpPr>
          <p:spPr>
            <a:xfrm>
              <a:off x="6618240" y="3090960"/>
              <a:ext cx="1511280" cy="657000"/>
            </a:xfrm>
            <a:custGeom>
              <a:avLst/>
              <a:gdLst/>
              <a:ahLst/>
              <a:rect l="l" t="t" r="r" b="b"/>
              <a:pathLst>
                <a:path w="1105" h="481">
                  <a:moveTo>
                    <a:pt x="0" y="0"/>
                  </a:moveTo>
                  <a:lnTo>
                    <a:pt x="1104" y="0"/>
                  </a:lnTo>
                  <a:lnTo>
                    <a:pt x="1104" y="48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Freeform 60"/>
            <p:cNvSpPr/>
            <p:nvPr/>
          </p:nvSpPr>
          <p:spPr>
            <a:xfrm>
              <a:off x="6880320" y="3354480"/>
              <a:ext cx="1511280" cy="393480"/>
            </a:xfrm>
            <a:custGeom>
              <a:avLst/>
              <a:gdLst/>
              <a:ahLst/>
              <a:rect l="l" t="t" r="r" b="b"/>
              <a:pathLst>
                <a:path w="1105" h="289">
                  <a:moveTo>
                    <a:pt x="1104" y="0"/>
                  </a:move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Freeform 61"/>
            <p:cNvSpPr/>
            <p:nvPr/>
          </p:nvSpPr>
          <p:spPr>
            <a:xfrm>
              <a:off x="6748560" y="4272120"/>
              <a:ext cx="658800" cy="723600"/>
            </a:xfrm>
            <a:custGeom>
              <a:avLst/>
              <a:gdLst/>
              <a:ahLst/>
              <a:rect l="l" t="t" r="r" b="b"/>
              <a:pathLst>
                <a:path w="481" h="529">
                  <a:moveTo>
                    <a:pt x="0" y="0"/>
                  </a:moveTo>
                  <a:lnTo>
                    <a:pt x="0" y="240"/>
                  </a:lnTo>
                  <a:lnTo>
                    <a:pt x="480" y="240"/>
                  </a:lnTo>
                  <a:lnTo>
                    <a:pt x="480" y="52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Freeform 62"/>
            <p:cNvSpPr/>
            <p:nvPr/>
          </p:nvSpPr>
          <p:spPr>
            <a:xfrm>
              <a:off x="7667640" y="4272120"/>
              <a:ext cx="593640" cy="723600"/>
            </a:xfrm>
            <a:custGeom>
              <a:avLst/>
              <a:gdLst/>
              <a:ahLst/>
              <a:rect l="l" t="t" r="r" b="b"/>
              <a:pathLst>
                <a:path w="433" h="529">
                  <a:moveTo>
                    <a:pt x="432" y="0"/>
                  </a:moveTo>
                  <a:lnTo>
                    <a:pt x="432" y="240"/>
                  </a:lnTo>
                  <a:lnTo>
                    <a:pt x="0" y="240"/>
                  </a:lnTo>
                  <a:lnTo>
                    <a:pt x="0" y="52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Line 63"/>
            <p:cNvSpPr/>
            <p:nvPr/>
          </p:nvSpPr>
          <p:spPr>
            <a:xfrm>
              <a:off x="7535880" y="5519880"/>
              <a:ext cx="0" cy="39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Oval 64"/>
            <p:cNvSpPr/>
            <p:nvPr/>
          </p:nvSpPr>
          <p:spPr>
            <a:xfrm>
              <a:off x="6585120" y="3057480"/>
              <a:ext cx="648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Oval 65"/>
            <p:cNvSpPr/>
            <p:nvPr/>
          </p:nvSpPr>
          <p:spPr>
            <a:xfrm>
              <a:off x="8356680" y="3321000"/>
              <a:ext cx="651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Oval 66"/>
            <p:cNvSpPr/>
            <p:nvPr/>
          </p:nvSpPr>
          <p:spPr>
            <a:xfrm>
              <a:off x="8356680" y="194148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Rectangle 67"/>
            <p:cNvSpPr/>
            <p:nvPr/>
          </p:nvSpPr>
          <p:spPr>
            <a:xfrm>
              <a:off x="8402400" y="3184560"/>
              <a:ext cx="364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Rectangle 68"/>
            <p:cNvSpPr/>
            <p:nvPr/>
          </p:nvSpPr>
          <p:spPr>
            <a:xfrm>
              <a:off x="6302160" y="2987640"/>
              <a:ext cx="364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56127a"/>
                  </a:solidFill>
                  <a:latin typeface="Courier New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Rectangle 69"/>
            <p:cNvSpPr/>
            <p:nvPr/>
          </p:nvSpPr>
          <p:spPr>
            <a:xfrm>
              <a:off x="5958720" y="240336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Rectangle 70"/>
            <p:cNvSpPr/>
            <p:nvPr/>
          </p:nvSpPr>
          <p:spPr>
            <a:xfrm>
              <a:off x="7746120" y="240336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Rectangle 71"/>
            <p:cNvSpPr/>
            <p:nvPr/>
          </p:nvSpPr>
          <p:spPr>
            <a:xfrm>
              <a:off x="6111000" y="379728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Rectangle 72"/>
            <p:cNvSpPr/>
            <p:nvPr/>
          </p:nvSpPr>
          <p:spPr>
            <a:xfrm>
              <a:off x="7608240" y="375912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Rectangle 73"/>
            <p:cNvSpPr/>
            <p:nvPr/>
          </p:nvSpPr>
          <p:spPr>
            <a:xfrm>
              <a:off x="6896880" y="5025960"/>
              <a:ext cx="31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5" name="Group 92"/>
          <p:cNvGrpSpPr/>
          <p:nvPr/>
        </p:nvGrpSpPr>
        <p:grpSpPr>
          <a:xfrm>
            <a:off x="1063080" y="2075040"/>
            <a:ext cx="7679160" cy="4574160"/>
            <a:chOff x="1063080" y="2075040"/>
            <a:chExt cx="7679160" cy="4574160"/>
          </a:xfrm>
        </p:grpSpPr>
        <p:sp>
          <p:nvSpPr>
            <p:cNvPr id="5046" name="Rectangle 45"/>
            <p:cNvSpPr/>
            <p:nvPr/>
          </p:nvSpPr>
          <p:spPr>
            <a:xfrm>
              <a:off x="1063080" y="6192720"/>
              <a:ext cx="7614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200" bIns="25200" anchor="t">
              <a:spAutoFit/>
            </a:bodyPr>
            <a:p>
              <a:pPr>
                <a:lnSpc>
                  <a:spcPct val="111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Need to provide storage for only one operand/oper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7" name="Group 74"/>
            <p:cNvGrpSpPr/>
            <p:nvPr/>
          </p:nvGrpSpPr>
          <p:grpSpPr>
            <a:xfrm>
              <a:off x="6270480" y="2075040"/>
              <a:ext cx="2471760" cy="2776320"/>
              <a:chOff x="6270480" y="2075040"/>
              <a:chExt cx="2471760" cy="2776320"/>
            </a:xfrm>
          </p:grpSpPr>
          <p:sp>
            <p:nvSpPr>
              <p:cNvPr id="5048" name="Rectangle 75"/>
              <p:cNvSpPr/>
              <p:nvPr/>
            </p:nvSpPr>
            <p:spPr>
              <a:xfrm>
                <a:off x="8035920" y="2075040"/>
                <a:ext cx="706320" cy="1220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Rectangle 76"/>
              <p:cNvSpPr/>
              <p:nvPr/>
            </p:nvSpPr>
            <p:spPr>
              <a:xfrm>
                <a:off x="6270480" y="2075040"/>
                <a:ext cx="706680" cy="1220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Rectangle 77"/>
              <p:cNvSpPr/>
              <p:nvPr/>
            </p:nvSpPr>
            <p:spPr>
              <a:xfrm>
                <a:off x="6359400" y="3497400"/>
                <a:ext cx="706680" cy="1220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Rectangle 78"/>
              <p:cNvSpPr/>
              <p:nvPr/>
            </p:nvSpPr>
            <p:spPr>
              <a:xfrm>
                <a:off x="7172280" y="4729320"/>
                <a:ext cx="706320" cy="1220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Rectangle 79"/>
              <p:cNvSpPr/>
              <p:nvPr/>
            </p:nvSpPr>
            <p:spPr>
              <a:xfrm>
                <a:off x="7870680" y="3510000"/>
                <a:ext cx="706680" cy="1220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53" name="Rectangle 81"/>
          <p:cNvSpPr/>
          <p:nvPr/>
        </p:nvSpPr>
        <p:spPr>
          <a:xfrm>
            <a:off x="4276440" y="3255840"/>
            <a:ext cx="169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fp, ip, p , 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Freeform 82"/>
          <p:cNvSpPr/>
          <p:nvPr/>
        </p:nvSpPr>
        <p:spPr>
          <a:xfrm>
            <a:off x="3949560" y="2438280"/>
            <a:ext cx="85104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344" y="512"/>
                </a:moveTo>
                <a:cubicBezTo>
                  <a:pt x="324" y="362"/>
                  <a:pt x="305" y="213"/>
                  <a:pt x="248" y="128"/>
                </a:cubicBezTo>
                <a:cubicBezTo>
                  <a:pt x="191" y="43"/>
                  <a:pt x="95" y="21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Freeform 83"/>
          <p:cNvSpPr/>
          <p:nvPr/>
        </p:nvSpPr>
        <p:spPr>
          <a:xfrm flipV="1">
            <a:off x="3949560" y="3606840"/>
            <a:ext cx="546120" cy="45720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344" y="512"/>
                </a:moveTo>
                <a:cubicBezTo>
                  <a:pt x="324" y="362"/>
                  <a:pt x="305" y="213"/>
                  <a:pt x="248" y="128"/>
                </a:cubicBezTo>
                <a:cubicBezTo>
                  <a:pt x="191" y="43"/>
                  <a:pt x="95" y="21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6" name="Oval 84"/>
          <p:cNvSpPr/>
          <p:nvPr/>
        </p:nvSpPr>
        <p:spPr>
          <a:xfrm>
            <a:off x="6543720" y="329580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7" name="Line 85"/>
          <p:cNvSpPr/>
          <p:nvPr/>
        </p:nvSpPr>
        <p:spPr>
          <a:xfrm flipV="1">
            <a:off x="5918040" y="3403080"/>
            <a:ext cx="54612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8" name="Line 86"/>
          <p:cNvSpPr/>
          <p:nvPr/>
        </p:nvSpPr>
        <p:spPr>
          <a:xfrm flipV="1">
            <a:off x="3962520" y="3571560"/>
            <a:ext cx="2359080" cy="1492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9" name="Group 87"/>
          <p:cNvGrpSpPr/>
          <p:nvPr/>
        </p:nvGrpSpPr>
        <p:grpSpPr>
          <a:xfrm>
            <a:off x="182880" y="4854600"/>
            <a:ext cx="3750840" cy="450720"/>
            <a:chOff x="182880" y="4854600"/>
            <a:chExt cx="3750840" cy="450720"/>
          </a:xfrm>
        </p:grpSpPr>
        <p:sp>
          <p:nvSpPr>
            <p:cNvPr id="5060" name="Rectangle 88"/>
            <p:cNvSpPr/>
            <p:nvPr/>
          </p:nvSpPr>
          <p:spPr>
            <a:xfrm>
              <a:off x="182880" y="4915080"/>
              <a:ext cx="3355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Rectangle 89"/>
            <p:cNvSpPr/>
            <p:nvPr/>
          </p:nvSpPr>
          <p:spPr>
            <a:xfrm>
              <a:off x="560520" y="4854600"/>
              <a:ext cx="657000" cy="4413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Rectangle 90"/>
            <p:cNvSpPr/>
            <p:nvPr/>
          </p:nvSpPr>
          <p:spPr>
            <a:xfrm>
              <a:off x="560520" y="4859280"/>
              <a:ext cx="3373200" cy="436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3" name="Rectangle 93"/>
          <p:cNvSpPr/>
          <p:nvPr/>
        </p:nvSpPr>
        <p:spPr>
          <a:xfrm>
            <a:off x="558720" y="4013280"/>
            <a:ext cx="3365640" cy="204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4" name="Rectangle 94"/>
          <p:cNvSpPr/>
          <p:nvPr/>
        </p:nvSpPr>
        <p:spPr>
          <a:xfrm>
            <a:off x="4162680" y="548640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5" name="Text Box 95"/>
          <p:cNvSpPr/>
          <p:nvPr/>
        </p:nvSpPr>
        <p:spPr>
          <a:xfrm>
            <a:off x="763920" y="4876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19981E-006 L 0.00174 0.03145 E">
                                      <p:cBhvr>
                                        <p:cTn id="49" dur="2000" fill="hold"/>
                                        <p:tgtEl>
                                          <p:spTgt spid="5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5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2000"/>
                                        <p:tgtEl>
                                          <p:spTgt spid="5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6" name="PlaceHolder 1"/>
          <p:cNvSpPr>
            <a:spLocks noGrp="1"/>
          </p:cNvSpPr>
          <p:nvPr>
            <p:ph type="title"/>
          </p:nvPr>
        </p:nvSpPr>
        <p:spPr>
          <a:xfrm>
            <a:off x="326880" y="533160"/>
            <a:ext cx="7902720" cy="1038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127a"/>
                </a:solidFill>
                <a:latin typeface="Verdana"/>
              </a:rPr>
              <a:t>Monsoon Processor (ISCA 1990) </a:t>
            </a:r>
            <a:br>
              <a:rPr sz="3600"/>
            </a:br>
            <a:endParaRPr b="0" lang="en-US" sz="3600" spc="-1" strike="noStrike">
              <a:solidFill>
                <a:srgbClr val="56127a"/>
              </a:solidFill>
              <a:latin typeface="Verdana"/>
            </a:endParaRPr>
          </a:p>
        </p:txBody>
      </p:sp>
      <p:sp>
        <p:nvSpPr>
          <p:cNvPr id="5067" name="Freeform 3"/>
          <p:cNvSpPr/>
          <p:nvPr/>
        </p:nvSpPr>
        <p:spPr>
          <a:xfrm>
            <a:off x="5178600" y="1268280"/>
            <a:ext cx="133200" cy="162000"/>
          </a:xfrm>
          <a:custGeom>
            <a:avLst/>
            <a:gdLst/>
            <a:ahLst/>
            <a:rect l="l" t="t" r="r" b="b"/>
            <a:pathLst>
              <a:path w="11" h="14">
                <a:moveTo>
                  <a:pt x="0" y="14"/>
                </a:moveTo>
                <a:cubicBezTo>
                  <a:pt x="2" y="14"/>
                  <a:pt x="4" y="14"/>
                  <a:pt x="6" y="14"/>
                </a:cubicBezTo>
                <a:cubicBezTo>
                  <a:pt x="7" y="14"/>
                  <a:pt x="9" y="14"/>
                  <a:pt x="11" y="14"/>
                </a:cubicBezTo>
                <a:lnTo>
                  <a:pt x="6" y="0"/>
                </a:lnTo>
                <a:lnTo>
                  <a:pt x="0" y="1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8" name="Rectangle 5"/>
          <p:cNvSpPr/>
          <p:nvPr/>
        </p:nvSpPr>
        <p:spPr>
          <a:xfrm>
            <a:off x="2919240" y="1833480"/>
            <a:ext cx="1897200" cy="808200"/>
          </a:xfrm>
          <a:prstGeom prst="rect">
            <a:avLst/>
          </a:prstGeom>
          <a:solidFill>
            <a:srgbClr val="91a67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Instruction</a:t>
            </a:r>
            <a:br>
              <a:rPr sz="1800"/>
            </a:b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9" name="Rectangle 6"/>
          <p:cNvSpPr/>
          <p:nvPr/>
        </p:nvSpPr>
        <p:spPr>
          <a:xfrm>
            <a:off x="2919240" y="2989440"/>
            <a:ext cx="1895760" cy="807840"/>
          </a:xfrm>
          <a:prstGeom prst="rect">
            <a:avLst/>
          </a:prstGeom>
          <a:solidFill>
            <a:srgbClr val="91a67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Operand</a:t>
            </a:r>
            <a:br>
              <a:rPr sz="1800"/>
            </a:b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0" name="Freeform 10"/>
          <p:cNvSpPr/>
          <p:nvPr/>
        </p:nvSpPr>
        <p:spPr>
          <a:xfrm>
            <a:off x="3867120" y="4191120"/>
            <a:ext cx="3371760" cy="1914480"/>
          </a:xfrm>
          <a:custGeom>
            <a:avLst/>
            <a:gdLst/>
            <a:ahLst/>
            <a:rect l="l" t="t" r="r" b="b"/>
            <a:pathLst>
              <a:path w="2124" h="1206">
                <a:moveTo>
                  <a:pt x="0" y="1206"/>
                </a:moveTo>
                <a:lnTo>
                  <a:pt x="2116" y="1200"/>
                </a:lnTo>
                <a:lnTo>
                  <a:pt x="2124" y="0"/>
                </a:lnTo>
              </a:path>
            </a:pathLst>
          </a:custGeom>
          <a:solidFill>
            <a:srgbClr val="ffffff"/>
          </a:solidFill>
          <a:ln w="237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Line 11"/>
          <p:cNvSpPr/>
          <p:nvPr/>
        </p:nvSpPr>
        <p:spPr>
          <a:xfrm flipH="1">
            <a:off x="5297040" y="1533600"/>
            <a:ext cx="3240" cy="45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2" name="Rectangle 12"/>
          <p:cNvSpPr/>
          <p:nvPr/>
        </p:nvSpPr>
        <p:spPr>
          <a:xfrm>
            <a:off x="2445840" y="2103480"/>
            <a:ext cx="17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Rectangle 13"/>
          <p:cNvSpPr/>
          <p:nvPr/>
        </p:nvSpPr>
        <p:spPr>
          <a:xfrm>
            <a:off x="2328840" y="31082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fp+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Rectangle 15"/>
          <p:cNvSpPr/>
          <p:nvPr/>
        </p:nvSpPr>
        <p:spPr>
          <a:xfrm>
            <a:off x="3952800" y="6284880"/>
            <a:ext cx="81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Rectangle 16"/>
          <p:cNvSpPr/>
          <p:nvPr/>
        </p:nvSpPr>
        <p:spPr>
          <a:xfrm>
            <a:off x="7796160" y="6305400"/>
            <a:ext cx="81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Line 20"/>
          <p:cNvSpPr/>
          <p:nvPr/>
        </p:nvSpPr>
        <p:spPr>
          <a:xfrm flipV="1">
            <a:off x="2165400" y="3389040"/>
            <a:ext cx="753840" cy="3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Line 21"/>
          <p:cNvSpPr/>
          <p:nvPr/>
        </p:nvSpPr>
        <p:spPr>
          <a:xfrm flipV="1">
            <a:off x="2152800" y="2367000"/>
            <a:ext cx="763560" cy="6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Line 27"/>
          <p:cNvSpPr/>
          <p:nvPr/>
        </p:nvSpPr>
        <p:spPr>
          <a:xfrm flipH="1">
            <a:off x="3859200" y="5830920"/>
            <a:ext cx="7920" cy="55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Rectangle 28"/>
          <p:cNvSpPr/>
          <p:nvPr/>
        </p:nvSpPr>
        <p:spPr>
          <a:xfrm>
            <a:off x="885960" y="2867040"/>
            <a:ext cx="1285920" cy="923760"/>
          </a:xfrm>
          <a:prstGeom prst="rect">
            <a:avLst/>
          </a:prstGeom>
          <a:solidFill>
            <a:srgbClr val="cfbdc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0" name="Rectangle 29"/>
          <p:cNvSpPr/>
          <p:nvPr/>
        </p:nvSpPr>
        <p:spPr>
          <a:xfrm>
            <a:off x="1320840" y="2933640"/>
            <a:ext cx="77472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1" name="Rectangle 30"/>
          <p:cNvSpPr/>
          <p:nvPr/>
        </p:nvSpPr>
        <p:spPr>
          <a:xfrm>
            <a:off x="1254240" y="3024360"/>
            <a:ext cx="774720" cy="39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2" name="Rectangle 31"/>
          <p:cNvSpPr/>
          <p:nvPr/>
        </p:nvSpPr>
        <p:spPr>
          <a:xfrm>
            <a:off x="1189080" y="3154320"/>
            <a:ext cx="774720" cy="3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3" name="Rectangle 32"/>
          <p:cNvSpPr/>
          <p:nvPr/>
        </p:nvSpPr>
        <p:spPr>
          <a:xfrm>
            <a:off x="1189080" y="3324240"/>
            <a:ext cx="774720" cy="12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4" name="Rectangle 33"/>
          <p:cNvSpPr/>
          <p:nvPr/>
        </p:nvSpPr>
        <p:spPr>
          <a:xfrm>
            <a:off x="1189080" y="3324240"/>
            <a:ext cx="166680" cy="12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5" name="Rectangle 34"/>
          <p:cNvSpPr/>
          <p:nvPr/>
        </p:nvSpPr>
        <p:spPr>
          <a:xfrm>
            <a:off x="1041480" y="3529080"/>
            <a:ext cx="704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6" name="Group 35"/>
          <p:cNvGrpSpPr/>
          <p:nvPr/>
        </p:nvGrpSpPr>
        <p:grpSpPr>
          <a:xfrm>
            <a:off x="884160" y="1830240"/>
            <a:ext cx="1271520" cy="922320"/>
            <a:chOff x="884160" y="1830240"/>
            <a:chExt cx="1271520" cy="922320"/>
          </a:xfrm>
        </p:grpSpPr>
        <p:sp>
          <p:nvSpPr>
            <p:cNvPr id="5087" name="Rectangle 36"/>
            <p:cNvSpPr/>
            <p:nvPr/>
          </p:nvSpPr>
          <p:spPr>
            <a:xfrm>
              <a:off x="885600" y="1838160"/>
              <a:ext cx="1266480" cy="914400"/>
            </a:xfrm>
            <a:prstGeom prst="rect">
              <a:avLst/>
            </a:prstGeom>
            <a:solidFill>
              <a:srgbClr val="cfbdc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Line 37"/>
            <p:cNvSpPr/>
            <p:nvPr/>
          </p:nvSpPr>
          <p:spPr>
            <a:xfrm>
              <a:off x="884160" y="2082600"/>
              <a:ext cx="1271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Rectangle 38"/>
            <p:cNvSpPr/>
            <p:nvPr/>
          </p:nvSpPr>
          <p:spPr>
            <a:xfrm>
              <a:off x="1015560" y="184428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Rectangle 39"/>
            <p:cNvSpPr/>
            <p:nvPr/>
          </p:nvSpPr>
          <p:spPr>
            <a:xfrm>
              <a:off x="1394640" y="184608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Rectangle 40"/>
            <p:cNvSpPr/>
            <p:nvPr/>
          </p:nvSpPr>
          <p:spPr>
            <a:xfrm>
              <a:off x="1613880" y="1846080"/>
              <a:ext cx="47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1,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Line 41"/>
            <p:cNvSpPr/>
            <p:nvPr/>
          </p:nvSpPr>
          <p:spPr>
            <a:xfrm>
              <a:off x="1293480" y="1830240"/>
              <a:ext cx="1440" cy="25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Line 42"/>
            <p:cNvSpPr/>
            <p:nvPr/>
          </p:nvSpPr>
          <p:spPr>
            <a:xfrm>
              <a:off x="1547640" y="1833480"/>
              <a:ext cx="1080" cy="24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Rectangle 43"/>
            <p:cNvSpPr/>
            <p:nvPr/>
          </p:nvSpPr>
          <p:spPr>
            <a:xfrm>
              <a:off x="1126800" y="2452320"/>
              <a:ext cx="48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5" name="Rectangle 44"/>
          <p:cNvSpPr/>
          <p:nvPr/>
        </p:nvSpPr>
        <p:spPr>
          <a:xfrm>
            <a:off x="2932200" y="5014800"/>
            <a:ext cx="1895400" cy="808200"/>
          </a:xfrm>
          <a:prstGeom prst="rect">
            <a:avLst/>
          </a:prstGeom>
          <a:solidFill>
            <a:srgbClr val="91a67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Form</a:t>
            </a:r>
            <a:br>
              <a:rPr sz="1800"/>
            </a:b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Freeform 45"/>
          <p:cNvSpPr/>
          <p:nvPr/>
        </p:nvSpPr>
        <p:spPr>
          <a:xfrm>
            <a:off x="3265560" y="4089240"/>
            <a:ext cx="1230120" cy="571680"/>
          </a:xfrm>
          <a:custGeom>
            <a:avLst/>
            <a:gdLst/>
            <a:ahLst/>
            <a:rect l="l" t="t" r="r" b="b"/>
            <a:pathLst>
              <a:path w="775" h="360">
                <a:moveTo>
                  <a:pt x="0" y="0"/>
                </a:moveTo>
                <a:lnTo>
                  <a:pt x="321" y="0"/>
                </a:lnTo>
                <a:lnTo>
                  <a:pt x="396" y="85"/>
                </a:lnTo>
                <a:lnTo>
                  <a:pt x="463" y="4"/>
                </a:lnTo>
                <a:lnTo>
                  <a:pt x="775" y="4"/>
                </a:lnTo>
                <a:lnTo>
                  <a:pt x="562" y="360"/>
                </a:lnTo>
                <a:lnTo>
                  <a:pt x="220" y="360"/>
                </a:lnTo>
                <a:lnTo>
                  <a:pt x="0" y="0"/>
                </a:lnTo>
                <a:close/>
              </a:path>
            </a:pathLst>
          </a:custGeom>
          <a:solidFill>
            <a:srgbClr val="91a67c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Rectangle 46"/>
          <p:cNvSpPr/>
          <p:nvPr/>
        </p:nvSpPr>
        <p:spPr>
          <a:xfrm>
            <a:off x="3546360" y="4297320"/>
            <a:ext cx="674640" cy="213480"/>
          </a:xfrm>
          <a:prstGeom prst="rect">
            <a:avLst/>
          </a:prstGeom>
          <a:solidFill>
            <a:srgbClr val="91a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Verdana"/>
                <a:ea typeface="Arial"/>
              </a:rPr>
              <a:t>A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Line 47"/>
          <p:cNvSpPr/>
          <p:nvPr/>
        </p:nvSpPr>
        <p:spPr>
          <a:xfrm flipH="1">
            <a:off x="3648240" y="3801960"/>
            <a:ext cx="7920" cy="28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Line 48"/>
          <p:cNvSpPr/>
          <p:nvPr/>
        </p:nvSpPr>
        <p:spPr>
          <a:xfrm flipH="1">
            <a:off x="4114800" y="3808440"/>
            <a:ext cx="7920" cy="28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Line 49"/>
          <p:cNvSpPr/>
          <p:nvPr/>
        </p:nvSpPr>
        <p:spPr>
          <a:xfrm flipH="1">
            <a:off x="3772080" y="4659480"/>
            <a:ext cx="1440" cy="34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Line 50"/>
          <p:cNvSpPr/>
          <p:nvPr/>
        </p:nvSpPr>
        <p:spPr>
          <a:xfrm flipH="1">
            <a:off x="3971520" y="4665600"/>
            <a:ext cx="4680" cy="34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2" name="Rectangle 51"/>
          <p:cNvSpPr/>
          <p:nvPr/>
        </p:nvSpPr>
        <p:spPr>
          <a:xfrm>
            <a:off x="6972480" y="2809800"/>
            <a:ext cx="1095120" cy="1390680"/>
          </a:xfrm>
          <a:prstGeom prst="rect">
            <a:avLst/>
          </a:prstGeom>
          <a:solidFill>
            <a:srgbClr val="cfbdc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3" name="Rectangle 52"/>
          <p:cNvSpPr/>
          <p:nvPr/>
        </p:nvSpPr>
        <p:spPr>
          <a:xfrm>
            <a:off x="7171920" y="3174840"/>
            <a:ext cx="72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4" name="Freeform 53"/>
          <p:cNvSpPr/>
          <p:nvPr/>
        </p:nvSpPr>
        <p:spPr>
          <a:xfrm>
            <a:off x="3914640" y="1542960"/>
            <a:ext cx="3515040" cy="1263600"/>
          </a:xfrm>
          <a:custGeom>
            <a:avLst/>
            <a:gdLst/>
            <a:ahLst/>
            <a:rect l="l" t="t" r="r" b="b"/>
            <a:pathLst>
              <a:path w="2214" h="796">
                <a:moveTo>
                  <a:pt x="2214" y="796"/>
                </a:moveTo>
                <a:lnTo>
                  <a:pt x="2214" y="6"/>
                </a:lnTo>
                <a:lnTo>
                  <a:pt x="0" y="0"/>
                </a:lnTo>
                <a:lnTo>
                  <a:pt x="0" y="18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5" name="Line 54"/>
          <p:cNvSpPr/>
          <p:nvPr/>
        </p:nvSpPr>
        <p:spPr>
          <a:xfrm flipH="1" flipV="1">
            <a:off x="7706880" y="4211640"/>
            <a:ext cx="3240" cy="22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6" name="Line 55"/>
          <p:cNvSpPr/>
          <p:nvPr/>
        </p:nvSpPr>
        <p:spPr>
          <a:xfrm flipH="1">
            <a:off x="3886200" y="2666880"/>
            <a:ext cx="7920" cy="33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7" name="Group 60"/>
          <p:cNvGrpSpPr/>
          <p:nvPr/>
        </p:nvGrpSpPr>
        <p:grpSpPr>
          <a:xfrm>
            <a:off x="4524480" y="1268280"/>
            <a:ext cx="156960" cy="346320"/>
            <a:chOff x="4524480" y="1268280"/>
            <a:chExt cx="156960" cy="346320"/>
          </a:xfrm>
        </p:grpSpPr>
        <p:sp>
          <p:nvSpPr>
            <p:cNvPr id="5108" name="Rectangle 4"/>
            <p:cNvSpPr/>
            <p:nvPr/>
          </p:nvSpPr>
          <p:spPr>
            <a:xfrm>
              <a:off x="4678200" y="1268280"/>
              <a:ext cx="1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Oval 56"/>
            <p:cNvSpPr/>
            <p:nvPr/>
          </p:nvSpPr>
          <p:spPr>
            <a:xfrm>
              <a:off x="4524480" y="1484280"/>
              <a:ext cx="156960" cy="1303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0" name="Group 64"/>
          <p:cNvGrpSpPr/>
          <p:nvPr/>
        </p:nvGrpSpPr>
        <p:grpSpPr>
          <a:xfrm>
            <a:off x="4495680" y="1295280"/>
            <a:ext cx="156960" cy="346320"/>
            <a:chOff x="4495680" y="1295280"/>
            <a:chExt cx="156960" cy="346320"/>
          </a:xfrm>
        </p:grpSpPr>
        <p:sp>
          <p:nvSpPr>
            <p:cNvPr id="5111" name="Rectangle 65"/>
            <p:cNvSpPr/>
            <p:nvPr/>
          </p:nvSpPr>
          <p:spPr>
            <a:xfrm>
              <a:off x="4649400" y="1295280"/>
              <a:ext cx="1800" cy="304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Oval 66"/>
            <p:cNvSpPr/>
            <p:nvPr/>
          </p:nvSpPr>
          <p:spPr>
            <a:xfrm>
              <a:off x="4495680" y="1511280"/>
              <a:ext cx="156960" cy="130320"/>
            </a:xfrm>
            <a:prstGeom prst="ellipse">
              <a:avLst/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3" name="Oval 68"/>
          <p:cNvSpPr/>
          <p:nvPr/>
        </p:nvSpPr>
        <p:spPr>
          <a:xfrm>
            <a:off x="3657600" y="4495680"/>
            <a:ext cx="157320" cy="13032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4" name="Oval 69"/>
          <p:cNvSpPr/>
          <p:nvPr/>
        </p:nvSpPr>
        <p:spPr>
          <a:xfrm>
            <a:off x="3957480" y="4441680"/>
            <a:ext cx="157320" cy="130320"/>
          </a:xfrm>
          <a:prstGeom prst="ellipse">
            <a:avLst/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19653E-006 L -0.0783 -0.00208 L -0.0783 0.11838 E">
                                      <p:cBhvr>
                                        <p:cTn id="65" dur="2000" fill="hold"/>
                                        <p:tgtEl>
                                          <p:spTgt spid="5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3 0.11838 L -0.27517 0.11861 E">
                                      <p:cBhvr>
                                        <p:cTn id="68" dur="2000" fill="hold"/>
                                        <p:tgtEl>
                                          <p:spTgt spid="5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674 0.1163 L -0.0783 0.1163 L -0.0783 0.26428 L -0.32275 0.26636 E">
                                      <p:cBhvr>
                                        <p:cTn id="72" dur="3000" fill="hold"/>
                                        <p:tgtEl>
                                          <p:spTgt spid="5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2000" fill="hold"/>
                                        <p:tgtEl>
                                          <p:spTgt spid="50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6" dur="2000" fill="hold"/>
                                        <p:tgtEl>
                                          <p:spTgt spid="50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19653E-006 L -0.0783 -0.00208 L -0.0783 0.11838 E">
                                      <p:cBhvr>
                                        <p:cTn id="85" dur="2000" fill="hold"/>
                                        <p:tgtEl>
                                          <p:spTgt spid="5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3 0.11838 L -0.27517 0.11861 E">
                                      <p:cBhvr>
                                        <p:cTn id="88" dur="2000" fill="hold"/>
                                        <p:tgtEl>
                                          <p:spTgt spid="5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674 0.1163 L -0.0783 0.1163 L -0.0783 0.26428 L -0.32275 0.26636 E">
                                      <p:cBhvr>
                                        <p:cTn id="92" dur="3000" fill="hold"/>
                                        <p:tgtEl>
                                          <p:spTgt spid="5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5 0.26636 L -0.10677 0.26636 L -0.10677 0.38474 E">
                                      <p:cBhvr>
                                        <p:cTn id="96" dur="2000" fill="hold"/>
                                        <p:tgtEl>
                                          <p:spTgt spid="5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961 0.26243 L -0.04982 0.25827 L -0.04982 0.3852 E">
                                      <p:cBhvr>
                                        <p:cTn id="98" dur="2000" fill="hold"/>
                                        <p:tgtEl>
                                          <p:spTgt spid="5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50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50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5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5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5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27168E-006 L -0.01111 0.21572 L 0.27292 0.21572 E">
                                      <p:cBhvr>
                                        <p:cTn id="123" dur="2000" fill="hold"/>
                                        <p:tgtEl>
                                          <p:spTgt spid="5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0.01641 L 0.01371 0.22566 L 0.17083 0.22358 L 0.16927 0.04601 E">
                                      <p:cBhvr>
                                        <p:cTn id="125" dur="2000" fill="hold"/>
                                        <p:tgtEl>
                                          <p:spTgt spid="5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cept of Tagg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1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invocation receives a separate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5CAE-1B83-4DA2-94A0-0F52EF309B5B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8" name="Picture 4" descr=""/>
          <p:cNvPicPr/>
          <p:nvPr/>
        </p:nvPicPr>
        <p:blipFill>
          <a:blip r:embed="rId1"/>
          <a:stretch/>
        </p:blipFill>
        <p:spPr>
          <a:xfrm>
            <a:off x="914400" y="1506600"/>
            <a:ext cx="7238880" cy="48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9" name="PlaceHolder 1"/>
          <p:cNvSpPr>
            <a:spLocks noGrp="1"/>
          </p:cNvSpPr>
          <p:nvPr>
            <p:ph type="title"/>
          </p:nvPr>
        </p:nvSpPr>
        <p:spPr>
          <a:xfrm>
            <a:off x="321840" y="565200"/>
            <a:ext cx="6797880" cy="490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127a"/>
                </a:solidFill>
                <a:latin typeface="Verdana"/>
              </a:rPr>
              <a:t>Procedure Linkage Operators</a:t>
            </a:r>
            <a:endParaRPr b="0" lang="en-US" sz="3600" spc="-1" strike="noStrike">
              <a:solidFill>
                <a:srgbClr val="56127a"/>
              </a:solidFill>
              <a:latin typeface="Verdana"/>
            </a:endParaRPr>
          </a:p>
        </p:txBody>
      </p:sp>
      <p:sp>
        <p:nvSpPr>
          <p:cNvPr id="5120" name="Line 3"/>
          <p:cNvSpPr/>
          <p:nvPr/>
        </p:nvSpPr>
        <p:spPr>
          <a:xfrm flipH="1">
            <a:off x="1612800" y="1297080"/>
            <a:ext cx="5040" cy="76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Rectangle 4"/>
          <p:cNvSpPr/>
          <p:nvPr/>
        </p:nvSpPr>
        <p:spPr>
          <a:xfrm>
            <a:off x="1338840" y="1373040"/>
            <a:ext cx="2066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Rectangle 5"/>
          <p:cNvSpPr/>
          <p:nvPr/>
        </p:nvSpPr>
        <p:spPr>
          <a:xfrm>
            <a:off x="1236600" y="2063880"/>
            <a:ext cx="1433520" cy="366480"/>
          </a:xfrm>
          <a:prstGeom prst="rect">
            <a:avLst/>
          </a:prstGeom>
          <a:solidFill>
            <a:srgbClr val="cfbdc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get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Rectangle 6"/>
          <p:cNvSpPr/>
          <p:nvPr/>
        </p:nvSpPr>
        <p:spPr>
          <a:xfrm>
            <a:off x="3535560" y="2127240"/>
            <a:ext cx="1284120" cy="283680"/>
          </a:xfrm>
          <a:prstGeom prst="rect">
            <a:avLst/>
          </a:prstGeom>
          <a:solidFill>
            <a:srgbClr val="91a67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extract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4" name="Rectangle 7"/>
          <p:cNvSpPr/>
          <p:nvPr/>
        </p:nvSpPr>
        <p:spPr>
          <a:xfrm>
            <a:off x="1831320" y="3241800"/>
            <a:ext cx="1563120" cy="283680"/>
          </a:xfrm>
          <a:prstGeom prst="rect">
            <a:avLst/>
          </a:prstGeom>
          <a:solidFill>
            <a:srgbClr val="91a67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change Tag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Line 8"/>
          <p:cNvSpPr/>
          <p:nvPr/>
        </p:nvSpPr>
        <p:spPr>
          <a:xfrm>
            <a:off x="2301840" y="246852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Line 9"/>
          <p:cNvSpPr/>
          <p:nvPr/>
        </p:nvSpPr>
        <p:spPr>
          <a:xfrm flipH="1">
            <a:off x="2733840" y="2425680"/>
            <a:ext cx="1419120" cy="79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Line 10"/>
          <p:cNvSpPr/>
          <p:nvPr/>
        </p:nvSpPr>
        <p:spPr>
          <a:xfrm>
            <a:off x="2309760" y="2697120"/>
            <a:ext cx="485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Line 11"/>
          <p:cNvSpPr/>
          <p:nvPr/>
        </p:nvSpPr>
        <p:spPr>
          <a:xfrm>
            <a:off x="4902120" y="5321160"/>
            <a:ext cx="0" cy="49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Rectangle 12"/>
          <p:cNvSpPr/>
          <p:nvPr/>
        </p:nvSpPr>
        <p:spPr>
          <a:xfrm>
            <a:off x="3405240" y="5727600"/>
            <a:ext cx="1774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Rectangle 13"/>
          <p:cNvSpPr/>
          <p:nvPr/>
        </p:nvSpPr>
        <p:spPr>
          <a:xfrm>
            <a:off x="3709440" y="5815080"/>
            <a:ext cx="1563120" cy="283680"/>
          </a:xfrm>
          <a:prstGeom prst="rect">
            <a:avLst/>
          </a:prstGeom>
          <a:solidFill>
            <a:srgbClr val="91a67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change Tag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Rectangle 14"/>
          <p:cNvSpPr/>
          <p:nvPr/>
        </p:nvSpPr>
        <p:spPr>
          <a:xfrm>
            <a:off x="5662440" y="4815000"/>
            <a:ext cx="13086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Graph for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AutoShape 15"/>
          <p:cNvSpPr/>
          <p:nvPr/>
        </p:nvSpPr>
        <p:spPr>
          <a:xfrm>
            <a:off x="4140360" y="4016520"/>
            <a:ext cx="4249440" cy="129204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Rectangle 16"/>
          <p:cNvSpPr/>
          <p:nvPr/>
        </p:nvSpPr>
        <p:spPr>
          <a:xfrm>
            <a:off x="4127040" y="3267000"/>
            <a:ext cx="1563120" cy="283680"/>
          </a:xfrm>
          <a:prstGeom prst="rect">
            <a:avLst/>
          </a:prstGeom>
          <a:solidFill>
            <a:srgbClr val="91a67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change Ta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Line 17"/>
          <p:cNvSpPr/>
          <p:nvPr/>
        </p:nvSpPr>
        <p:spPr>
          <a:xfrm>
            <a:off x="4559400" y="2684520"/>
            <a:ext cx="468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Line 18"/>
          <p:cNvSpPr/>
          <p:nvPr/>
        </p:nvSpPr>
        <p:spPr>
          <a:xfrm>
            <a:off x="5294160" y="1312920"/>
            <a:ext cx="0" cy="1955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Rectangle 19"/>
          <p:cNvSpPr/>
          <p:nvPr/>
        </p:nvSpPr>
        <p:spPr>
          <a:xfrm>
            <a:off x="4938840" y="1373040"/>
            <a:ext cx="3866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Rectangle 20"/>
          <p:cNvSpPr/>
          <p:nvPr/>
        </p:nvSpPr>
        <p:spPr>
          <a:xfrm>
            <a:off x="4155840" y="4332240"/>
            <a:ext cx="319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Line 21"/>
          <p:cNvSpPr/>
          <p:nvPr/>
        </p:nvSpPr>
        <p:spPr>
          <a:xfrm>
            <a:off x="4910040" y="3557520"/>
            <a:ext cx="0" cy="77472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Line 22"/>
          <p:cNvSpPr/>
          <p:nvPr/>
        </p:nvSpPr>
        <p:spPr>
          <a:xfrm>
            <a:off x="4489560" y="6107040"/>
            <a:ext cx="0" cy="4446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Rectangle 23"/>
          <p:cNvSpPr/>
          <p:nvPr/>
        </p:nvSpPr>
        <p:spPr>
          <a:xfrm>
            <a:off x="2676600" y="3921120"/>
            <a:ext cx="6073560" cy="230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Rectangle 24"/>
          <p:cNvSpPr/>
          <p:nvPr/>
        </p:nvSpPr>
        <p:spPr>
          <a:xfrm>
            <a:off x="6733800" y="3254400"/>
            <a:ext cx="1573560" cy="283680"/>
          </a:xfrm>
          <a:prstGeom prst="rect">
            <a:avLst/>
          </a:prstGeom>
          <a:solidFill>
            <a:srgbClr val="91a67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change Tag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Line 25"/>
          <p:cNvSpPr/>
          <p:nvPr/>
        </p:nvSpPr>
        <p:spPr>
          <a:xfrm>
            <a:off x="7159680" y="2697120"/>
            <a:ext cx="0" cy="54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Line 26"/>
          <p:cNvSpPr/>
          <p:nvPr/>
        </p:nvSpPr>
        <p:spPr>
          <a:xfrm flipH="1">
            <a:off x="7907040" y="1300320"/>
            <a:ext cx="19080" cy="1941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Rectangle 27"/>
          <p:cNvSpPr/>
          <p:nvPr/>
        </p:nvSpPr>
        <p:spPr>
          <a:xfrm>
            <a:off x="7544520" y="1360440"/>
            <a:ext cx="3970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Rectangle 28"/>
          <p:cNvSpPr/>
          <p:nvPr/>
        </p:nvSpPr>
        <p:spPr>
          <a:xfrm>
            <a:off x="6635880" y="4319640"/>
            <a:ext cx="330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56127a"/>
                </a:solidFill>
                <a:latin typeface="Verdana"/>
                <a:ea typeface="Arial"/>
              </a:rPr>
              <a:t>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6" name="Line 29"/>
          <p:cNvSpPr/>
          <p:nvPr/>
        </p:nvSpPr>
        <p:spPr>
          <a:xfrm>
            <a:off x="7413480" y="3554280"/>
            <a:ext cx="0" cy="76356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7" name="Rectangle 30"/>
          <p:cNvSpPr/>
          <p:nvPr/>
        </p:nvSpPr>
        <p:spPr>
          <a:xfrm>
            <a:off x="6159600" y="1455840"/>
            <a:ext cx="428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56127a"/>
                </a:solidFill>
                <a:latin typeface="Verdana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Rectangle 31"/>
          <p:cNvSpPr/>
          <p:nvPr/>
        </p:nvSpPr>
        <p:spPr>
          <a:xfrm>
            <a:off x="6828840" y="5802480"/>
            <a:ext cx="1563120" cy="283680"/>
          </a:xfrm>
          <a:prstGeom prst="rect">
            <a:avLst/>
          </a:prstGeom>
          <a:solidFill>
            <a:srgbClr val="91a67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change Ta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9" name="Rectangle 32"/>
          <p:cNvSpPr/>
          <p:nvPr/>
        </p:nvSpPr>
        <p:spPr>
          <a:xfrm>
            <a:off x="4470480" y="4344840"/>
            <a:ext cx="887400" cy="304920"/>
          </a:xfrm>
          <a:prstGeom prst="rect">
            <a:avLst/>
          </a:prstGeom>
          <a:solidFill>
            <a:srgbClr val="91a67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0" name="Rectangle 33"/>
          <p:cNvSpPr/>
          <p:nvPr/>
        </p:nvSpPr>
        <p:spPr>
          <a:xfrm>
            <a:off x="7007400" y="4332240"/>
            <a:ext cx="887400" cy="304920"/>
          </a:xfrm>
          <a:prstGeom prst="rect">
            <a:avLst/>
          </a:prstGeom>
          <a:solidFill>
            <a:srgbClr val="91a67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1" name="Line 34"/>
          <p:cNvSpPr/>
          <p:nvPr/>
        </p:nvSpPr>
        <p:spPr>
          <a:xfrm>
            <a:off x="7881840" y="5332320"/>
            <a:ext cx="0" cy="4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2" name="Line 35"/>
          <p:cNvSpPr/>
          <p:nvPr/>
        </p:nvSpPr>
        <p:spPr>
          <a:xfrm>
            <a:off x="4102200" y="5475240"/>
            <a:ext cx="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3" name="Line 36"/>
          <p:cNvSpPr/>
          <p:nvPr/>
        </p:nvSpPr>
        <p:spPr>
          <a:xfrm flipH="1">
            <a:off x="7119720" y="5478480"/>
            <a:ext cx="468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Line 37"/>
          <p:cNvSpPr/>
          <p:nvPr/>
        </p:nvSpPr>
        <p:spPr>
          <a:xfrm>
            <a:off x="3355920" y="5486400"/>
            <a:ext cx="3778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Line 38"/>
          <p:cNvSpPr/>
          <p:nvPr/>
        </p:nvSpPr>
        <p:spPr>
          <a:xfrm>
            <a:off x="3365640" y="5106960"/>
            <a:ext cx="0" cy="37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Rectangle 39"/>
          <p:cNvSpPr/>
          <p:nvPr/>
        </p:nvSpPr>
        <p:spPr>
          <a:xfrm>
            <a:off x="3039120" y="4761000"/>
            <a:ext cx="655560" cy="335520"/>
          </a:xfrm>
          <a:prstGeom prst="rect">
            <a:avLst/>
          </a:prstGeom>
          <a:solidFill>
            <a:srgbClr val="91a67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F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Line 40"/>
          <p:cNvSpPr/>
          <p:nvPr/>
        </p:nvSpPr>
        <p:spPr>
          <a:xfrm>
            <a:off x="7618320" y="6107040"/>
            <a:ext cx="0" cy="4446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8" name="Freeform 41"/>
          <p:cNvSpPr/>
          <p:nvPr/>
        </p:nvSpPr>
        <p:spPr>
          <a:xfrm>
            <a:off x="1619280" y="1595520"/>
            <a:ext cx="2548080" cy="538200"/>
          </a:xfrm>
          <a:custGeom>
            <a:avLst/>
            <a:gdLst/>
            <a:ahLst/>
            <a:rect l="l" t="t" r="r" b="b"/>
            <a:pathLst>
              <a:path w="1560" h="429">
                <a:moveTo>
                  <a:pt x="0" y="0"/>
                </a:moveTo>
                <a:lnTo>
                  <a:pt x="1560" y="0"/>
                </a:lnTo>
                <a:lnTo>
                  <a:pt x="1560" y="42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9" name="Freeform 42"/>
          <p:cNvSpPr/>
          <p:nvPr/>
        </p:nvSpPr>
        <p:spPr>
          <a:xfrm>
            <a:off x="2576520" y="3543480"/>
            <a:ext cx="781200" cy="1199880"/>
          </a:xfrm>
          <a:custGeom>
            <a:avLst/>
            <a:gdLst/>
            <a:ahLst/>
            <a:rect l="l" t="t" r="r" b="b"/>
            <a:pathLst>
              <a:path w="471" h="756">
                <a:moveTo>
                  <a:pt x="0" y="0"/>
                </a:moveTo>
                <a:lnTo>
                  <a:pt x="0" y="150"/>
                </a:lnTo>
                <a:lnTo>
                  <a:pt x="471" y="150"/>
                </a:lnTo>
                <a:lnTo>
                  <a:pt x="471" y="756"/>
                </a:lnTo>
              </a:path>
            </a:pathLst>
          </a:custGeom>
          <a:noFill/>
          <a:ln w="1908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0" name="Group 43"/>
          <p:cNvGrpSpPr/>
          <p:nvPr/>
        </p:nvGrpSpPr>
        <p:grpSpPr>
          <a:xfrm>
            <a:off x="1542960" y="1724040"/>
            <a:ext cx="2687760" cy="139680"/>
            <a:chOff x="1542960" y="1724040"/>
            <a:chExt cx="2687760" cy="139680"/>
          </a:xfrm>
        </p:grpSpPr>
        <p:sp>
          <p:nvSpPr>
            <p:cNvPr id="5161" name="Oval 44"/>
            <p:cNvSpPr/>
            <p:nvPr/>
          </p:nvSpPr>
          <p:spPr>
            <a:xfrm>
              <a:off x="1542960" y="17240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Oval 45"/>
            <p:cNvSpPr/>
            <p:nvPr/>
          </p:nvSpPr>
          <p:spPr>
            <a:xfrm>
              <a:off x="4091040" y="17240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3" name="Oval 46"/>
          <p:cNvSpPr/>
          <p:nvPr/>
        </p:nvSpPr>
        <p:spPr>
          <a:xfrm>
            <a:off x="5219640" y="2905200"/>
            <a:ext cx="139680" cy="139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4" name="Oval 47"/>
          <p:cNvSpPr/>
          <p:nvPr/>
        </p:nvSpPr>
        <p:spPr>
          <a:xfrm>
            <a:off x="7843680" y="2905200"/>
            <a:ext cx="139680" cy="139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5" name="Group 48"/>
          <p:cNvGrpSpPr/>
          <p:nvPr/>
        </p:nvGrpSpPr>
        <p:grpSpPr>
          <a:xfrm>
            <a:off x="2224080" y="2905200"/>
            <a:ext cx="5002200" cy="139680"/>
            <a:chOff x="2224080" y="2905200"/>
            <a:chExt cx="5002200" cy="139680"/>
          </a:xfrm>
        </p:grpSpPr>
        <p:sp>
          <p:nvSpPr>
            <p:cNvPr id="5166" name="Oval 49"/>
            <p:cNvSpPr/>
            <p:nvPr/>
          </p:nvSpPr>
          <p:spPr>
            <a:xfrm>
              <a:off x="2224080" y="29052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Oval 50"/>
            <p:cNvSpPr/>
            <p:nvPr/>
          </p:nvSpPr>
          <p:spPr>
            <a:xfrm>
              <a:off x="3124080" y="29052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Oval 51"/>
            <p:cNvSpPr/>
            <p:nvPr/>
          </p:nvSpPr>
          <p:spPr>
            <a:xfrm>
              <a:off x="4491000" y="29052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Oval 52"/>
            <p:cNvSpPr/>
            <p:nvPr/>
          </p:nvSpPr>
          <p:spPr>
            <a:xfrm>
              <a:off x="7086600" y="29052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0" name="Oval 53"/>
          <p:cNvSpPr/>
          <p:nvPr/>
        </p:nvSpPr>
        <p:spPr>
          <a:xfrm>
            <a:off x="4834080" y="406728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1" name="Oval 54"/>
          <p:cNvSpPr/>
          <p:nvPr/>
        </p:nvSpPr>
        <p:spPr>
          <a:xfrm>
            <a:off x="3281400" y="406728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2" name="Oval 55"/>
          <p:cNvSpPr/>
          <p:nvPr/>
        </p:nvSpPr>
        <p:spPr>
          <a:xfrm>
            <a:off x="7343640" y="406728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Oval 56"/>
          <p:cNvSpPr/>
          <p:nvPr/>
        </p:nvSpPr>
        <p:spPr>
          <a:xfrm>
            <a:off x="4834080" y="554364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4" name="Oval 57"/>
          <p:cNvSpPr/>
          <p:nvPr/>
        </p:nvSpPr>
        <p:spPr>
          <a:xfrm>
            <a:off x="7810560" y="554364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5" name="Group 58"/>
          <p:cNvGrpSpPr/>
          <p:nvPr/>
        </p:nvGrpSpPr>
        <p:grpSpPr>
          <a:xfrm>
            <a:off x="4033800" y="5543640"/>
            <a:ext cx="3159000" cy="139680"/>
            <a:chOff x="4033800" y="5543640"/>
            <a:chExt cx="3159000" cy="139680"/>
          </a:xfrm>
        </p:grpSpPr>
        <p:sp>
          <p:nvSpPr>
            <p:cNvPr id="5176" name="Oval 59"/>
            <p:cNvSpPr/>
            <p:nvPr/>
          </p:nvSpPr>
          <p:spPr>
            <a:xfrm>
              <a:off x="4033800" y="554364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Oval 60"/>
            <p:cNvSpPr/>
            <p:nvPr/>
          </p:nvSpPr>
          <p:spPr>
            <a:xfrm>
              <a:off x="7053120" y="554364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8" name="Oval 61"/>
          <p:cNvSpPr/>
          <p:nvPr/>
        </p:nvSpPr>
        <p:spPr>
          <a:xfrm>
            <a:off x="4414680" y="6276960"/>
            <a:ext cx="139680" cy="139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9" name="Oval 62"/>
          <p:cNvSpPr/>
          <p:nvPr/>
        </p:nvSpPr>
        <p:spPr>
          <a:xfrm>
            <a:off x="7548480" y="6276960"/>
            <a:ext cx="139680" cy="139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0" name="Group 63"/>
          <p:cNvGrpSpPr/>
          <p:nvPr/>
        </p:nvGrpSpPr>
        <p:grpSpPr>
          <a:xfrm>
            <a:off x="200160" y="5724360"/>
            <a:ext cx="2057400" cy="533520"/>
            <a:chOff x="200160" y="5724360"/>
            <a:chExt cx="2057400" cy="533520"/>
          </a:xfrm>
        </p:grpSpPr>
        <p:sp>
          <p:nvSpPr>
            <p:cNvPr id="5181" name="Rectangle 64"/>
            <p:cNvSpPr/>
            <p:nvPr/>
          </p:nvSpPr>
          <p:spPr>
            <a:xfrm>
              <a:off x="528480" y="5735520"/>
              <a:ext cx="169416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200" bIns="252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oken in frame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Oval 65"/>
            <p:cNvSpPr/>
            <p:nvPr/>
          </p:nvSpPr>
          <p:spPr>
            <a:xfrm>
              <a:off x="295200" y="57942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Rectangle 66"/>
            <p:cNvSpPr/>
            <p:nvPr/>
          </p:nvSpPr>
          <p:spPr>
            <a:xfrm>
              <a:off x="528480" y="5983200"/>
              <a:ext cx="169416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200" bIns="252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oken in frame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Oval 67"/>
            <p:cNvSpPr/>
            <p:nvPr/>
          </p:nvSpPr>
          <p:spPr>
            <a:xfrm>
              <a:off x="295200" y="6041880"/>
              <a:ext cx="139680" cy="139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Rectangle 68"/>
            <p:cNvSpPr/>
            <p:nvPr/>
          </p:nvSpPr>
          <p:spPr>
            <a:xfrm>
              <a:off x="200160" y="5724360"/>
              <a:ext cx="2057400" cy="5335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6" name="Oval 69"/>
          <p:cNvSpPr/>
          <p:nvPr/>
        </p:nvSpPr>
        <p:spPr>
          <a:xfrm>
            <a:off x="7089840" y="2905200"/>
            <a:ext cx="139680" cy="139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7" name="Oval 70"/>
          <p:cNvSpPr/>
          <p:nvPr/>
        </p:nvSpPr>
        <p:spPr>
          <a:xfrm>
            <a:off x="7058160" y="554364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Text Box 71"/>
          <p:cNvSpPr/>
          <p:nvPr/>
        </p:nvSpPr>
        <p:spPr>
          <a:xfrm>
            <a:off x="152280" y="3657600"/>
            <a:ext cx="2362320" cy="1923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Like standard call/return but caller &amp; callee can be active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1" dur="500"/>
                                        <p:tgtEl>
                                          <p:spTgt spid="5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5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5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5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5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5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5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5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5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5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8" dur="500"/>
                                        <p:tgtEl>
                                          <p:spTgt spid="5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1" dur="500"/>
                                        <p:tgtEl>
                                          <p:spTgt spid="5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5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5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5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5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5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5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5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5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5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8" dur="500"/>
                                        <p:tgtEl>
                                          <p:spTgt spid="5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5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5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unction Cal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mechanism to direct the output token of the function to the proper calling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done by sending special token containing the return node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E4A8-98DA-40C5-BF76-F4854DB19F6D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Loops and Function Calls Summa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9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519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4F48-655F-40A0-A9E4-9A9CA76C439A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5" name="Picture 4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3581280" cy="5837400"/>
          </a:xfrm>
          <a:prstGeom prst="rect">
            <a:avLst/>
          </a:prstGeom>
          <a:ln w="0">
            <a:noFill/>
          </a:ln>
        </p:spPr>
      </p:pic>
      <p:pic>
        <p:nvPicPr>
          <p:cNvPr id="5196" name="Picture 5" descr=""/>
          <p:cNvPicPr/>
          <p:nvPr/>
        </p:nvPicPr>
        <p:blipFill>
          <a:blip r:embed="rId3"/>
          <a:stretch/>
        </p:blipFill>
        <p:spPr>
          <a:xfrm>
            <a:off x="4343400" y="1089000"/>
            <a:ext cx="4191120" cy="57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of Parallelism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Many loop iterations can be present in the machine at any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0K iterations on a 256 processor machine can swamp the machine (thrashing in token matching unit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enough bits to represent frame id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Throttle loops. Control how many loop iterations can be in the machine at the same tim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quires changes to loop dataflow graph to inhibit token generation when number of iterations is greater than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45CC-61EA-449F-9674-3B9E119B8F69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ome Required Dataflow Reading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83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flow at the ISA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nnis and Misunas, 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 Preliminary Architecture for a Basic Data Flow Process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ISCA 197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vind and Nikhil, 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Executing a Program on the MIT Tagged-Token Dataflow Architectu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IEEE TC 199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ricted Data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att et al., 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HPS, a new microarchitecture: rationale and introdu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,” MICRO 198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att et al., 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Critical issues regarding HPS, a high performance microarchitectu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,” MICRO 198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3D42-B5F4-4038-A01C-C5599EA0BB83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Stru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flow by nature has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rite-once seman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arc (token) represents a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c (token) gets transformed by a dataflow node into a new arc (token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persistent state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s as we know of them (in imperative languages) are structures with persistent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we want persistent stat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natural representation for some tasks? (bank accounts, databases, …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exploit locality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619B-AEC8-4711-AA2B-7BAF2DD55E48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12040" cy="1269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Structures in Dataflow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204" name="Group 25"/>
          <p:cNvGrpSpPr/>
          <p:nvPr/>
        </p:nvGrpSpPr>
        <p:grpSpPr>
          <a:xfrm>
            <a:off x="6224760" y="1452600"/>
            <a:ext cx="2831760" cy="1150920"/>
            <a:chOff x="6224760" y="1452600"/>
            <a:chExt cx="2831760" cy="1150920"/>
          </a:xfrm>
        </p:grpSpPr>
        <p:sp>
          <p:nvSpPr>
            <p:cNvPr id="5205" name="Rectangle 3"/>
            <p:cNvSpPr/>
            <p:nvPr/>
          </p:nvSpPr>
          <p:spPr>
            <a:xfrm>
              <a:off x="6224760" y="2101680"/>
              <a:ext cx="529920" cy="501840"/>
            </a:xfrm>
            <a:prstGeom prst="rect">
              <a:avLst/>
            </a:prstGeom>
            <a:solidFill>
              <a:srgbClr val="cc99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Rectangle 4"/>
            <p:cNvSpPr/>
            <p:nvPr/>
          </p:nvSpPr>
          <p:spPr>
            <a:xfrm>
              <a:off x="8526600" y="2101680"/>
              <a:ext cx="529920" cy="501840"/>
            </a:xfrm>
            <a:prstGeom prst="rect">
              <a:avLst/>
            </a:prstGeom>
            <a:solidFill>
              <a:srgbClr val="cc99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Rectangle 5"/>
            <p:cNvSpPr/>
            <p:nvPr/>
          </p:nvSpPr>
          <p:spPr>
            <a:xfrm>
              <a:off x="7301160" y="2152800"/>
              <a:ext cx="747000" cy="4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. . 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Rectangle 6"/>
            <p:cNvSpPr/>
            <p:nvPr/>
          </p:nvSpPr>
          <p:spPr>
            <a:xfrm>
              <a:off x="8604000" y="2184480"/>
              <a:ext cx="358200" cy="4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300" spc="-1" strike="noStrike">
                  <a:solidFill>
                    <a:srgbClr val="ffcc66"/>
                  </a:solidFill>
                  <a:latin typeface="Verdana"/>
                  <a:ea typeface="Arial"/>
                </a:rPr>
                <a:t>P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Rectangle 7"/>
            <p:cNvSpPr/>
            <p:nvPr/>
          </p:nvSpPr>
          <p:spPr>
            <a:xfrm>
              <a:off x="6302160" y="2197080"/>
              <a:ext cx="358200" cy="4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300" spc="-1" strike="noStrike">
                  <a:solidFill>
                    <a:srgbClr val="ffcc66"/>
                  </a:solidFill>
                  <a:latin typeface="Verdana"/>
                  <a:ea typeface="Arial"/>
                </a:rPr>
                <a:t>P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Rectangle 9"/>
            <p:cNvSpPr/>
            <p:nvPr/>
          </p:nvSpPr>
          <p:spPr>
            <a:xfrm>
              <a:off x="6262560" y="1452600"/>
              <a:ext cx="2740320" cy="557280"/>
            </a:xfrm>
            <a:prstGeom prst="rect">
              <a:avLst/>
            </a:prstGeom>
            <a:solidFill>
              <a:srgbClr val="cc99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300" spc="-1" strike="noStrike">
                  <a:solidFill>
                    <a:srgbClr val="ffcc66"/>
                  </a:solidFill>
                  <a:latin typeface="Verdana"/>
                  <a:ea typeface="Arial"/>
                </a:rPr>
                <a:t>Memo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7672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s reside in a structure st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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kens carry point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-structures: Write-once, Read multiple tim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cate, write, read, ..., read, deallocate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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problem if a reader arrives before the writer at the memory location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12" name="Group 24"/>
          <p:cNvGrpSpPr/>
          <p:nvPr/>
        </p:nvGrpSpPr>
        <p:grpSpPr>
          <a:xfrm>
            <a:off x="7035840" y="2771640"/>
            <a:ext cx="1280880" cy="1982520"/>
            <a:chOff x="7035840" y="2771640"/>
            <a:chExt cx="1280880" cy="1982520"/>
          </a:xfrm>
        </p:grpSpPr>
        <p:sp>
          <p:nvSpPr>
            <p:cNvPr id="5213" name="Rectangle 12"/>
            <p:cNvSpPr/>
            <p:nvPr/>
          </p:nvSpPr>
          <p:spPr>
            <a:xfrm>
              <a:off x="7035840" y="3431880"/>
              <a:ext cx="1280880" cy="658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Rectangle 14"/>
            <p:cNvSpPr/>
            <p:nvPr/>
          </p:nvSpPr>
          <p:spPr>
            <a:xfrm>
              <a:off x="7227720" y="3570120"/>
              <a:ext cx="105084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200" bIns="252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I-fet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Rectangle 16"/>
            <p:cNvSpPr/>
            <p:nvPr/>
          </p:nvSpPr>
          <p:spPr>
            <a:xfrm>
              <a:off x="7787520" y="2771640"/>
              <a:ext cx="3013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200" bIns="252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24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Line 17"/>
            <p:cNvSpPr/>
            <p:nvPr/>
          </p:nvSpPr>
          <p:spPr>
            <a:xfrm>
              <a:off x="7694640" y="2771640"/>
              <a:ext cx="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Line 18"/>
            <p:cNvSpPr/>
            <p:nvPr/>
          </p:nvSpPr>
          <p:spPr>
            <a:xfrm>
              <a:off x="7669080" y="4108320"/>
              <a:ext cx="0" cy="64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8" name="Group 23"/>
          <p:cNvGrpSpPr/>
          <p:nvPr/>
        </p:nvGrpSpPr>
        <p:grpSpPr>
          <a:xfrm>
            <a:off x="7059600" y="4930920"/>
            <a:ext cx="1230120" cy="1369440"/>
            <a:chOff x="7059600" y="4930920"/>
            <a:chExt cx="1230120" cy="1369440"/>
          </a:xfrm>
        </p:grpSpPr>
        <p:sp>
          <p:nvSpPr>
            <p:cNvPr id="5219" name="Rectangle 13"/>
            <p:cNvSpPr/>
            <p:nvPr/>
          </p:nvSpPr>
          <p:spPr>
            <a:xfrm>
              <a:off x="7059600" y="5654520"/>
              <a:ext cx="1230120" cy="645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Rectangle 15"/>
            <p:cNvSpPr/>
            <p:nvPr/>
          </p:nvSpPr>
          <p:spPr>
            <a:xfrm>
              <a:off x="7212240" y="5792760"/>
              <a:ext cx="106776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200" bIns="252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I-st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Line 19"/>
            <p:cNvSpPr/>
            <p:nvPr/>
          </p:nvSpPr>
          <p:spPr>
            <a:xfrm>
              <a:off x="7478640" y="4994280"/>
              <a:ext cx="0" cy="64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Line 20"/>
            <p:cNvSpPr/>
            <p:nvPr/>
          </p:nvSpPr>
          <p:spPr>
            <a:xfrm>
              <a:off x="7910280" y="4994280"/>
              <a:ext cx="0" cy="64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Rectangle 21"/>
            <p:cNvSpPr/>
            <p:nvPr/>
          </p:nvSpPr>
          <p:spPr>
            <a:xfrm>
              <a:off x="7063560" y="4981320"/>
              <a:ext cx="3013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200" bIns="252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24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Rectangle 22"/>
            <p:cNvSpPr/>
            <p:nvPr/>
          </p:nvSpPr>
          <p:spPr>
            <a:xfrm>
              <a:off x="7992360" y="4930920"/>
              <a:ext cx="2692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200" bIns="252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i="1" lang="en-US" sz="2400" spc="-1" strike="noStrike">
                  <a:solidFill>
                    <a:srgbClr val="56127a"/>
                  </a:solidFill>
                  <a:latin typeface="Verdana"/>
                  <a:ea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-Stru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226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522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331D-1FEA-4C12-9F6B-1985BC8650AB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8" name="Picture 4" descr=""/>
          <p:cNvPicPr/>
          <p:nvPr/>
        </p:nvPicPr>
        <p:blipFill>
          <a:blip r:embed="rId2"/>
          <a:stretch/>
        </p:blipFill>
        <p:spPr>
          <a:xfrm>
            <a:off x="343080" y="1155600"/>
            <a:ext cx="845820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ynamic Data Stru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3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-multiple-times data stru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you support them in a dataflow mach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n you implement a linked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ordering semantics for writes and read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erative vs. functional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ide effects and mutable stat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v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o side effects and no mutable st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1DF5-7B54-417C-B1F6-283BB7AB0CE7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MIT Tagged Token Data Flow Architectur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3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r Nod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sible for Function allocation (allocation of context/frame identifiers), Heap allocation, etc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56EC-C594-4413-AEC9-D7B63208BD67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5" name="Picture 4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14664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MIT Tagged Token Data Flow Architectur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37" name=""/>
          <p:cNvSpPr txBox="1"/>
          <p:nvPr/>
        </p:nvSpPr>
        <p:spPr>
          <a:xfrm>
            <a:off x="5943600" y="996480"/>
            <a:ext cx="3200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−Match Unit: try to match incoming token and context id and a waiting token with same instruction addre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ccess: Both tokens forward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il: Incoming token −−&gt; Waiting Token Mem, bubble (no-op forward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380E-9AF0-4513-AD3C-39E6B72CFCA2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9" name="Picture 4" descr=""/>
          <p:cNvPicPr/>
          <p:nvPr/>
        </p:nvPicPr>
        <p:blipFill>
          <a:blip r:embed="rId1"/>
          <a:stretch/>
        </p:blipFill>
        <p:spPr>
          <a:xfrm>
            <a:off x="-76320" y="1143000"/>
            <a:ext cx="6019920" cy="50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TDA Data Flow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241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524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3250-A7AD-4E18-9B9E-3E6AF72895E6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3" name="Picture 4" descr=""/>
          <p:cNvPicPr/>
          <p:nvPr/>
        </p:nvPicPr>
        <p:blipFill>
          <a:blip r:embed="rId2"/>
          <a:stretch/>
        </p:blipFill>
        <p:spPr>
          <a:xfrm>
            <a:off x="0" y="914400"/>
            <a:ext cx="5232240" cy="4572000"/>
          </a:xfrm>
          <a:prstGeom prst="rect">
            <a:avLst/>
          </a:prstGeom>
          <a:ln w="0">
            <a:noFill/>
          </a:ln>
        </p:spPr>
      </p:pic>
      <p:pic>
        <p:nvPicPr>
          <p:cNvPr id="5244" name="Picture 5" descr=""/>
          <p:cNvPicPr/>
          <p:nvPr/>
        </p:nvPicPr>
        <p:blipFill>
          <a:blip r:embed="rId3"/>
          <a:stretch/>
        </p:blipFill>
        <p:spPr>
          <a:xfrm>
            <a:off x="4876920" y="2286000"/>
            <a:ext cx="4267080" cy="18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TDA Data Flow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246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524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8556-3F55-41E7-940E-CEAED8203BAC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8" name="Picture 4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593100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TDA Data Flow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250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525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A567-64B8-46F9-8667-EE27C6BB48E1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2" name="Picture 4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3791160" cy="4878360"/>
          </a:xfrm>
          <a:prstGeom prst="rect">
            <a:avLst/>
          </a:prstGeom>
          <a:ln w="0">
            <a:noFill/>
          </a:ln>
        </p:spPr>
      </p:pic>
      <p:pic>
        <p:nvPicPr>
          <p:cNvPr id="5253" name="Picture 5" descr=""/>
          <p:cNvPicPr/>
          <p:nvPr/>
        </p:nvPicPr>
        <p:blipFill>
          <a:blip r:embed="rId3"/>
          <a:stretch/>
        </p:blipFill>
        <p:spPr>
          <a:xfrm>
            <a:off x="4343400" y="914400"/>
            <a:ext cx="4800600" cy="54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TDA Synchroniz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5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p memory locations have FULL/EMPTY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heap location is EMPTY,  heap memory module queues request at that location When "I−Fetch" request arrives (instead of "Fetch"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r, when "I−Store" arrives, pending requests are dischar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busy wa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tra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C1BA-40DC-45C2-9E59-0D7F725DACDD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7" name="Picture 4" descr=""/>
          <p:cNvPicPr/>
          <p:nvPr/>
        </p:nvPicPr>
        <p:blipFill>
          <a:blip r:embed="rId1"/>
          <a:stretch/>
        </p:blipFill>
        <p:spPr>
          <a:xfrm>
            <a:off x="4038480" y="3200400"/>
            <a:ext cx="4496040" cy="29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Other Related Recommended Reading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86" name=""/>
          <p:cNvSpPr txBox="1"/>
          <p:nvPr/>
        </p:nvSpPr>
        <p:spPr>
          <a:xfrm>
            <a:off x="228600" y="901800"/>
            <a:ext cx="87631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95160" indent="-3427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rd et al., 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The Manchester prototype dataflow compu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CACM 198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695160" indent="-3427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ee and Hurson, 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Dataflow Architectures and Multithrea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,” IEEE Computer 199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ricted Data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ankaralingam et al., 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Exploiting ILP, TLP and DLP with the Polymorphous TRIPS Architectu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ISCA 200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urger et al., 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Scaling to the End of Silicon with EDGE Architectur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IEEE Computer 2004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D2EA-4B29-4528-A9BA-445BC00D7974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anchester Data Flow Mach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259" name="Picture 2" descr=""/>
          <p:cNvPicPr/>
          <p:nvPr/>
        </p:nvPicPr>
        <p:blipFill>
          <a:blip r:embed="rId1"/>
          <a:srcRect l="0" t="-2040" r="0" b="-2040"/>
          <a:stretch/>
        </p:blipFill>
        <p:spPr>
          <a:xfrm>
            <a:off x="228600" y="1371600"/>
            <a:ext cx="4229280" cy="4876920"/>
          </a:xfrm>
          <a:prstGeom prst="rect">
            <a:avLst/>
          </a:prstGeom>
          <a:ln w="0">
            <a:noFill/>
          </a:ln>
        </p:spPr>
      </p:pic>
      <p:sp>
        <p:nvSpPr>
          <p:cNvPr id="5260" name=""/>
          <p:cNvSpPr txBox="1"/>
          <p:nvPr/>
        </p:nvSpPr>
        <p:spPr>
          <a:xfrm>
            <a:off x="460980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ching Store: Pairs together tokens destined for the same instr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data se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verflow in overflow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ired tokens fetch the appropriate instruction from the node st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74F9-97E7-4211-A83C-71EC5C169BEF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low Summa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6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ility of data determines order of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ta flow node fires when its sources ar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represented as data flow graphs (of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at the ISA level has not been (as) success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mplementations under the hood (while preserving sequential ISA semantics) have been success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 of order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wu and Patt, 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HPSm, a high performance restricted data flow architecture having minimal functiona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ISCA 1986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FC8F-29FA-4632-AB75-A1A1273FD1C5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low Characteristic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6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-driven execution of instruction-level graphical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des are operat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s are data (I/O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opposed to control-driven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real dependencies constrain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equential I-stre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program coun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s execute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 triggered by the presenc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ssignment languages and functional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.g., SISAL in Manchester Data Flow Compu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o mutable st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BAD5-5865-48E0-AF92-6218F5083274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low Advantages/Disadvantag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69" name=""/>
          <p:cNvSpPr txBox="1"/>
          <p:nvPr/>
        </p:nvSpPr>
        <p:spPr>
          <a:xfrm>
            <a:off x="228600" y="837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good at exploiting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rregular parallelis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real dependencies constrain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bugging difficult (no precise sta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1440" indent="-340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/exception handling is difficult (what is precise state semantics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ing dynamic data structures difficult in pure data flow mode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o much parallelism? (Parallelism control need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bookkeeping overhead (tag matching, data storag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ruction cycle is inefficient (delay between dependent instructions), memory locality is not exploi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A648-4993-4005-A824-8E0F6E8F5534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mbining Data Flow and Control Flow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get the best of both world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pos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el 1: Keep control flow at the ISA level, do dataflow underneath, preserving sequential seman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el 2: Keep dataflow model, but incorporate control flow at the ISA level to improve efficiency, exploit locality, and ease resource manag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orporate threads into dataflow: statically ordered instructions; when the first instruction is fired, the remaining instructions execute without interru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17A6-449E-4C1D-BEB6-DB5BF7272286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oda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8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Dataflo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CF29-E91E-4071-89FE-81C7F13EB89F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1" name="PlaceHolder 1"/>
          <p:cNvSpPr>
            <a:spLocks noGrp="1"/>
          </p:cNvSpPr>
          <p:nvPr>
            <p:ph type="title"/>
          </p:nvPr>
        </p:nvSpPr>
        <p:spPr>
          <a:xfrm>
            <a:off x="366480" y="1828800"/>
            <a:ext cx="842796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low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2" name="PlaceHolder 2"/>
          <p:cNvSpPr>
            <a:spLocks noGrp="1"/>
          </p:cNvSpPr>
          <p:nvPr>
            <p:ph type="subTitle"/>
          </p:nvPr>
        </p:nvSpPr>
        <p:spPr>
          <a:xfrm>
            <a:off x="304560" y="3580920"/>
            <a:ext cx="845820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s: Data Flow (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4" name=""/>
          <p:cNvSpPr txBox="1"/>
          <p:nvPr/>
        </p:nvSpPr>
        <p:spPr>
          <a:xfrm>
            <a:off x="228600" y="91404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nis and Misunas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 Preliminary Architecture for a Basic Data Flow Process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ISCA 197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leaven et al.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ata-Driven and Demand-Driven Computer Archite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ACM Computing Surveys 198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en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ataflow Machine Archite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ACM Computing Surveys 198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rd et al.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Manchester prototype dataflow compu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CACM 198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vind and Nikhil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Executing a Program on the MIT Tagged-Token Dataflow Archite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IEEE TC 199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t et al.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PS, a new microarchitecture: rationale and introdu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MICRO 198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e and Hurson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ataflow Architectures and Multithrea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IEEE Computer 199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480" indent="-295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480" indent="-295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3728-218A-4A36-9210-15B90C834BE7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s: Data Flow (I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nkaralingam et al.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Exploiting ILP, TLP and DLP with the Polymorphous TRIPS Archite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ISCA 200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ger et al.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caling to the End of Silicon with EDGE Architectur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IEEE Computer 2004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0179-962E-4EAD-9398-F13BA9047EE2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low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0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odels we have examined in 447/740 all assu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ructions are fetched and retired in sequential, control flow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part of the Von-Neumann model of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gle program coun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tial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Control flow determines fetch, execution, commi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bout out-of-order exec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ure level: Obeys the control-flow mod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arch level: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 window of instructions executed in data-flow order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ecute an instruction when its operands become avail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1C60-41B2-4D07-879C-311F522BA11E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5:22:34Z</dcterms:created>
  <dc:creator>Onur Mutlu</dc:creator>
  <dc:description/>
  <dc:language>en-US</dc:language>
  <cp:lastModifiedBy>Onur Mutlu</cp:lastModifiedBy>
  <cp:lastPrinted>2010-01-20T20:33:06Z</cp:lastPrinted>
  <dcterms:modified xsi:type="dcterms:W3CDTF">2013-10-31T18:15:52Z</dcterms:modified>
  <cp:revision>326</cp:revision>
  <dc:subject/>
  <dc:title>18-741  Advanced Computer Architecture Lecture 1: Intro and Basics</dc:title>
</cp:coreProperties>
</file>